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6.png" ContentType="image/png"/>
  <Override PartName="/ppt/media/image27.jpeg" ContentType="image/jpeg"/>
  <Override PartName="/ppt/media/image8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22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548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6CE83-3A32-4ACD-B45C-41E64C198A7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4B667-93E9-4715-8CD3-1BA14CB037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6720" y="4419720"/>
            <a:ext cx="5146560" cy="418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tal Number of Slides – 19, Actual Content Slides – 12 …. Plus append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member: when pasting images, to get around the default practice whereby PPT will paste images as bitmaps …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ste to PPT do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ut to clipboa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ste-special as JPE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will reduce your overall file siz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9960" y="4419360"/>
            <a:ext cx="6220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69D75-6194-42ED-82B7-CDB7212F1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data volume: We use SQL and existing database functionality for the most part which is prove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heterogeneity - because of oracle database + BD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Breadth of analytics - covers what we have in the database already + R packag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 User community supported - R developers, SQL developers, BI report developers, DBAs for productionizing R cod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D2F0C-DAC3-416A-8C17-6321069BE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D4A8F-5A5C-4B37-9BC2-81042B80E2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78F4A-CFA4-4385-A575-15744ADADE9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A4754-04C5-449F-AD32-CA1A53A3FE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158B4-564A-4B27-B483-BD021162B0D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65384-E5CE-4E7B-8F96-9046C326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2D1EA-2BB1-4E89-99FD-5E60BF2773F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5560" y="703440"/>
            <a:ext cx="4636800" cy="34779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8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56594-BBC1-4209-B335-2F549968701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9960" y="4419360"/>
            <a:ext cx="6220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F5E44-0001-46A3-A152-CB45556D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ACBD1-4EC7-43FF-9A9A-40186230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C8AD-7D06-4C78-87A0-F0618356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71D9-6EAC-4E9F-8638-AEB0D7698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DB1D-9FA4-41B9-8B32-393E00408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3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3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49B5-1195-4AB2-B9C5-0A9EFDCF3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5880" y="336600"/>
            <a:ext cx="758196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A282-29A0-4454-AFD7-E17E596B5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3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0240" y="159984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76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3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0240" y="3868560"/>
            <a:ext cx="2425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E783-2049-43BA-8C2E-B015AE685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29D1-C143-4CF9-9B00-B1B157FA5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DD16-9068-4B62-AEB5-20985B9DD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5880" y="336600"/>
            <a:ext cx="758196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8B72-24C1-441A-BE43-17221B8DE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CDB4-A93E-485D-A295-0D31D9BC1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6160" y="386856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2010-0C31-40C1-9766-D9D556EB6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6160" y="1599840"/>
            <a:ext cx="3675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868560"/>
            <a:ext cx="7532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8AFE-5AC4-4010-A704-765D70F29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Red Bar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Small Red Square"/>
          <p:cNvPicPr/>
          <p:nvPr/>
        </p:nvPicPr>
        <p:blipFill>
          <a:blip r:embed="rId3"/>
          <a:stretch/>
        </p:blipFill>
        <p:spPr>
          <a:xfrm>
            <a:off x="0" y="0"/>
            <a:ext cx="6890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716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0" descr="Oracle WHITE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© 2008, Oracle and/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29240" y="6511680"/>
            <a:ext cx="4064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748-D1C4-417B-9C15-20BDB15EABA3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3" descr="Oracle"/>
          <p:cNvPicPr/>
          <p:nvPr/>
        </p:nvPicPr>
        <p:blipFill>
          <a:blip r:embed="rId2"/>
          <a:stretch/>
        </p:blipFill>
        <p:spPr>
          <a:xfrm>
            <a:off x="914400" y="4343400"/>
            <a:ext cx="2925720" cy="365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1"/>
          <p:cNvSpPr/>
          <p:nvPr/>
        </p:nvSpPr>
        <p:spPr>
          <a:xfrm>
            <a:off x="914400" y="914400"/>
            <a:ext cx="2819520" cy="281952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sert Picture Her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4" descr="Tall Red"/>
          <p:cNvPicPr/>
          <p:nvPr/>
        </p:nvPicPr>
        <p:blipFill>
          <a:blip r:embed="rId3"/>
          <a:stretch/>
        </p:blipFill>
        <p:spPr>
          <a:xfrm>
            <a:off x="0" y="914400"/>
            <a:ext cx="914400" cy="282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5" descr="Wide Red"/>
          <p:cNvPicPr/>
          <p:nvPr/>
        </p:nvPicPr>
        <p:blipFill>
          <a:blip r:embed="rId4"/>
          <a:stretch/>
        </p:blipFill>
        <p:spPr>
          <a:xfrm>
            <a:off x="3736800" y="906480"/>
            <a:ext cx="5407200" cy="28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39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7160">
              <a:spcBef>
                <a:spcPts val="601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6560" y="4989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Mining with R/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ming Du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319" b="0"/>
          <a:stretch/>
        </p:blipFill>
        <p:spPr>
          <a:xfrm>
            <a:off x="912960" y="914400"/>
            <a:ext cx="2823840" cy="282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8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cle R Enterpr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2"/>
          <p:cNvGrpSpPr/>
          <p:nvPr/>
        </p:nvGrpSpPr>
        <p:grpSpPr>
          <a:xfrm>
            <a:off x="3452760" y="2911320"/>
            <a:ext cx="2720880" cy="2684880"/>
            <a:chOff x="3452760" y="2911320"/>
            <a:chExt cx="2720880" cy="2684880"/>
          </a:xfrm>
        </p:grpSpPr>
        <p:pic>
          <p:nvPicPr>
            <p:cNvPr id="192" name="Picture 3" descr=""/>
            <p:cNvPicPr/>
            <p:nvPr/>
          </p:nvPicPr>
          <p:blipFill>
            <a:blip r:embed="rId1"/>
            <a:stretch/>
          </p:blipFill>
          <p:spPr>
            <a:xfrm>
              <a:off x="3452760" y="3558960"/>
              <a:ext cx="24152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59"/>
            <p:cNvSpPr/>
            <p:nvPr/>
          </p:nvSpPr>
          <p:spPr>
            <a:xfrm>
              <a:off x="3591000" y="5009760"/>
              <a:ext cx="25826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ransparently leverage Hadoop for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High Performance Analytics to 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Oracle Big Data Appliance </a:t>
              </a:r>
              <a:br>
                <a:rPr sz="900"/>
              </a:b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900" spc="-1" strike="noStrike">
                  <a:solidFill>
                    <a:srgbClr val="ff0000"/>
                  </a:solidFill>
                  <a:latin typeface="Arial"/>
                </a:rPr>
                <a:t>part of Big Data Connectors software suite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Up Arrow 57"/>
            <p:cNvGrpSpPr/>
            <p:nvPr/>
          </p:nvGrpSpPr>
          <p:grpSpPr>
            <a:xfrm>
              <a:off x="4364640" y="4309920"/>
              <a:ext cx="719280" cy="695160"/>
              <a:chOff x="4364640" y="4309920"/>
              <a:chExt cx="719280" cy="695160"/>
            </a:xfrm>
          </p:grpSpPr>
          <p:pic>
            <p:nvPicPr>
              <p:cNvPr id="195" name="Up Arrow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64640" y="4309920"/>
                <a:ext cx="71928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574520" y="4494600"/>
                <a:ext cx="30276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61"/>
            <p:cNvGrpSpPr/>
            <p:nvPr/>
          </p:nvGrpSpPr>
          <p:grpSpPr>
            <a:xfrm>
              <a:off x="4561560" y="2911320"/>
              <a:ext cx="228960" cy="533880"/>
              <a:chOff x="4561560" y="2911320"/>
              <a:chExt cx="228960" cy="533880"/>
            </a:xfrm>
          </p:grpSpPr>
          <p:cxnSp>
            <p:nvCxnSpPr>
              <p:cNvPr id="198" name="Straight Arrow Connector 58"/>
              <p:cNvCxnSpPr/>
              <p:nvPr/>
            </p:nvCxnSpPr>
            <p:spPr>
              <a:xfrm flipH="1">
                <a:off x="4781880" y="2911320"/>
                <a:ext cx="9000" cy="534240"/>
              </a:xfrm>
              <a:prstGeom prst="straightConnector1">
                <a:avLst/>
              </a:prstGeom>
              <a:ln w="19080">
                <a:solidFill>
                  <a:srgbClr val="fd0000"/>
                </a:solidFill>
                <a:miter/>
                <a:tailEnd len="med" type="arrow" w="med"/>
              </a:ln>
            </p:spPr>
          </p:cxnSp>
          <p:cxnSp>
            <p:nvCxnSpPr>
              <p:cNvPr id="199" name="Straight Arrow Connector 60"/>
              <p:cNvCxnSpPr/>
              <p:nvPr/>
            </p:nvCxnSpPr>
            <p:spPr>
              <a:xfrm flipH="1">
                <a:off x="4561560" y="2911320"/>
                <a:ext cx="9000" cy="534240"/>
              </a:xfrm>
              <a:prstGeom prst="straightConnector1">
                <a:avLst/>
              </a:prstGeom>
              <a:ln w="19080">
                <a:solidFill>
                  <a:srgbClr val="fd0000"/>
                </a:solidFill>
                <a:miter/>
                <a:headEnd len="sm" type="arrow" w="sm"/>
              </a:ln>
            </p:spPr>
          </p:cxnSp>
        </p:grpSp>
      </p:grpSp>
      <p:pic>
        <p:nvPicPr>
          <p:cNvPr id="200" name="Picture 17" descr="Oracle Secure Enterprise Search"/>
          <p:cNvPicPr/>
          <p:nvPr/>
        </p:nvPicPr>
        <p:blipFill>
          <a:blip r:embed="rId3"/>
          <a:stretch/>
        </p:blipFill>
        <p:spPr>
          <a:xfrm>
            <a:off x="3781440" y="923760"/>
            <a:ext cx="1673280" cy="36216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54"/>
          <p:cNvCxnSpPr/>
          <p:nvPr/>
        </p:nvCxnSpPr>
        <p:spPr>
          <a:xfrm>
            <a:off x="3555720" y="1914120"/>
            <a:ext cx="229320" cy="1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202" name="Straight Arrow Connector 55"/>
          <p:cNvCxnSpPr/>
          <p:nvPr/>
        </p:nvCxnSpPr>
        <p:spPr>
          <a:xfrm>
            <a:off x="3555720" y="2142720"/>
            <a:ext cx="229320" cy="252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cxnSp>
        <p:nvCxnSpPr>
          <p:cNvPr id="203" name="Straight Arrow Connector 56"/>
          <p:cNvCxnSpPr/>
          <p:nvPr/>
        </p:nvCxnSpPr>
        <p:spPr>
          <a:xfrm>
            <a:off x="5384880" y="225252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04" name="Rectangle 63"/>
          <p:cNvSpPr/>
          <p:nvPr/>
        </p:nvSpPr>
        <p:spPr>
          <a:xfrm>
            <a:off x="3403440" y="1762200"/>
            <a:ext cx="152640" cy="6094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4"/>
          <p:cNvSpPr/>
          <p:nvPr/>
        </p:nvSpPr>
        <p:spPr>
          <a:xfrm>
            <a:off x="1366920" y="286380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unction push-down –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ata transformation &amp; statistic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5"/>
          <p:cNvSpPr/>
          <p:nvPr/>
        </p:nvSpPr>
        <p:spPr>
          <a:xfrm>
            <a:off x="774720" y="1019160"/>
            <a:ext cx="24764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 workspace consol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AutoShape 14"/>
          <p:cNvGrpSpPr/>
          <p:nvPr/>
        </p:nvGrpSpPr>
        <p:grpSpPr>
          <a:xfrm>
            <a:off x="3724200" y="1274760"/>
            <a:ext cx="1865520" cy="1481040"/>
            <a:chOff x="3724200" y="1274760"/>
            <a:chExt cx="1865520" cy="1481040"/>
          </a:xfrm>
        </p:grpSpPr>
        <p:pic>
          <p:nvPicPr>
            <p:cNvPr id="208" name="AutoShape 14" descr=""/>
            <p:cNvPicPr/>
            <p:nvPr/>
          </p:nvPicPr>
          <p:blipFill>
            <a:blip r:embed="rId4"/>
            <a:stretch/>
          </p:blipFill>
          <p:spPr>
            <a:xfrm>
              <a:off x="3724200" y="1274760"/>
              <a:ext cx="1865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784680" y="1650960"/>
              <a:ext cx="1752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7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0" name="Straight Arrow Connector 67"/>
          <p:cNvCxnSpPr/>
          <p:nvPr/>
        </p:nvCxnSpPr>
        <p:spPr>
          <a:xfrm>
            <a:off x="2869920" y="19144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211" name="Straight Arrow Connector 68"/>
          <p:cNvCxnSpPr/>
          <p:nvPr/>
        </p:nvCxnSpPr>
        <p:spPr>
          <a:xfrm>
            <a:off x="2869920" y="21430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grpSp>
        <p:nvGrpSpPr>
          <p:cNvPr id="212" name="Group 4"/>
          <p:cNvGrpSpPr/>
          <p:nvPr/>
        </p:nvGrpSpPr>
        <p:grpSpPr>
          <a:xfrm>
            <a:off x="3857760" y="2038320"/>
            <a:ext cx="1051920" cy="258480"/>
            <a:chOff x="3857760" y="2038320"/>
            <a:chExt cx="1051920" cy="258480"/>
          </a:xfrm>
        </p:grpSpPr>
        <p:grpSp>
          <p:nvGrpSpPr>
            <p:cNvPr id="213" name="Group 5"/>
            <p:cNvGrpSpPr/>
            <p:nvPr/>
          </p:nvGrpSpPr>
          <p:grpSpPr>
            <a:xfrm>
              <a:off x="3857760" y="2039760"/>
              <a:ext cx="784080" cy="257040"/>
              <a:chOff x="3857760" y="2039760"/>
              <a:chExt cx="784080" cy="257040"/>
            </a:xfrm>
          </p:grpSpPr>
          <p:sp>
            <p:nvSpPr>
              <p:cNvPr id="214" name="Rectangle 6"/>
              <p:cNvSpPr/>
              <p:nvPr/>
            </p:nvSpPr>
            <p:spPr>
              <a:xfrm>
                <a:off x="4021920" y="2224440"/>
                <a:ext cx="6192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7"/>
              <p:cNvSpPr/>
              <p:nvPr/>
            </p:nvSpPr>
            <p:spPr>
              <a:xfrm>
                <a:off x="408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8"/>
              <p:cNvSpPr/>
              <p:nvPr/>
            </p:nvSpPr>
            <p:spPr>
              <a:xfrm>
                <a:off x="4156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9"/>
              <p:cNvSpPr/>
              <p:nvPr/>
            </p:nvSpPr>
            <p:spPr>
              <a:xfrm>
                <a:off x="4219200" y="2058120"/>
                <a:ext cx="77760" cy="2185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"/>
              <p:cNvSpPr/>
              <p:nvPr/>
            </p:nvSpPr>
            <p:spPr>
              <a:xfrm>
                <a:off x="4291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1"/>
              <p:cNvSpPr/>
              <p:nvPr/>
            </p:nvSpPr>
            <p:spPr>
              <a:xfrm>
                <a:off x="435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2"/>
              <p:cNvSpPr/>
              <p:nvPr/>
            </p:nvSpPr>
            <p:spPr>
              <a:xfrm>
                <a:off x="4426920" y="2224440"/>
                <a:ext cx="6228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3857760" y="2039760"/>
                <a:ext cx="784080" cy="25704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4"/>
            <p:cNvGrpSpPr/>
            <p:nvPr/>
          </p:nvGrpSpPr>
          <p:grpSpPr>
            <a:xfrm>
              <a:off x="4131720" y="2038320"/>
              <a:ext cx="777960" cy="255960"/>
              <a:chOff x="4131720" y="2038320"/>
              <a:chExt cx="777960" cy="255960"/>
            </a:xfrm>
          </p:grpSpPr>
          <p:sp>
            <p:nvSpPr>
              <p:cNvPr id="223" name="Rectangle 15"/>
              <p:cNvSpPr/>
              <p:nvPr/>
            </p:nvSpPr>
            <p:spPr>
              <a:xfrm>
                <a:off x="429480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6"/>
              <p:cNvSpPr/>
              <p:nvPr/>
            </p:nvSpPr>
            <p:spPr>
              <a:xfrm>
                <a:off x="43560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7"/>
              <p:cNvSpPr/>
              <p:nvPr/>
            </p:nvSpPr>
            <p:spPr>
              <a:xfrm>
                <a:off x="442872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8"/>
              <p:cNvSpPr/>
              <p:nvPr/>
            </p:nvSpPr>
            <p:spPr>
              <a:xfrm>
                <a:off x="4489920" y="2057040"/>
                <a:ext cx="77760" cy="21744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9"/>
              <p:cNvSpPr/>
              <p:nvPr/>
            </p:nvSpPr>
            <p:spPr>
              <a:xfrm>
                <a:off x="456300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20"/>
              <p:cNvSpPr/>
              <p:nvPr/>
            </p:nvSpPr>
            <p:spPr>
              <a:xfrm>
                <a:off x="46242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21"/>
              <p:cNvSpPr/>
              <p:nvPr/>
            </p:nvSpPr>
            <p:spPr>
              <a:xfrm>
                <a:off x="469692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>
                <a:off x="4131720" y="2038320"/>
                <a:ext cx="777960" cy="25596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TextBox 88"/>
          <p:cNvSpPr/>
          <p:nvPr/>
        </p:nvSpPr>
        <p:spPr>
          <a:xfrm>
            <a:off x="3705120" y="1708200"/>
            <a:ext cx="1905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racle statistics engine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9"/>
          <p:cNvSpPr/>
          <p:nvPr/>
        </p:nvSpPr>
        <p:spPr>
          <a:xfrm>
            <a:off x="3857760" y="1565280"/>
            <a:ext cx="16761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90"/>
          <p:cNvGrpSpPr/>
          <p:nvPr/>
        </p:nvGrpSpPr>
        <p:grpSpPr>
          <a:xfrm>
            <a:off x="6222960" y="1138320"/>
            <a:ext cx="1538280" cy="1450800"/>
            <a:chOff x="6222960" y="1138320"/>
            <a:chExt cx="1538280" cy="1450800"/>
          </a:xfrm>
        </p:grpSpPr>
        <p:grpSp>
          <p:nvGrpSpPr>
            <p:cNvPr id="234" name="Group 3"/>
            <p:cNvGrpSpPr/>
            <p:nvPr/>
          </p:nvGrpSpPr>
          <p:grpSpPr>
            <a:xfrm>
              <a:off x="6222960" y="1138320"/>
              <a:ext cx="1503360" cy="1450800"/>
              <a:chOff x="6222960" y="1138320"/>
              <a:chExt cx="1503360" cy="1450800"/>
            </a:xfrm>
          </p:grpSpPr>
          <p:pic>
            <p:nvPicPr>
              <p:cNvPr id="235" name="Picture 2" descr=""/>
              <p:cNvPicPr/>
              <p:nvPr/>
            </p:nvPicPr>
            <p:blipFill>
              <a:blip r:embed="rId5"/>
              <a:srcRect l="0" t="0" r="0" b="9331"/>
              <a:stretch/>
            </p:blipFill>
            <p:spPr>
              <a:xfrm>
                <a:off x="6222960" y="1138320"/>
                <a:ext cx="1503360" cy="69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3" descr=""/>
              <p:cNvPicPr/>
              <p:nvPr/>
            </p:nvPicPr>
            <p:blipFill>
              <a:blip r:embed="rId6"/>
              <a:srcRect l="0" t="22446" r="0" b="0"/>
              <a:stretch/>
            </p:blipFill>
            <p:spPr>
              <a:xfrm>
                <a:off x="6222960" y="1833120"/>
                <a:ext cx="1503360" cy="75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TextBox 92"/>
            <p:cNvSpPr/>
            <p:nvPr/>
          </p:nvSpPr>
          <p:spPr>
            <a:xfrm>
              <a:off x="6991920" y="1907640"/>
              <a:ext cx="76932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3" descr=""/>
            <p:cNvPicPr/>
            <p:nvPr/>
          </p:nvPicPr>
          <p:blipFill>
            <a:blip r:embed="rId7"/>
            <a:stretch/>
          </p:blipFill>
          <p:spPr>
            <a:xfrm>
              <a:off x="6852240" y="1918800"/>
              <a:ext cx="823680" cy="5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"/>
            <p:cNvPicPr/>
            <p:nvPr/>
          </p:nvPicPr>
          <p:blipFill>
            <a:blip r:embed="rId8"/>
            <a:stretch/>
          </p:blipFill>
          <p:spPr>
            <a:xfrm>
              <a:off x="6240240" y="1973520"/>
              <a:ext cx="576720" cy="55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" name="Picture 2" descr="http://www.google.com/url?source=imgres&amp;ct=img&amp;q=http://www.datamartist.com/wp-content/uploads/2009/05/it-can-be-lonely-using-business-intelligence.jpg&amp;sa=X&amp;ei=0-ZnTaemMYKesQPuwN2oBA&amp;ved=0CAQQ8wc4ag&amp;usg=AFQjCNG3vkkkXF-vJfBrFcM_HcAwGrEx0Q"/>
          <p:cNvPicPr/>
          <p:nvPr/>
        </p:nvPicPr>
        <p:blipFill>
          <a:blip r:embed="rId9"/>
          <a:srcRect l="0" t="8922" r="44092" b="4833"/>
          <a:stretch/>
        </p:blipFill>
        <p:spPr>
          <a:xfrm>
            <a:off x="7518240" y="1468440"/>
            <a:ext cx="955800" cy="10666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98"/>
          <p:cNvCxnSpPr/>
          <p:nvPr/>
        </p:nvCxnSpPr>
        <p:spPr>
          <a:xfrm>
            <a:off x="5613120" y="190332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242" name="Straight Arrow Connector 99"/>
          <p:cNvCxnSpPr/>
          <p:nvPr/>
        </p:nvCxnSpPr>
        <p:spPr>
          <a:xfrm>
            <a:off x="5613120" y="2122560"/>
            <a:ext cx="533880" cy="10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sp>
        <p:nvSpPr>
          <p:cNvPr id="243" name="TextBox 100"/>
          <p:cNvSpPr/>
          <p:nvPr/>
        </p:nvSpPr>
        <p:spPr>
          <a:xfrm>
            <a:off x="6070680" y="2589120"/>
            <a:ext cx="1295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BIEE, Web Service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R logo"/>
          <p:cNvPicPr/>
          <p:nvPr/>
        </p:nvPicPr>
        <p:blipFill>
          <a:blip r:embed="rId10"/>
          <a:stretch/>
        </p:blipFill>
        <p:spPr>
          <a:xfrm>
            <a:off x="4924440" y="2033640"/>
            <a:ext cx="457200" cy="34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1"/>
          <a:stretch/>
        </p:blipFill>
        <p:spPr>
          <a:xfrm>
            <a:off x="584280" y="1284120"/>
            <a:ext cx="2192400" cy="1649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1"/>
          <p:cNvSpPr/>
          <p:nvPr/>
        </p:nvSpPr>
        <p:spPr>
          <a:xfrm>
            <a:off x="3447000" y="6477120"/>
            <a:ext cx="22496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00" rIns="34200" tIns="17280" bIns="1728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©2012 Oracle – All Rights Reserved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ounded Rectangle 4"/>
          <p:cNvSpPr/>
          <p:nvPr/>
        </p:nvSpPr>
        <p:spPr>
          <a:xfrm>
            <a:off x="628560" y="2324160"/>
            <a:ext cx="7645320" cy="1731240"/>
          </a:xfrm>
          <a:prstGeom prst="roundRect">
            <a:avLst>
              <a:gd name="adj" fmla="val 9273"/>
            </a:avLst>
          </a:prstGeom>
          <a:solidFill>
            <a:srgbClr val="cccccc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560" rIns="34560" tIns="17280" bIns="17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bstantial leap forward from incumbent platform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volume – using SQL and existing DB functionality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Heterogeneity – Oracle DB + BDA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adth of Analytics – Oracle DB + R packag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adth of User Types – R+SQL+BI report developers, DBA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638280" y="4538520"/>
            <a:ext cx="7673760" cy="5238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560" rIns="34560" tIns="17280" bIns="17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ables enterprise-wide consumption of advanced analytics models via integration with Oracle Exalytic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3"/>
          <p:cNvSpPr/>
          <p:nvPr/>
        </p:nvSpPr>
        <p:spPr>
          <a:xfrm>
            <a:off x="585720" y="1360440"/>
            <a:ext cx="7737480" cy="585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560" rIns="34560" tIns="17280" bIns="17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t integrated and complete suite of Enterprise Advanced Analytics software available in the market today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cle R Enterprise – Key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6922-021E-434C-A5F4-47CF3CF8C22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26B-60D4-46A7-94CA-CD12D4562FF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7272-8ECB-411B-9322-276FBA6C573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5CE-FA86-4E20-817E-A86016DB791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971800" y="10778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data lo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C:\Users\Public\Pictures\Sample Pictures\1 prepare data-1.jpg"/>
          <p:cNvPicPr/>
          <p:nvPr/>
        </p:nvPicPr>
        <p:blipFill>
          <a:blip r:embed="rId1"/>
          <a:stretch/>
        </p:blipFill>
        <p:spPr>
          <a:xfrm>
            <a:off x="457200" y="1128600"/>
            <a:ext cx="8229600" cy="491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Public\Pictures\Sample Pictures\2 process data-2.jpg"/>
          <p:cNvPicPr/>
          <p:nvPr/>
        </p:nvPicPr>
        <p:blipFill>
          <a:blip r:embed="rId1"/>
          <a:stretch/>
        </p:blipFill>
        <p:spPr>
          <a:xfrm>
            <a:off x="457200" y="1128600"/>
            <a:ext cx="7935840" cy="4975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Public\Pictures\Sample Pictures\3 model-3.jpg"/>
          <p:cNvPicPr/>
          <p:nvPr/>
        </p:nvPicPr>
        <p:blipFill>
          <a:blip r:embed="rId1"/>
          <a:stretch/>
        </p:blipFill>
        <p:spPr>
          <a:xfrm>
            <a:off x="457200" y="1141560"/>
            <a:ext cx="7935840" cy="4884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s SPSS-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Users\Public\Pictures\Sample Pictures\4 results-4.jpg"/>
          <p:cNvPicPr/>
          <p:nvPr/>
        </p:nvPicPr>
        <p:blipFill>
          <a:blip r:embed="rId1"/>
          <a:stretch/>
        </p:blipFill>
        <p:spPr>
          <a:xfrm>
            <a:off x="457200" y="1143000"/>
            <a:ext cx="7959600" cy="497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3AA-676C-4603-9903-83DF0CAE62AE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52280" y="0"/>
            <a:ext cx="8180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ch Solution Profi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971800" y="1066680"/>
            <a:ext cx="5029200" cy="457560"/>
          </a:xfrm>
          <a:prstGeom prst="rect">
            <a:avLst/>
          </a:prstGeom>
          <a:noFill/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/ORE Overview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438280" y="1143000"/>
            <a:ext cx="328680" cy="326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971800" y="17384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outp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using 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2438280" y="31860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971800" y="24242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with IBP and BIE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2438280" y="25002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2438280" y="18144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2438280" y="38718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971800" y="3110040"/>
            <a:ext cx="5029200" cy="47124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971800" y="37958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vs. SP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2438280" y="4557600"/>
            <a:ext cx="328680" cy="32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2971800" y="4481640"/>
            <a:ext cx="5029200" cy="457560"/>
          </a:xfrm>
          <a:prstGeom prst="rect">
            <a:avLst/>
          </a:prstGeom>
          <a:noFill/>
          <a:ln w="1260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Q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036960" y="3170160"/>
            <a:ext cx="49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R for Hadoop Connecto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isu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C:\Users\miduan\Pictures\5 result viz-group1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Visualization-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76240" y="1599840"/>
            <a:ext cx="7532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C:\Users\miduan\Pictures\6 result viz-cor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tly Asked Questions(F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version(s) of R do w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-2.13.2, however versions R &gt;= 2.12.0 will likely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CRAN stand f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R Archiv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 workflow GUI for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-R, see http://www.red-r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ther GUI front ends are there for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R interfaces for ROLAP/MOLA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a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 R connector for No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5895360" y="2413080"/>
            <a:ext cx="3172320" cy="3376440"/>
            <a:chOff x="5895360" y="2413080"/>
            <a:chExt cx="3172320" cy="3376440"/>
          </a:xfrm>
        </p:grpSpPr>
        <p:pic>
          <p:nvPicPr>
            <p:cNvPr id="332" name="Picture 2" descr=""/>
            <p:cNvPicPr/>
            <p:nvPr/>
          </p:nvPicPr>
          <p:blipFill>
            <a:blip r:embed="rId1"/>
            <a:stretch/>
          </p:blipFill>
          <p:spPr>
            <a:xfrm>
              <a:off x="5999760" y="2679480"/>
              <a:ext cx="3067920" cy="31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Rectangle 5"/>
            <p:cNvSpPr/>
            <p:nvPr/>
          </p:nvSpPr>
          <p:spPr>
            <a:xfrm>
              <a:off x="5895360" y="2413080"/>
              <a:ext cx="313992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http://www.kdnuggets.com/polls/2011/r-gui-used.html</a:t>
              </a:r>
              <a:endParaRPr b="1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Q-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20520" y="1128600"/>
            <a:ext cx="761364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use CRAN open source packages in ORE and get the same benefits, e.g., performance, scal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benefits, but not the same as from the ORE Transparency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can leverage data parallelism through embedded R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resources are available for learning R / ORE in Ora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retriever.us.orac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RE, is Oracle ANSI SQL enhanced to understand 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extensibility framework, SQL table functions exist that can execute R scripts. The SQL syntax itself has not been exten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Q-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20520" y="1128600"/>
            <a:ext cx="761364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ORE help Exalytics? Is there integration between the tw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IEE dashboards and BIP documents can execute R scripts to generate data and/or graph to be display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E scripts can generate table data for use in an RPD, and hence through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 you get the RStud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rstudi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Copyright © 2008, Oracle and/or its affiliates. All rights reserved. 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229600" y="6512040"/>
            <a:ext cx="406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122B-6359-4050-B989-0A7266639298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411120" y="1255680"/>
            <a:ext cx="839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4444"/>
                </a:solidFill>
                <a:latin typeface="Times New Roman"/>
                <a:ea typeface="宋体"/>
              </a:rPr>
              <a:t>	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14480" y="2819520"/>
            <a:ext cx="53150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99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宋体"/>
              </a:rPr>
              <a:t>Q </a:t>
            </a:r>
            <a:r>
              <a:rPr b="0" lang="en-AU" sz="7200" spc="-1" strike="noStrike">
                <a:solidFill>
                  <a:srgbClr val="fd0000"/>
                </a:solidFill>
                <a:latin typeface="Arial"/>
                <a:ea typeface="宋体"/>
              </a:rPr>
              <a:t>&amp;</a:t>
            </a: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宋体"/>
              </a:rPr>
              <a:t> A </a:t>
            </a:r>
            <a:br>
              <a:rPr sz="3200"/>
            </a:b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352680" y="2819160"/>
            <a:ext cx="210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nalysts use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21932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a statistics language similar to Base SAS or SPSS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environment i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stat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TB functionality with many ‘knobs’ but smart defa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installation and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 of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a client and server bundled together as 1 executable - like Exc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r t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lti-threa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leverage CPU capacity even on a user's laptop/desk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requires data it operates on to be first loaded into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ing data may not be a limitation given RAM available on laptops/deskt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ll by value semantics means as data flows into functions, for each function invocation, many copies of the data are m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99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 you quickly run into memory lim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should you be interested in 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0520" y="1128600"/>
            <a:ext cx="753732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ing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the next “big thing” in advanced analy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275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s and universities use R for statistics classes</a:t>
            </a:r>
            <a:br>
              <a:rPr sz="16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replacing more traditional software too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Analytics as a critical differentiator of the DWH technology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ment Oracle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results with powerful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R results and graphics with BI Publisher document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IEE dashbo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alable R via Oracle R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Oracle-engineered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spcBef>
                <a:spcPts val="400"/>
              </a:spcBef>
              <a:buClr>
                <a:srgbClr val="4d4d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able alternative to SAS/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xer Analytics Survey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2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R GU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48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5880" y="336600"/>
            <a:ext cx="7581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tudio – Third Party, Open Source 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85800" y="1092240"/>
            <a:ext cx="5213520" cy="49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828800" y="1092240"/>
            <a:ext cx="5410080" cy="493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4438800" cy="49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8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cle R Enterpr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Oracle Secure Enterprise Search"/>
          <p:cNvPicPr/>
          <p:nvPr/>
        </p:nvPicPr>
        <p:blipFill>
          <a:blip r:embed="rId1"/>
          <a:stretch/>
        </p:blipFill>
        <p:spPr>
          <a:xfrm>
            <a:off x="3781440" y="923760"/>
            <a:ext cx="1673280" cy="362160"/>
          </a:xfrm>
          <a:prstGeom prst="rect">
            <a:avLst/>
          </a:prstGeom>
          <a:ln w="0">
            <a:noFill/>
          </a:ln>
        </p:spPr>
      </p:pic>
      <p:cxnSp>
        <p:nvCxnSpPr>
          <p:cNvPr id="126" name="Straight Arrow Connector 6"/>
          <p:cNvCxnSpPr/>
          <p:nvPr/>
        </p:nvCxnSpPr>
        <p:spPr>
          <a:xfrm>
            <a:off x="3555720" y="1914120"/>
            <a:ext cx="229320" cy="1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127" name="Straight Arrow Connector 7"/>
          <p:cNvCxnSpPr/>
          <p:nvPr/>
        </p:nvCxnSpPr>
        <p:spPr>
          <a:xfrm>
            <a:off x="3555720" y="2142720"/>
            <a:ext cx="229320" cy="252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cxnSp>
        <p:nvCxnSpPr>
          <p:cNvPr id="128" name="Straight Arrow Connector 8"/>
          <p:cNvCxnSpPr/>
          <p:nvPr/>
        </p:nvCxnSpPr>
        <p:spPr>
          <a:xfrm>
            <a:off x="5384880" y="225252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29" name="Rectangle 10"/>
          <p:cNvSpPr/>
          <p:nvPr/>
        </p:nvSpPr>
        <p:spPr>
          <a:xfrm>
            <a:off x="3403440" y="1762200"/>
            <a:ext cx="152640" cy="6094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1366920" y="286380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unction push-down –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ata transformation &amp; statistic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774720" y="1019160"/>
            <a:ext cx="24764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 workspace consol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AutoShape 14"/>
          <p:cNvGrpSpPr/>
          <p:nvPr/>
        </p:nvGrpSpPr>
        <p:grpSpPr>
          <a:xfrm>
            <a:off x="3724200" y="1274760"/>
            <a:ext cx="1865520" cy="1481040"/>
            <a:chOff x="3724200" y="1274760"/>
            <a:chExt cx="1865520" cy="1481040"/>
          </a:xfrm>
        </p:grpSpPr>
        <p:pic>
          <p:nvPicPr>
            <p:cNvPr id="133" name="AutoShape 14" descr=""/>
            <p:cNvPicPr/>
            <p:nvPr/>
          </p:nvPicPr>
          <p:blipFill>
            <a:blip r:embed="rId2"/>
            <a:stretch/>
          </p:blipFill>
          <p:spPr>
            <a:xfrm>
              <a:off x="3724200" y="1274760"/>
              <a:ext cx="1865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784680" y="1650960"/>
              <a:ext cx="1752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7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Straight Arrow Connector 15"/>
          <p:cNvCxnSpPr/>
          <p:nvPr/>
        </p:nvCxnSpPr>
        <p:spPr>
          <a:xfrm>
            <a:off x="2869920" y="19144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136" name="Straight Arrow Connector 16"/>
          <p:cNvCxnSpPr/>
          <p:nvPr/>
        </p:nvCxnSpPr>
        <p:spPr>
          <a:xfrm>
            <a:off x="2869920" y="214308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grpSp>
        <p:nvGrpSpPr>
          <p:cNvPr id="137" name="Group 4"/>
          <p:cNvGrpSpPr/>
          <p:nvPr/>
        </p:nvGrpSpPr>
        <p:grpSpPr>
          <a:xfrm>
            <a:off x="3857760" y="2038320"/>
            <a:ext cx="1051920" cy="258480"/>
            <a:chOff x="3857760" y="2038320"/>
            <a:chExt cx="1051920" cy="258480"/>
          </a:xfrm>
        </p:grpSpPr>
        <p:grpSp>
          <p:nvGrpSpPr>
            <p:cNvPr id="138" name="Group 5"/>
            <p:cNvGrpSpPr/>
            <p:nvPr/>
          </p:nvGrpSpPr>
          <p:grpSpPr>
            <a:xfrm>
              <a:off x="3857760" y="2039760"/>
              <a:ext cx="784080" cy="257040"/>
              <a:chOff x="3857760" y="2039760"/>
              <a:chExt cx="784080" cy="25704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4021920" y="2224440"/>
                <a:ext cx="6192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408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4156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4219200" y="2058120"/>
                <a:ext cx="77760" cy="2185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4291920" y="2120760"/>
                <a:ext cx="68040" cy="1562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4354200" y="2198160"/>
                <a:ext cx="72720" cy="78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4426920" y="2224440"/>
                <a:ext cx="62280" cy="5256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3857760" y="2039760"/>
                <a:ext cx="784080" cy="25704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4"/>
            <p:cNvGrpSpPr/>
            <p:nvPr/>
          </p:nvGrpSpPr>
          <p:grpSpPr>
            <a:xfrm>
              <a:off x="4131720" y="2038320"/>
              <a:ext cx="777960" cy="255960"/>
              <a:chOff x="4131720" y="2038320"/>
              <a:chExt cx="777960" cy="25596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429480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43560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442872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8"/>
              <p:cNvSpPr/>
              <p:nvPr/>
            </p:nvSpPr>
            <p:spPr>
              <a:xfrm>
                <a:off x="4489920" y="2057040"/>
                <a:ext cx="77760" cy="21744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4563000" y="2119320"/>
                <a:ext cx="66960" cy="1551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0"/>
              <p:cNvSpPr/>
              <p:nvPr/>
            </p:nvSpPr>
            <p:spPr>
              <a:xfrm>
                <a:off x="4624200" y="2196360"/>
                <a:ext cx="72360" cy="7776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>
                <a:off x="4696920" y="2222280"/>
                <a:ext cx="61200" cy="52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2"/>
              <p:cNvSpPr/>
              <p:nvPr/>
            </p:nvSpPr>
            <p:spPr>
              <a:xfrm>
                <a:off x="4131720" y="2038320"/>
                <a:ext cx="777960" cy="25596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1364" h="469">
                    <a:moveTo>
                      <a:pt x="0" y="469"/>
                    </a:moveTo>
                    <a:cubicBezTo>
                      <a:pt x="130" y="439"/>
                      <a:pt x="260" y="410"/>
                      <a:pt x="353" y="362"/>
                    </a:cubicBezTo>
                    <a:cubicBezTo>
                      <a:pt x="446" y="314"/>
                      <a:pt x="513" y="234"/>
                      <a:pt x="559" y="181"/>
                    </a:cubicBezTo>
                    <a:cubicBezTo>
                      <a:pt x="605" y="128"/>
                      <a:pt x="609" y="71"/>
                      <a:pt x="632" y="41"/>
                    </a:cubicBezTo>
                    <a:cubicBezTo>
                      <a:pt x="655" y="11"/>
                      <a:pt x="676" y="0"/>
                      <a:pt x="698" y="0"/>
                    </a:cubicBezTo>
                    <a:cubicBezTo>
                      <a:pt x="720" y="0"/>
                      <a:pt x="742" y="11"/>
                      <a:pt x="764" y="41"/>
                    </a:cubicBezTo>
                    <a:cubicBezTo>
                      <a:pt x="786" y="71"/>
                      <a:pt x="784" y="128"/>
                      <a:pt x="830" y="181"/>
                    </a:cubicBezTo>
                    <a:cubicBezTo>
                      <a:pt x="876" y="234"/>
                      <a:pt x="954" y="317"/>
                      <a:pt x="1043" y="362"/>
                    </a:cubicBezTo>
                    <a:cubicBezTo>
                      <a:pt x="1132" y="407"/>
                      <a:pt x="1306" y="437"/>
                      <a:pt x="1364" y="45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Box 36"/>
          <p:cNvSpPr/>
          <p:nvPr/>
        </p:nvSpPr>
        <p:spPr>
          <a:xfrm>
            <a:off x="3705120" y="1708200"/>
            <a:ext cx="1905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racle statistics engine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3857760" y="1565280"/>
            <a:ext cx="16761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04760" indent="-104760" algn="ctr">
              <a:lnSpc>
                <a:spcPct val="90000"/>
              </a:lnSpc>
              <a:spcBef>
                <a:spcPts val="1125"/>
              </a:spcBef>
              <a:buClr>
                <a:srgbClr val="fd0000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8"/>
          <p:cNvGrpSpPr/>
          <p:nvPr/>
        </p:nvGrpSpPr>
        <p:grpSpPr>
          <a:xfrm>
            <a:off x="6222960" y="1138320"/>
            <a:ext cx="1538280" cy="1450800"/>
            <a:chOff x="6222960" y="1138320"/>
            <a:chExt cx="1538280" cy="1450800"/>
          </a:xfrm>
        </p:grpSpPr>
        <p:grpSp>
          <p:nvGrpSpPr>
            <p:cNvPr id="159" name="Group 3"/>
            <p:cNvGrpSpPr/>
            <p:nvPr/>
          </p:nvGrpSpPr>
          <p:grpSpPr>
            <a:xfrm>
              <a:off x="6222960" y="1138320"/>
              <a:ext cx="1503360" cy="1450800"/>
              <a:chOff x="6222960" y="1138320"/>
              <a:chExt cx="1503360" cy="1450800"/>
            </a:xfrm>
          </p:grpSpPr>
          <p:pic>
            <p:nvPicPr>
              <p:cNvPr id="160" name="Picture 2" descr=""/>
              <p:cNvPicPr/>
              <p:nvPr/>
            </p:nvPicPr>
            <p:blipFill>
              <a:blip r:embed="rId3"/>
              <a:srcRect l="0" t="0" r="0" b="9331"/>
              <a:stretch/>
            </p:blipFill>
            <p:spPr>
              <a:xfrm>
                <a:off x="6222960" y="1138320"/>
                <a:ext cx="1503360" cy="69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3" descr=""/>
              <p:cNvPicPr/>
              <p:nvPr/>
            </p:nvPicPr>
            <p:blipFill>
              <a:blip r:embed="rId4"/>
              <a:srcRect l="0" t="22446" r="0" b="0"/>
              <a:stretch/>
            </p:blipFill>
            <p:spPr>
              <a:xfrm>
                <a:off x="6222960" y="1833120"/>
                <a:ext cx="1503360" cy="75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TextBox 40"/>
            <p:cNvSpPr/>
            <p:nvPr/>
          </p:nvSpPr>
          <p:spPr>
            <a:xfrm>
              <a:off x="6991920" y="1907640"/>
              <a:ext cx="76932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89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3" descr=""/>
            <p:cNvPicPr/>
            <p:nvPr/>
          </p:nvPicPr>
          <p:blipFill>
            <a:blip r:embed="rId5"/>
            <a:stretch/>
          </p:blipFill>
          <p:spPr>
            <a:xfrm>
              <a:off x="6852240" y="1918800"/>
              <a:ext cx="823680" cy="5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" descr=""/>
            <p:cNvPicPr/>
            <p:nvPr/>
          </p:nvPicPr>
          <p:blipFill>
            <a:blip r:embed="rId6"/>
            <a:stretch/>
          </p:blipFill>
          <p:spPr>
            <a:xfrm>
              <a:off x="6240240" y="1973520"/>
              <a:ext cx="576720" cy="55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2" descr="http://www.google.com/url?source=imgres&amp;ct=img&amp;q=http://www.datamartist.com/wp-content/uploads/2009/05/it-can-be-lonely-using-business-intelligence.jpg&amp;sa=X&amp;ei=0-ZnTaemMYKesQPuwN2oBA&amp;ved=0CAQQ8wc4ag&amp;usg=AFQjCNG3vkkkXF-vJfBrFcM_HcAwGrEx0Q"/>
          <p:cNvPicPr/>
          <p:nvPr/>
        </p:nvPicPr>
        <p:blipFill>
          <a:blip r:embed="rId7"/>
          <a:srcRect l="0" t="8922" r="44092" b="4833"/>
          <a:stretch/>
        </p:blipFill>
        <p:spPr>
          <a:xfrm>
            <a:off x="7518240" y="1468440"/>
            <a:ext cx="955800" cy="106668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46"/>
          <p:cNvCxnSpPr/>
          <p:nvPr/>
        </p:nvCxnSpPr>
        <p:spPr>
          <a:xfrm>
            <a:off x="5613120" y="1903320"/>
            <a:ext cx="533880" cy="8640"/>
          </a:xfrm>
          <a:prstGeom prst="straightConnector1">
            <a:avLst/>
          </a:prstGeom>
          <a:ln w="19080">
            <a:solidFill>
              <a:srgbClr val="fd0000"/>
            </a:solidFill>
            <a:miter/>
            <a:tailEnd len="med" type="arrow" w="med"/>
          </a:ln>
        </p:spPr>
      </p:cxnSp>
      <p:cxnSp>
        <p:nvCxnSpPr>
          <p:cNvPr id="167" name="Straight Arrow Connector 47"/>
          <p:cNvCxnSpPr/>
          <p:nvPr/>
        </p:nvCxnSpPr>
        <p:spPr>
          <a:xfrm>
            <a:off x="5613120" y="2122560"/>
            <a:ext cx="533880" cy="10080"/>
          </a:xfrm>
          <a:prstGeom prst="straightConnector1">
            <a:avLst/>
          </a:prstGeom>
          <a:ln w="19080">
            <a:solidFill>
              <a:srgbClr val="fd0000"/>
            </a:solidFill>
            <a:miter/>
            <a:headEnd len="sm" type="arrow" w="sm"/>
          </a:ln>
        </p:spPr>
      </p:cxnSp>
      <p:sp>
        <p:nvSpPr>
          <p:cNvPr id="168" name="TextBox 48"/>
          <p:cNvSpPr/>
          <p:nvPr/>
        </p:nvSpPr>
        <p:spPr>
          <a:xfrm>
            <a:off x="6070680" y="2589120"/>
            <a:ext cx="1295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BIEE, Web Services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R logo"/>
          <p:cNvPicPr/>
          <p:nvPr/>
        </p:nvPicPr>
        <p:blipFill>
          <a:blip r:embed="rId8"/>
          <a:stretch/>
        </p:blipFill>
        <p:spPr>
          <a:xfrm>
            <a:off x="4924440" y="2033640"/>
            <a:ext cx="457200" cy="34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9"/>
          <a:stretch/>
        </p:blipFill>
        <p:spPr>
          <a:xfrm>
            <a:off x="584280" y="1284120"/>
            <a:ext cx="2192400" cy="16495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7"/>
          <p:cNvGrpSpPr/>
          <p:nvPr/>
        </p:nvGrpSpPr>
        <p:grpSpPr>
          <a:xfrm>
            <a:off x="1162800" y="3560760"/>
            <a:ext cx="6601680" cy="1560600"/>
            <a:chOff x="1162800" y="3560760"/>
            <a:chExt cx="6601680" cy="1560600"/>
          </a:xfrm>
        </p:grpSpPr>
        <p:grpSp>
          <p:nvGrpSpPr>
            <p:cNvPr id="172" name="Up Arrow 59"/>
            <p:cNvGrpSpPr/>
            <p:nvPr/>
          </p:nvGrpSpPr>
          <p:grpSpPr>
            <a:xfrm>
              <a:off x="1658520" y="3560760"/>
              <a:ext cx="725400" cy="875160"/>
              <a:chOff x="1658520" y="3560760"/>
              <a:chExt cx="725400" cy="875160"/>
            </a:xfrm>
          </p:grpSpPr>
          <p:pic>
            <p:nvPicPr>
              <p:cNvPr id="173" name="Up Arrow 5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58520" y="3560760"/>
                <a:ext cx="7254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873800" y="3745080"/>
                <a:ext cx="3027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60"/>
            <p:cNvSpPr/>
            <p:nvPr/>
          </p:nvSpPr>
          <p:spPr>
            <a:xfrm>
              <a:off x="1162800" y="4370760"/>
              <a:ext cx="17028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No changes to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the user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experience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Up Arrow 61"/>
            <p:cNvGrpSpPr/>
            <p:nvPr/>
          </p:nvGrpSpPr>
          <p:grpSpPr>
            <a:xfrm>
              <a:off x="4328640" y="3560760"/>
              <a:ext cx="725400" cy="875160"/>
              <a:chOff x="4328640" y="3560760"/>
              <a:chExt cx="725400" cy="875160"/>
            </a:xfrm>
          </p:grpSpPr>
          <p:pic>
            <p:nvPicPr>
              <p:cNvPr id="177" name="Up Arrow 61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28640" y="3560760"/>
                <a:ext cx="7254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543560" y="3745080"/>
                <a:ext cx="3027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62"/>
            <p:cNvSpPr/>
            <p:nvPr/>
          </p:nvSpPr>
          <p:spPr>
            <a:xfrm>
              <a:off x="3898800" y="4370760"/>
              <a:ext cx="15703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Scale to large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data sets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Up Arrow 63"/>
            <p:cNvGrpSpPr/>
            <p:nvPr/>
          </p:nvGrpSpPr>
          <p:grpSpPr>
            <a:xfrm>
              <a:off x="6773400" y="3560760"/>
              <a:ext cx="725400" cy="875160"/>
              <a:chOff x="6773400" y="3560760"/>
              <a:chExt cx="725400" cy="875160"/>
            </a:xfrm>
          </p:grpSpPr>
          <p:pic>
            <p:nvPicPr>
              <p:cNvPr id="181" name="Up Arrow 63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73400" y="3560760"/>
                <a:ext cx="7254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988320" y="3745080"/>
                <a:ext cx="302760" cy="6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buClr>
                    <a:srgbClr val="fd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Box 64"/>
            <p:cNvSpPr/>
            <p:nvPr/>
          </p:nvSpPr>
          <p:spPr>
            <a:xfrm>
              <a:off x="6492600" y="4370760"/>
              <a:ext cx="12718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buClr>
                  <a:srgbClr val="fd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Embed in 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operational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systems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entagon 55"/>
          <p:cNvSpPr/>
          <p:nvPr/>
        </p:nvSpPr>
        <p:spPr>
          <a:xfrm>
            <a:off x="990720" y="5448240"/>
            <a:ext cx="2286000" cy="37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2" y="0"/>
                </a:lnTo>
                <a:lnTo>
                  <a:pt x="21600" y="10800"/>
                </a:lnTo>
                <a:lnTo>
                  <a:pt x="198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entagon 56"/>
          <p:cNvSpPr/>
          <p:nvPr/>
        </p:nvSpPr>
        <p:spPr>
          <a:xfrm>
            <a:off x="3505320" y="5448240"/>
            <a:ext cx="2286000" cy="37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2" y="0"/>
                </a:lnTo>
                <a:lnTo>
                  <a:pt x="21600" y="10800"/>
                </a:lnTo>
                <a:lnTo>
                  <a:pt x="198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entagon 57"/>
          <p:cNvSpPr/>
          <p:nvPr/>
        </p:nvSpPr>
        <p:spPr>
          <a:xfrm>
            <a:off x="5943600" y="5448240"/>
            <a:ext cx="2286000" cy="37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2" y="0"/>
                </a:lnTo>
                <a:lnTo>
                  <a:pt x="21600" y="10800"/>
                </a:lnTo>
                <a:lnTo>
                  <a:pt x="198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5"/>
          <p:cNvSpPr/>
          <p:nvPr/>
        </p:nvSpPr>
        <p:spPr>
          <a:xfrm>
            <a:off x="1190160" y="5448240"/>
            <a:ext cx="144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Development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6"/>
          <p:cNvSpPr/>
          <p:nvPr/>
        </p:nvSpPr>
        <p:spPr>
          <a:xfrm>
            <a:off x="3950280" y="5448240"/>
            <a:ext cx="1222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oduc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7"/>
          <p:cNvSpPr/>
          <p:nvPr/>
        </p:nvSpPr>
        <p:spPr>
          <a:xfrm>
            <a:off x="6352920" y="5448240"/>
            <a:ext cx="144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onsump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05:08Z</dcterms:created>
  <dc:creator>miduan</dc:creator>
  <dc:description/>
  <dc:language>en-US</dc:language>
  <cp:lastModifiedBy>miduan</cp:lastModifiedBy>
  <cp:lastPrinted>1901-01-01T08:00:00Z</cp:lastPrinted>
  <dcterms:modified xsi:type="dcterms:W3CDTF">2012-05-18T07:49:12Z</dcterms:modified>
  <cp:revision>5</cp:revision>
  <dc:subject/>
  <dc:title>&lt;&lt;Association Analysis with R/ORE&gt;&gt; &lt;&lt;Minming Duan&gt;&gt;</dc:title>
</cp:coreProperties>
</file>