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119-154D-40DC-9C39-F33B40AA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BA0-9FAE-42F7-B53A-FAA540C3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36A-3A88-46A2-8772-A8B0FB66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933-BCD2-4A75-929E-1BB12932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5461-A087-4CCC-9231-A67BE4F8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8738-0F86-4FBB-B432-69E0F9B5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5E8D-3C4A-4969-9A6D-89D5A2C2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610D-9ACC-4360-93CA-DCD4457F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CE4F-77EB-4134-B9E4-41A7D498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1B25-42C1-49D1-9F14-01BD6142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09EE-B13E-4B95-98C2-84366C64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9C9-A22D-4A2D-AFD5-327C62BA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94B3-BC8B-4F2B-AD84-FDFD2BD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AD94-E75D-4C70-BDC8-6A18BCD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F66F-8B73-4720-957F-095958EE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7F01-8BA5-42FB-8BCA-E0194BDF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6765-CBD3-4FDD-8862-153EC391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635-8542-4D59-A1D1-491DBE3B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599-0298-4ADA-88CE-7F57E088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948-7103-4AEB-AD7A-EC1CB4F9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865-1E01-42FB-BB1D-17A2F1A5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F12-4EF6-484B-B8DD-9FBA70A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782-8CC3-4765-8AF3-56B9E22C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4A2-048A-43EC-9AC7-FEF5125A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01_4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3B97-9A88-4B82-A0FF-0421E916B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L01_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卫生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卫生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B2BD-764E-45CF-A614-A6A586766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卫生"/>
              </a:rPr>
              <a:t>libfann R binding </a:t>
            </a:r>
            <a:endParaRPr b="1" lang="en-US" sz="3600" spc="-1" strike="noStrike">
              <a:solidFill>
                <a:srgbClr val="000000"/>
              </a:solidFill>
              <a:latin typeface="卫生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快速神经网络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的绑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例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rary(fa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x&lt;-c( 1, 1,-1,-1, 1,-1, 1,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im(x) &lt;- c(4,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&lt;-c(-1,1,1,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nn&lt;-fann_create(num_layers=3,layer1=2,layer2=2,layer3=1,num_neurons_hidden=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ann_SetOpt(ann,bit_fail_limit=0.35,train_stop_function="MSE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ann_SetOpt(ann,.....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ann_Commit(a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ann_train(ann,x,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ann_save(ann,"./xortemp.net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&lt;-fann_test(ann,x,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的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ncomon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typedef struct FANNOPT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char *opt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nt typ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FANNCODE op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(void *)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} FannOp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nnOpt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nnProc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nnData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遗留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NI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版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类型的支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目前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-ext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不能解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nn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形化显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形化显示训练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适用局限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训练时间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神经网络需要长时间的训练，有时可能使之变得不实用。大多数简单问题的网络训练需要至少上千次迭代，复杂问题的训练可能需要多达数万次迭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大量训练数据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只有少量输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输出数据，一般不考虑使用人工神经网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保证最佳结果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训练可能导致网络发生偏离，使之在一些操作区域内结果准确，而在其他区域则不准确。此外，在训练过程中，有可能偶尔陷入“局部最小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保证完全可靠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尽管这一点对所有的计算问题均适用，但对人工神经网络尤其如此。需要高度可靠的问题，在采用人工神经网络时必须小心谨慎。生物制药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Eric Xing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金融程序交易④、火控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论：神经网络的隐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隐层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常增加隐层数可以降低网络误差（也有文献认为不一定能有效降低），提高精度，但也使网络复杂化，从而增加了网络的训练时间和出现“过拟合”的倾向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ni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早已证明：若输入层和输出层采用线性转换函数，隐层采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mo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转换函数，则含一个隐层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网络能够以任意精度逼近任何有理函数。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般地，靠增加隐层节点数来获得较低的误差，其训练效果要比增加隐层数更容易实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推荐阅读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effen Nissen Implementation of a Fast Artificial Neural Network Library (fa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il K.Jain Jianchang Mao K.M Mohiuddin: Artificial Neural Network:: A Tutorial IEEE March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en Krose Patrick van der Smagt An introduction to Neural Networks eigh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ingTao YAO &amp;Chew Lim TAN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.1.1.18.687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uidelines for Financial Forecasting with Neura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视神经传导分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17600" y="1600200"/>
            <a:ext cx="65088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0800000">
            <a:off x="8027640" y="2274480"/>
            <a:ext cx="729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icture from  Simon. Thor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erual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76200" y="1600200"/>
            <a:ext cx="658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ctivation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1270080"/>
            <a:ext cx="77929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ibfan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发、多层、易用、快速、多参数易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N BP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种方法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PROP, Quickprop, Batch, Increm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语言种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ub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Visual Prolog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算相关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ct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载及安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获取软件包：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s://sourceforge.net/projects/rfan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NI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环境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cc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发工具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装命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 CMD INSTALL ./fann.tg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之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 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SetO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o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s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r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ann_version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] "network type [ LAYER | SHORTCUT ] Can't be set"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] "network_type=FANN_NETTYPE_LAYER"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6] "ann type [ Simple | Cascade | Expand | Sparse ] For Create"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9] "-------------------- Basic parameters --------------------"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0] "init_weight=Init"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1] "num_layers=2"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2] ""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3] "num_input=2"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4] "num_output=1"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5] "num_neurons_hidden=3"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6] "desired_error=0.002000"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7] "-------------------- Expand parameters --------------------"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8] "randomize_weight_high=0.350000"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19] "randomize_weight_low=0.350000"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0] "learning_rate=0.700000"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1] "connection_rate=0.200000"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2] "bit_fail_limit=0.010000"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3] "max_epochs=10000"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4] "epochs_between_reports=1000"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5] "learning_momentum=0.700000"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6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27] "train algorithm: [ INCREMENTAL | BATCH | RPROP | QUICKPROP ]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fan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参数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0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1] "error function: [ LINEAR | TANH ]"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2] "train_error_function=FANN_ERRORFUNC_TANH"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3] ""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4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5] "stop function: [ MSE | BIT ]"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6] "train_stop_function=FANN_STOPFUNC_BIT"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7] ""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8] "-------------------- rprop parameters ---------------------"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39] "quickprop_decay=-0.000100"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0] "quickprop_mu=1.750000"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1] "rprop_increase_factor=1.200000"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2] "rprop_decrease_factor=0.500000"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3] "rprop_delta_min=0.000000"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4] "rprop_delta_max=50.000000"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5] "rprop_delta_zero=0.000000"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6] ""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7] "activation_steepness_hidden=2.000000"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8] "activation_steepness_output=4.000000"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49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0] "Options below  [ LINEAR | THRESHOLD | THRESHOLD_SYMMETRIC ]"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1] "cont: [ SIGMOID| SIGMOID_STEPWISE| SIGMOID_SYMMETRIC | SIGMOID_SYMMETRIC_STEPWISE ]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2] "cont: [ GAUSSIAN| GAUSSIAN_SYMMETRIC | GAUSSIAN_STEPWISE ]"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3] "cont: [ ELLIOT | ELLIOT_SYMMETRIC"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4] "cont: [ LINEAR_PIECE | LINEAR_PIECE_SYMMETRIC ]"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5] "cont: [ SIN_SYMMETRIC| COS_SYMMETRIC | SIN | COS ]"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6] "------------------------------------------------------------"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7] "activation_function_hidden=FANN_SIGMOID_SYMMETRIC"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58] "activation_function_output=FANN_GAUSSIAN_SYMMETRIC"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17:49:32Z</dcterms:created>
  <dc:creator/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