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D82D-0537-4F28-B4DC-E9FFD87D1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CD52-33FD-4023-A795-90B8E6AA0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CC01-7EE6-4F39-BED1-C26B9BAD4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670B-075C-4C47-8FFA-EB6A755CC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3109E-D50F-4EB1-88C6-2BF6AD69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5523B-9D3A-478E-9B2E-0C3620C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BC036-170D-4660-9645-1D25DAA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FECA-7C49-4B45-94ED-69D6508F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1BDE-5CD1-41B0-AD90-31FD63CC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3B922-4E6F-4988-B5B3-E27F8FE1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7DD5-D827-4264-8885-86D23F2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12CE-2EDF-48D2-88E8-D3DCEFB81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C9BF-98C7-4D8D-AC34-A0FFD2A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F7A33-BED1-4BAD-ABB2-7FE8FD0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BB8FD-3D2F-4DAE-B50A-D6CB9A93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B0AE7-26B8-43A4-8AD4-D64F09F4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EBB1D-638E-4056-A7CB-88ABDC87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3B51-DF8C-43FC-9826-71BA48D01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7936-70B8-489E-B165-EC280765F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E26D-6063-4CCD-9C42-A58D88DA7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8298-27D9-49D1-8D27-74B05C1FA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EDDC-5AD3-4176-8A11-36733CB5C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27B0-9F48-4003-84D2-745D7D80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F284-B54F-42BA-A9F8-E46FEF4B1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0A6D-8175-4FF2-8071-A2DFD612F5F2}" type="slidenum">
              <a:rPr b="0" lang="ko-KR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5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7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8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07"/>
          <p:cNvGrpSpPr/>
          <p:nvPr/>
        </p:nvGrpSpPr>
        <p:grpSpPr>
          <a:xfrm>
            <a:off x="0" y="1081080"/>
            <a:ext cx="9144000" cy="5776920"/>
            <a:chOff x="0" y="1081080"/>
            <a:chExt cx="9144000" cy="5776920"/>
          </a:xfrm>
        </p:grpSpPr>
        <p:sp>
          <p:nvSpPr>
            <p:cNvPr id="47" name="Rectangle 2803"/>
            <p:cNvSpPr/>
            <p:nvPr/>
          </p:nvSpPr>
          <p:spPr>
            <a:xfrm>
              <a:off x="0" y="3691080"/>
              <a:ext cx="9144000" cy="31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48" name="Group 2806"/>
            <p:cNvGrpSpPr/>
            <p:nvPr/>
          </p:nvGrpSpPr>
          <p:grpSpPr>
            <a:xfrm>
              <a:off x="0" y="1081080"/>
              <a:ext cx="9144000" cy="2817720"/>
              <a:chOff x="0" y="1081080"/>
              <a:chExt cx="9144000" cy="2817720"/>
            </a:xfrm>
          </p:grpSpPr>
          <p:sp>
            <p:nvSpPr>
              <p:cNvPr id="49" name="Rectangle 2784"/>
              <p:cNvSpPr/>
              <p:nvPr/>
            </p:nvSpPr>
            <p:spPr>
              <a:xfrm>
                <a:off x="0" y="3298680"/>
                <a:ext cx="9144000" cy="39240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sp>
            <p:nvSpPr>
              <p:cNvPr id="50" name="Rectangle 2787"/>
              <p:cNvSpPr/>
              <p:nvPr/>
            </p:nvSpPr>
            <p:spPr>
              <a:xfrm>
                <a:off x="0" y="3691080"/>
                <a:ext cx="9144000" cy="207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669900"/>
                  </a:solidFill>
                  <a:latin typeface="Lucida Sans Unicode"/>
                </a:endParaRPr>
              </a:p>
            </p:txBody>
          </p:sp>
          <p:grpSp>
            <p:nvGrpSpPr>
              <p:cNvPr id="51" name="Group 2804"/>
              <p:cNvGrpSpPr/>
              <p:nvPr/>
            </p:nvGrpSpPr>
            <p:grpSpPr>
              <a:xfrm>
                <a:off x="522360" y="1081080"/>
                <a:ext cx="1687320" cy="1204920"/>
                <a:chOff x="522360" y="1081080"/>
                <a:chExt cx="1687320" cy="1204920"/>
              </a:xfrm>
            </p:grpSpPr>
            <p:sp>
              <p:nvSpPr>
                <p:cNvPr id="52" name="Rectangle 2795"/>
                <p:cNvSpPr/>
                <p:nvPr/>
              </p:nvSpPr>
              <p:spPr>
                <a:xfrm>
                  <a:off x="522360" y="108108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3" name="Rectangle 2796"/>
                <p:cNvSpPr/>
                <p:nvPr/>
              </p:nvSpPr>
              <p:spPr>
                <a:xfrm>
                  <a:off x="903240" y="138096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4" name="Rectangle 2797"/>
                <p:cNvSpPr/>
                <p:nvPr/>
              </p:nvSpPr>
              <p:spPr>
                <a:xfrm>
                  <a:off x="1447920" y="12175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5" name="Rectangle 2798"/>
                <p:cNvSpPr/>
                <p:nvPr/>
              </p:nvSpPr>
              <p:spPr>
                <a:xfrm>
                  <a:off x="1284120" y="1741320"/>
                  <a:ext cx="16380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6" name="Rectangle 2799"/>
                <p:cNvSpPr/>
                <p:nvPr/>
              </p:nvSpPr>
              <p:spPr>
                <a:xfrm>
                  <a:off x="1665360" y="212256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7" name="Rectangle 2800"/>
                <p:cNvSpPr/>
                <p:nvPr/>
              </p:nvSpPr>
              <p:spPr>
                <a:xfrm>
                  <a:off x="2046240" y="1741320"/>
                  <a:ext cx="163440" cy="1638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  <p:sp>
              <p:nvSpPr>
                <p:cNvPr id="58" name="Rectangle 2801"/>
                <p:cNvSpPr/>
                <p:nvPr/>
              </p:nvSpPr>
              <p:spPr>
                <a:xfrm>
                  <a:off x="820800" y="2038320"/>
                  <a:ext cx="163440" cy="1634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669900"/>
                    </a:solidFill>
                    <a:latin typeface="Lucida Sans Unicode"/>
                  </a:endParaRPr>
                </a:p>
              </p:txBody>
            </p:sp>
          </p:grpSp>
        </p:grpSp>
      </p:grpSp>
      <p:sp>
        <p:nvSpPr>
          <p:cNvPr id="59" name="Text Box 538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60" name="Text Box 2560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d Your Company Slogan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61" name="Group 2805"/>
          <p:cNvGrpSpPr/>
          <p:nvPr/>
        </p:nvGrpSpPr>
        <p:grpSpPr>
          <a:xfrm>
            <a:off x="4952880" y="3857760"/>
            <a:ext cx="3657600" cy="741240"/>
            <a:chOff x="4952880" y="3857760"/>
            <a:chExt cx="3657600" cy="741240"/>
          </a:xfrm>
        </p:grpSpPr>
        <p:sp>
          <p:nvSpPr>
            <p:cNvPr id="62" name="AutoShape 2788"/>
            <p:cNvSpPr/>
            <p:nvPr/>
          </p:nvSpPr>
          <p:spPr>
            <a:xfrm>
              <a:off x="4952880" y="3857760"/>
              <a:ext cx="954360" cy="741240"/>
            </a:xfrm>
            <a:custGeom>
              <a:avLst/>
              <a:gdLst>
                <a:gd name="textAreaLeft" fmla="*/ 0 w 954360"/>
                <a:gd name="textAreaRight" fmla="*/ 954720 w 95436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3" name="AutoShape 2792"/>
            <p:cNvSpPr/>
            <p:nvPr/>
          </p:nvSpPr>
          <p:spPr>
            <a:xfrm>
              <a:off x="585792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4" name="AutoShape 2793"/>
            <p:cNvSpPr/>
            <p:nvPr/>
          </p:nvSpPr>
          <p:spPr>
            <a:xfrm>
              <a:off x="67420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5" name="AutoShape 2794"/>
            <p:cNvSpPr/>
            <p:nvPr/>
          </p:nvSpPr>
          <p:spPr>
            <a:xfrm>
              <a:off x="7656480" y="3857760"/>
              <a:ext cx="954000" cy="7412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f7f7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644B-A264-4AD6-8279-0B6760EA93D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669900"/>
                </a:solidFill>
                <a:latin typeface="宋体"/>
                <a:ea typeface="宋体"/>
              </a:rPr>
              <a:t>协整理论及其</a:t>
            </a:r>
            <a:r>
              <a:rPr b="1" lang="en-US" sz="5000" spc="-1" strike="noStrike">
                <a:solidFill>
                  <a:srgbClr val="669900"/>
                </a:solidFill>
                <a:latin typeface="宋体"/>
                <a:ea typeface="宋体"/>
              </a:rPr>
              <a:t>R</a:t>
            </a:r>
            <a:r>
              <a:rPr b="1" lang="zh-CN" sz="5000" spc="-1" strike="noStrike">
                <a:solidFill>
                  <a:srgbClr val="669900"/>
                </a:solidFill>
                <a:latin typeface="宋体"/>
                <a:ea typeface="宋体"/>
              </a:rPr>
              <a:t>语言的实现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邵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海财经大学 统计与管理学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028" descr="D:\My Documents\我的文档\R语言\China-R-Logo.bmp"/>
          <p:cNvPicPr/>
          <p:nvPr/>
        </p:nvPicPr>
        <p:blipFill>
          <a:blip r:embed="rId2"/>
          <a:stretch/>
        </p:blipFill>
        <p:spPr>
          <a:xfrm>
            <a:off x="457200" y="649440"/>
            <a:ext cx="2967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协整检验步骤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8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188" name="图示 3" descr=""/>
          <p:cNvPicPr/>
          <p:nvPr/>
        </p:nvPicPr>
        <p:blipFill>
          <a:blip r:embed="rId2"/>
          <a:stretch/>
        </p:blipFill>
        <p:spPr>
          <a:xfrm>
            <a:off x="1463760" y="1365120"/>
            <a:ext cx="51386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68360" y="1628640"/>
            <a:ext cx="83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目的：检验时间序列是否存在单位根，即检验时间序列是否平稳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91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92" name="TextBox 8"/>
          <p:cNvSpPr/>
          <p:nvPr/>
        </p:nvSpPr>
        <p:spPr>
          <a:xfrm>
            <a:off x="468360" y="20289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原假设：序列存在一个单位根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68360" y="242892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过程：原假设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l-GR" sz="2000" spc="-1" strike="noStrike">
                <a:solidFill>
                  <a:srgbClr val="000000"/>
                </a:solidFill>
                <a:latin typeface="宋体"/>
                <a:ea typeface="宋体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0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403280" y="3195720"/>
            <a:ext cx="6156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协整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196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97" name="TextBox 5"/>
          <p:cNvSpPr/>
          <p:nvPr/>
        </p:nvSpPr>
        <p:spPr>
          <a:xfrm>
            <a:off x="103320" y="1341360"/>
            <a:ext cx="872964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协整检验前提条件：多个时间序列必须是同阶单整的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协整检验方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Engle-Gran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步检验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Johanse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Engle-Grange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步检验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OL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计法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进行回归估计，得到残差序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{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检验残差的平稳性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格兰杰表述定理建立误差修正模型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03320" y="1341360"/>
            <a:ext cx="8729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什么要协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03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5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8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7c7c"/>
                </a:solidFill>
                <a:latin typeface="宋体"/>
                <a:ea typeface="宋体"/>
              </a:rPr>
              <a:t>R</a:t>
            </a:r>
            <a:r>
              <a:rPr b="0" lang="zh-CN" sz="2400" spc="-1" strike="noStrike">
                <a:solidFill>
                  <a:srgbClr val="7c7c7c"/>
                </a:solidFill>
                <a:latin typeface="宋体"/>
                <a:ea typeface="宋体"/>
              </a:rPr>
              <a:t>语言中</a:t>
            </a:r>
            <a:r>
              <a:rPr b="0" lang="zh-CN" sz="2400" spc="-1" strike="noStrike" u="sng">
                <a:solidFill>
                  <a:srgbClr val="7c7c7c"/>
                </a:solidFill>
                <a:uFillTx/>
                <a:latin typeface="宋体"/>
                <a:ea typeface="宋体"/>
              </a:rPr>
              <a:t>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9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12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生成时间序列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85760" y="1197000"/>
            <a:ext cx="8958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包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s(data = NA, start = 1, end = numeric(0), frequency = 1, deltat = 1, ts.eps = getOption("ts.eps"), class = , names = 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值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序列的起始时刻。可以是一个整数，也可以是两个整数组成的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序列的最后时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equen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频率，一个单位时间内的观测次数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ames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符型向量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1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时间序列举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1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185760" y="11350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年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1980,end=2009, frequency=1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185760" y="3645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季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c(2003,3),end= c(2010,4),frequency=4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4208400" y="3645000"/>
            <a:ext cx="4624560" cy="212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4199040" y="1341360"/>
            <a:ext cx="4522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时间序列举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2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24" name="TextBox 5"/>
          <p:cNvSpPr/>
          <p:nvPr/>
        </p:nvSpPr>
        <p:spPr>
          <a:xfrm>
            <a:off x="185760" y="1135080"/>
            <a:ext cx="34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月度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ts(1:30,start=c(2008,5),  frequency=12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85760" y="364500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Lucida Sans Unicode"/>
              </a:rPr>
              <a:t>每日数据：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 a &lt;- ts(1:30,start=c(12,1),frequency=7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 print(a,calendar=TRUE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4371840" y="1459080"/>
            <a:ext cx="4543560" cy="1825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4289400" y="3645000"/>
            <a:ext cx="4471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468360" y="1484280"/>
            <a:ext cx="8447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c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包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.d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r.df(y, type = c("none", "drift", "trend"), lags = 1, selectlags = c("Fixed", "AIC", "BIC"))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检验的时间序列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e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检验类型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ne”, “drift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"trend".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gs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内生变量的滞后阶数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lags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滞后阶数确定方法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kaike “AIC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ayes “BIC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   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准则，默认值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x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g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滞后阶数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30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1403280" y="5241960"/>
            <a:ext cx="6156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案例分析：中国进出口贸易之间关系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3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34" name="Picture 17" descr=""/>
          <p:cNvPicPr/>
          <p:nvPr/>
        </p:nvPicPr>
        <p:blipFill>
          <a:blip r:embed="rId2"/>
          <a:stretch/>
        </p:blipFill>
        <p:spPr>
          <a:xfrm>
            <a:off x="185760" y="1197000"/>
            <a:ext cx="4314960" cy="3714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3"/>
          <a:stretch/>
        </p:blipFill>
        <p:spPr>
          <a:xfrm>
            <a:off x="4600440" y="1197000"/>
            <a:ext cx="4314960" cy="3714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85760" y="515772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据来源：国家统计数据库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http://www.stats.gov.cn/tjsj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下箭头 9"/>
          <p:cNvSpPr/>
          <p:nvPr/>
        </p:nvSpPr>
        <p:spPr>
          <a:xfrm>
            <a:off x="0" y="2852640"/>
            <a:ext cx="2340000" cy="690840"/>
          </a:xfrm>
          <a:prstGeom prst="downArrow">
            <a:avLst>
              <a:gd name="adj1" fmla="val 84694"/>
              <a:gd name="adj2" fmla="val 50000"/>
            </a:avLst>
          </a:prstGeom>
          <a:solidFill>
            <a:srgbClr val="f8f8f8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8" name="右箭头 7"/>
          <p:cNvSpPr/>
          <p:nvPr/>
        </p:nvSpPr>
        <p:spPr>
          <a:xfrm>
            <a:off x="0" y="1700280"/>
            <a:ext cx="4414680" cy="649080"/>
          </a:xfrm>
          <a:prstGeom prst="rightArrow">
            <a:avLst>
              <a:gd name="adj1" fmla="val 50000"/>
              <a:gd name="adj2" fmla="val 43580"/>
            </a:avLst>
          </a:prstGeom>
          <a:solidFill>
            <a:srgbClr val="f8f8f8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0" y="1125360"/>
            <a:ext cx="41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ibrary(urca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urt.ex &lt;- ur.df(lnex,type='trend',selectlags='AIC'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urt.ex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4600440" y="998640"/>
            <a:ext cx="454356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#############################################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 Augmented Dickey-Fuller Test Unit Root Test 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###############################################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est regression trend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lm(formula = z.diff ~ z.lag.1 + 1 + tt + z.diff.lag)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-0.17362 -0.05933  0.02236  0.05216  0.12439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Estimate Std. Error t value Pr(&gt;|t|)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(Intercept)  0.77701    0.53253   1.459    0.158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z.lag.1     -0.15325    0.11600  -1.321    0.199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t           0.02699    0.01723   1.566    0.130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z.diff.lag   0.20945    0.20765   1.009    0.323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sidual standard error: 0.08564 on 24 degrees of freedom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Multiple R-squared: 0.2354,     Adjusted R-squared: 0.1398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F-statistic: 2.462 on 3 and 24 DF,  p-value: 0.08697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Value of test-statistic is: </a:t>
            </a:r>
            <a:r>
              <a:rPr b="1" lang="en-US" sz="1100" spc="-1" strike="noStrike">
                <a:solidFill>
                  <a:srgbClr val="ff0000"/>
                </a:solidFill>
                <a:latin typeface="Lucida Sans Unicode"/>
              </a:rPr>
              <a:t>-1.3211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7.0028 3.0289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tau3 </a:t>
            </a:r>
            <a:r>
              <a:rPr b="1" lang="en-US" sz="1100" spc="-1" strike="noStrike">
                <a:solidFill>
                  <a:srgbClr val="ff0000"/>
                </a:solidFill>
                <a:latin typeface="Lucida Sans Unicode"/>
              </a:rPr>
              <a:t>-4.15 -3.50 -3.18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phi2  7.02  5.13  4.31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phi3  9.31  6.73  5.61</a:t>
            </a:r>
            <a:endParaRPr b="1" lang="en-US" sz="11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0" y="2292480"/>
            <a:ext cx="44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urt.im &lt;- ur.df(lnim,type='trend',selectlags='AIC'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urt.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185760" y="3789360"/>
            <a:ext cx="398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Value of test-statistic is: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2.2266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6.0966 3.3771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au3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4.15 -3.50 -3.18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hi2  7.02  5.13  4.31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hi3  9.31  6.73  5.61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44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1" action="ppaction://hlinksldjump"/>
              </a:rPr>
              <a:t>为什么要协整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2" action="ppaction://hlinksldjump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4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3" action="ppaction://hlinksldjump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4" action="ppaction://hlinksldjump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5" action="ppaction://hlinksldjump"/>
              </a:rPr>
              <a:t>R</a:t>
            </a: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6" action="ppaction://hlinksldjump"/>
              </a:rPr>
              <a:t>语言中</a:t>
            </a:r>
            <a:r>
              <a:rPr b="0" lang="zh-CN" sz="2400" spc="-1" strike="noStrike" u="sng">
                <a:solidFill>
                  <a:srgbClr val="7f7f7f"/>
                </a:solidFill>
                <a:uFillTx/>
                <a:latin typeface="宋体"/>
                <a:ea typeface="宋体"/>
                <a:hlinkClick r:id="rId7" action="ppaction://hlinksldjump"/>
              </a:rPr>
              <a:t>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22" name="Picture 1029" descr="D:\My Documents\我的图片\上财logo.jpg"/>
          <p:cNvPicPr/>
          <p:nvPr/>
        </p:nvPicPr>
        <p:blipFill>
          <a:blip r:embed="rId8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单位根检验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85760" y="1989000"/>
            <a:ext cx="424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i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dlnex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单位根检验结果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Value of test-statistic is: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2348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5.2379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ritical values for test statistics: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pct  5pct 10pc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au2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58 -2.93 -2.6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hi1  7.06  4.86  3.94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4427640" y="1989000"/>
            <a:ext cx="4487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i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dlni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单位根检验结果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Value of test-statistic is: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4.8372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1.7049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ritical values for test statistics: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pct  5pct 10pc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au2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-3.58 -2.93 -2.6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hi1  7.06  4.86  3.94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5280" y="45133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结论：中国进口和出口的对数时间序列不平稳，但一阶差分后平稳，说明是一阶单整序列，即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lnex,lnim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I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，满足协整检验条件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4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50" name="TextBox 8"/>
          <p:cNvSpPr/>
          <p:nvPr/>
        </p:nvSpPr>
        <p:spPr>
          <a:xfrm>
            <a:off x="185760" y="119700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lnex &lt;</a:t>
            </a:r>
            <a:r>
              <a:rPr b="0" lang="en-US" sz="2000" spc="-1" strike="noStrike">
                <a:solidFill>
                  <a:srgbClr val="0070c0"/>
                </a:solidFill>
                <a:latin typeface="Lucida Bright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iff(lnex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11640" y="119700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lnim&lt;</a:t>
            </a:r>
            <a:r>
              <a:rPr b="0" lang="en-US" sz="2000" spc="-1" strike="noStrike">
                <a:solidFill>
                  <a:srgbClr val="0070c0"/>
                </a:solidFill>
                <a:latin typeface="Lucida Bright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iff(lnim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一步（回归方程估计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5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54" name="TextBox 5"/>
          <p:cNvSpPr/>
          <p:nvPr/>
        </p:nvSpPr>
        <p:spPr>
          <a:xfrm>
            <a:off x="108000" y="1413000"/>
            <a:ext cx="4457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xim &lt;- read.table("export and import +of China.txt",header=TRUE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x &lt;- ts(exim[,1],start=1979,end=2008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im &lt;- ts(exim[,2],start=1979,end=2008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nim &lt;- log(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nex &lt;- log(ex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reg &lt;- lm(lnex~lnim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library(lmtest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dw &lt;- dwtest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4500720" y="1197000"/>
            <a:ext cx="4643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lm(formula = lnex ~ lnim)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0.40306 -0.05373  0.01223  0.07645  0.23619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(Intercept)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-0.48270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0.14717   -3.28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00278 **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lnim       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1.07457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0.02077   51.74 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&lt; 2e-16 ***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Residual standard error: 0.1401 on 28 degrees of freedom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ultiple R-squared: 0.9897,     Adjusted R-squared: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9893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-statistic:  2677 on 1 and 28 DF,  p-value: &lt; 2.2e-16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193680" y="4105440"/>
            <a:ext cx="4307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ata:  reg 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W = </a:t>
            </a:r>
            <a:r>
              <a:rPr b="1" lang="en-US" sz="1400" spc="-1" strike="noStrike">
                <a:solidFill>
                  <a:srgbClr val="ff0000"/>
                </a:solidFill>
                <a:latin typeface="Lucida Sans Unicode"/>
              </a:rPr>
              <a:t>0.9589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, p-value = 0.0004282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</a:t>
            </a:r>
            <a:endParaRPr b="1" lang="en-US" sz="1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2124000" y="5813280"/>
            <a:ext cx="5112000" cy="4406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协整回归方程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lnex=-0.4827+1.0746lnim+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ε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一步（残差单位根检验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5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60" name="TextBox 3"/>
          <p:cNvSpPr/>
          <p:nvPr/>
        </p:nvSpPr>
        <p:spPr>
          <a:xfrm>
            <a:off x="185760" y="1557360"/>
            <a:ext cx="8647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error &lt;- residuals(reg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urt.resid &lt;- ur.df(error,type='none',selectlags='AIC'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 summary(urt.resid)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alue of test-statistic is: -3.6185 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ritical values for test statistics: 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pct  5pct 10pct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au1 -2.62 -1.95 -1.61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85760" y="4508640"/>
            <a:ext cx="864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结论：残差平稳，说明两个时间序列之间存在协整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意味着我国的进口和出口之间具有长期均衡关系，增长或者减少具有协同效应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二步（误差修正模型的建立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6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64" name="TextBox 6"/>
          <p:cNvSpPr/>
          <p:nvPr/>
        </p:nvSpPr>
        <p:spPr>
          <a:xfrm>
            <a:off x="185760" y="1268280"/>
            <a:ext cx="424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rror &lt;- residuals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rror.lagged &lt;- error[-c(29,30)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ecm.reg1 &lt;- lm(dlnex~error.lagged+dlnim)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summary(ecm.reg1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Lucida Sans Unicode"/>
              </a:rPr>
              <a:t>&gt; dwtest(ecm.reg1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427640" y="1052640"/>
            <a:ext cx="448776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lm(formula = dlnex ~ error.lagged + dlnim, data = diff.dat)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Min       1Q   Median       3Q      Max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-0.17214 -0.05198  0.01546  0.05053  0.14514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(Intercept)  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0.10648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 0.02358   4.516 0.000131 ***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error.lagged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-0.29647  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0.11430  -2.594 0.015645 *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dlnim         </a:t>
            </a:r>
            <a:r>
              <a:rPr b="1" lang="en-US" sz="1300" spc="-1" strike="noStrike">
                <a:solidFill>
                  <a:srgbClr val="ff0000"/>
                </a:solidFill>
                <a:latin typeface="Lucida Sans Unicode"/>
              </a:rPr>
              <a:t>0.33929  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  0.12470   2.721 0.011681 * 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Residual standard error: 0.08024 on 25 degrees of freedom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Multiple R-squared: 0.3008,     Adjusted R-squared: 0.2448 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F-statistic: 5.377 on 2 and 25 DF,  p-value: 0.01142</a:t>
            </a:r>
            <a:endParaRPr b="1" lang="en-US" sz="13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185760" y="4376880"/>
            <a:ext cx="424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ata:  ecm.reg1 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W = 2.408, p-value = 0.827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0" y="3084480"/>
            <a:ext cx="4427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宋体"/>
                <a:ea typeface="宋体"/>
              </a:rPr>
              <a:t>EG</a:t>
            </a: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两步协整检验：第二步（误差修正模型的建立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6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70" name="TextBox 9"/>
          <p:cNvSpPr/>
          <p:nvPr/>
        </p:nvSpPr>
        <p:spPr>
          <a:xfrm>
            <a:off x="185760" y="1628640"/>
            <a:ext cx="864720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误差修正模型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lne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=0.1065-0.2965ec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-1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+0.3393</a:t>
            </a: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lni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r>
              <a:rPr b="1" lang="el-GR" sz="2400" spc="-1" strike="noStrike">
                <a:solidFill>
                  <a:srgbClr val="ff0000"/>
                </a:solidFill>
                <a:latin typeface="宋体"/>
                <a:ea typeface="宋体"/>
              </a:rPr>
              <a:t>ε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95280" y="321300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论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误差修正项的系数为负，符合误差修正机制，反映了上一期偏离长期均衡的数量将在下一期得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反向修正，这也符合之前证明的协整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总结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73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274" name="TextBox 5"/>
          <p:cNvSpPr/>
          <p:nvPr/>
        </p:nvSpPr>
        <p:spPr>
          <a:xfrm>
            <a:off x="468360" y="1484280"/>
            <a:ext cx="8136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国进出口之间的长期均衡关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-0.4827+1.0745lni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短期波动关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0.1065-0.2965ec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0.3393</a:t>
            </a: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ni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el-GR" sz="2400" spc="-1" strike="noStrike">
                <a:solidFill>
                  <a:srgbClr val="000000"/>
                </a:solidFill>
                <a:latin typeface="宋体"/>
                <a:ea typeface="宋体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9900"/>
                </a:solidFill>
                <a:latin typeface="Times New Roman"/>
                <a:ea typeface="굴림"/>
              </a:rPr>
              <a:t>Thank you</a:t>
            </a:r>
            <a:endParaRPr b="1" lang="en-US" sz="5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276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277" name="Picture 1028" descr="D:\My Documents\我的文档\R语言\China-R-Logo.bmp"/>
          <p:cNvPicPr/>
          <p:nvPr/>
        </p:nvPicPr>
        <p:blipFill>
          <a:blip r:embed="rId2"/>
          <a:stretch/>
        </p:blipFill>
        <p:spPr>
          <a:xfrm>
            <a:off x="457200" y="649440"/>
            <a:ext cx="2967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回归分析：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重要的前提假设：平稳性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11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但是，实际上大部分的宏观经济时间序列和金融时间序列都是非平稳的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185760" y="3019320"/>
            <a:ext cx="4138560" cy="27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500720" y="3019320"/>
            <a:ext cx="4044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案例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859280" y="909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果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31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32" name="右箭头标注 9"/>
          <p:cNvSpPr/>
          <p:nvPr/>
        </p:nvSpPr>
        <p:spPr>
          <a:xfrm>
            <a:off x="579600" y="2766960"/>
            <a:ext cx="3924000" cy="1923480"/>
          </a:xfrm>
          <a:prstGeom prst="rightArrowCallout">
            <a:avLst>
              <a:gd name="adj1" fmla="val 11807"/>
              <a:gd name="adj2" fmla="val 12352"/>
              <a:gd name="adj3" fmla="val 15962"/>
              <a:gd name="adj4" fmla="val 81583"/>
            </a:avLst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79600" y="2014560"/>
            <a:ext cx="3416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99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8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i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美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城镇居民家庭人均可支配收入和</a:t>
            </a:r>
            <a:r>
              <a:rPr b="1" i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中国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人均消费性支出为例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data &lt;- read.table("data.txt"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Usincome &lt;- data[,1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Chinacoms &lt;- data[,2]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reg &lt;- lm(Chinacoms ~ USincome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summary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library(zoo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library(lmtest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dwtest(reg)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4572000" y="1309680"/>
            <a:ext cx="4572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Call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lm(formula = Chinacoms ~ USincome)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Residuals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Min      1Q  Median      3Q     Max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-640.11 -350.44  -55.96  346.49 1139.42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Coefficients: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Estimate Std. Error t value Pr(&gt;|t|)   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(Intercept) -6.886e+03  4.896e+02  -14.06 8.56e-11 ***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USincome     4.788e-01  1.898e-02   25.23 6.54e-15 ***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---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Signif. codes:  0 ‘***’ 0.001 ‘**’ 0.01 ‘*’ 0.05 ‘.’ 0.1 ‘ ’ 1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Residual standard error: 477.7 on 17 degrees of freedom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Multiple R-squared: 0.974,      Adjusted R-squared: 0.9724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F-statistic: 636.3 on 1 and 17 DF,  p-value: 6.544e-15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————————————————————————————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urbin-Watson test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ata:  reg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DW = 0.4992, p-value = 4.485e-06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alternative hypothesis: true autocorrelation is greater than 0 </a:t>
            </a:r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5" name="圆角矩形标注 13"/>
          <p:cNvSpPr/>
          <p:nvPr/>
        </p:nvSpPr>
        <p:spPr>
          <a:xfrm>
            <a:off x="4859280" y="3732120"/>
            <a:ext cx="1057320" cy="363960"/>
          </a:xfrm>
          <a:prstGeom prst="wedgeRoundRectCallout">
            <a:avLst>
              <a:gd name="adj1" fmla="val 69365"/>
              <a:gd name="adj2" fmla="val 64324"/>
              <a:gd name="adj3" fmla="val 16667"/>
            </a:avLst>
          </a:prstGeom>
          <a:solidFill>
            <a:srgbClr val="0a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显著的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en-US" sz="16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6" name="圆角矩形标注 14"/>
          <p:cNvSpPr/>
          <p:nvPr/>
        </p:nvSpPr>
        <p:spPr>
          <a:xfrm>
            <a:off x="7308720" y="2392200"/>
            <a:ext cx="1150920" cy="363960"/>
          </a:xfrm>
          <a:prstGeom prst="wedgeRoundRectCallout">
            <a:avLst>
              <a:gd name="adj1" fmla="val -19703"/>
              <a:gd name="adj2" fmla="val 115115"/>
              <a:gd name="adj3" fmla="val 16667"/>
            </a:avLst>
          </a:prstGeom>
          <a:solidFill>
            <a:srgbClr val="0a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较大的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7" name="圆角矩形标注 15"/>
          <p:cNvSpPr/>
          <p:nvPr/>
        </p:nvSpPr>
        <p:spPr>
          <a:xfrm>
            <a:off x="2768760" y="4603680"/>
            <a:ext cx="1944360" cy="626760"/>
          </a:xfrm>
          <a:prstGeom prst="wedgeRoundRectCallout">
            <a:avLst>
              <a:gd name="adj1" fmla="val 69379"/>
              <a:gd name="adj2" fmla="val 64750"/>
              <a:gd name="adj3" fmla="val 16667"/>
            </a:avLst>
          </a:prstGeom>
          <a:solidFill>
            <a:srgbClr val="ff0000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DW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统计量很小，存在严重的自相关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Verdana"/>
              </a:rPr>
              <a:t>线性回归模型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85760" y="1125360"/>
            <a:ext cx="8620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m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法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fitted.model &lt;- lm(formula, data, subset, weights…) 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ula         response  ~  terms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框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set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数据集的一个子集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s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权重向量，用于加权最小二乘估计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85760" y="3987720"/>
            <a:ext cx="86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reg &lt;- lm(y ~ x1 + x2, data=output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85760" y="5048280"/>
            <a:ext cx="84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取回归模型中所需信息的函数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ef(reg)     resid(reg)     plot(reg)     summary(reg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42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伪回归（虚假回归）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414360" y="3333600"/>
            <a:ext cx="35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4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48" name="TextBox 7"/>
          <p:cNvSpPr/>
          <p:nvPr/>
        </p:nvSpPr>
        <p:spPr>
          <a:xfrm>
            <a:off x="414360" y="1484280"/>
            <a:ext cx="790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含义：指两个没有因果关系的时间序列之间，基于一些其他的外在因素，推断出因果关系。例如：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导致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事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如果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之间进行回归分析，则容易推断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之间存在因果关系的错误结论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特征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对参数的检验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）和对回归方程的检验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检验）容易得到显著的结果，接近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残差存在严重的正自相关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结果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许多非平稳经济变量之间显著的相关性可能并不存在，是虚假的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流程图: 决策 18"/>
          <p:cNvSpPr/>
          <p:nvPr/>
        </p:nvSpPr>
        <p:spPr>
          <a:xfrm>
            <a:off x="5221440" y="1268280"/>
            <a:ext cx="1728720" cy="795600"/>
          </a:xfrm>
          <a:prstGeom prst="flowChartDecision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0" name="流程图: 决策 17"/>
          <p:cNvSpPr/>
          <p:nvPr/>
        </p:nvSpPr>
        <p:spPr>
          <a:xfrm>
            <a:off x="539640" y="1268280"/>
            <a:ext cx="1728720" cy="795600"/>
          </a:xfrm>
          <a:prstGeom prst="flowChartDecision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1" name="圆角矩形 16"/>
          <p:cNvSpPr/>
          <p:nvPr/>
        </p:nvSpPr>
        <p:spPr>
          <a:xfrm>
            <a:off x="5221440" y="1865160"/>
            <a:ext cx="3693960" cy="3905280"/>
          </a:xfrm>
          <a:custGeom>
            <a:avLst/>
            <a:gdLst>
              <a:gd name="textAreaLeft" fmla="*/ 180000 w 3693960"/>
              <a:gd name="textAreaRight" fmla="*/ 3513960 w 3693960"/>
              <a:gd name="textAreaTop" fmla="*/ 180000 h 3905280"/>
              <a:gd name="textAreaBottom" fmla="*/ 3725280 h 3905280"/>
            </a:gdLst>
            <a:ahLst/>
            <a:rect l="textAreaLeft" t="textAreaTop" r="textAreaRight" b="textAreaBottom"/>
            <a:pathLst>
              <a:path w="21600" h="22836">
                <a:moveTo>
                  <a:pt x="3600" y="0"/>
                </a:moveTo>
                <a:arcTo wR="3600" hR="3600" stAng="16200000" swAng="-5400000"/>
                <a:lnTo>
                  <a:pt x="0" y="19236"/>
                </a:lnTo>
                <a:arcTo wR="3600" hR="3600" stAng="10800000" swAng="-5400000"/>
                <a:lnTo>
                  <a:pt x="18000" y="22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2" name="圆角矩形 15"/>
          <p:cNvSpPr/>
          <p:nvPr/>
        </p:nvSpPr>
        <p:spPr>
          <a:xfrm>
            <a:off x="395280" y="1865160"/>
            <a:ext cx="3693960" cy="3905280"/>
          </a:xfrm>
          <a:custGeom>
            <a:avLst/>
            <a:gdLst>
              <a:gd name="textAreaLeft" fmla="*/ 180000 w 3693960"/>
              <a:gd name="textAreaRight" fmla="*/ 3513960 w 3693960"/>
              <a:gd name="textAreaTop" fmla="*/ 180000 h 3905280"/>
              <a:gd name="textAreaBottom" fmla="*/ 3725280 h 3905280"/>
            </a:gdLst>
            <a:ahLst/>
            <a:rect l="textAreaLeft" t="textAreaTop" r="textAreaRight" b="textAreaBottom"/>
            <a:pathLst>
              <a:path w="21600" h="22836">
                <a:moveTo>
                  <a:pt x="3600" y="0"/>
                </a:moveTo>
                <a:arcTo wR="3600" hR="3600" stAng="16200000" swAng="-5400000"/>
                <a:lnTo>
                  <a:pt x="0" y="19236"/>
                </a:lnTo>
                <a:arcTo wR="3600" hR="3600" stAng="10800000" swAng="-5400000"/>
                <a:lnTo>
                  <a:pt x="18000" y="22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传统的解决方法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4176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传统方法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06480" y="244800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阶差分后进行回归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029200" y="1417680"/>
            <a:ext cx="22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缺点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02160" y="2408400"/>
            <a:ext cx="343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经济理论往往研究的是变量的水平值而不是差分值，差分后的模型不好解释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丢失一些有用的长期信息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8" name="AutoShape 10"/>
          <p:cNvSpPr/>
          <p:nvPr/>
        </p:nvSpPr>
        <p:spPr>
          <a:xfrm rot="16200000">
            <a:off x="4524480" y="2342880"/>
            <a:ext cx="399960" cy="609480"/>
          </a:xfrm>
          <a:prstGeom prst="downArrow">
            <a:avLst>
              <a:gd name="adj1" fmla="val 50000"/>
              <a:gd name="adj2" fmla="val 25002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59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60" name="TextBox 11"/>
          <p:cNvSpPr/>
          <p:nvPr/>
        </p:nvSpPr>
        <p:spPr>
          <a:xfrm>
            <a:off x="906480" y="4205160"/>
            <a:ext cx="25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移除线性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5402160" y="4205160"/>
            <a:ext cx="34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假设序列存在独立的确定性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只能解释变量之间的短期关系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2" name="AutoShape 10"/>
          <p:cNvSpPr/>
          <p:nvPr/>
        </p:nvSpPr>
        <p:spPr>
          <a:xfrm rot="16200000">
            <a:off x="4524120" y="4100400"/>
            <a:ext cx="400320" cy="609480"/>
          </a:xfrm>
          <a:prstGeom prst="downArrow">
            <a:avLst>
              <a:gd name="adj1" fmla="val 50000"/>
              <a:gd name="adj2" fmla="val 2498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Times New Roman"/>
                <a:ea typeface="宋体"/>
              </a:rPr>
              <a:t>协整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64" name="File"/>
          <p:cNvSpPr/>
          <p:nvPr/>
        </p:nvSpPr>
        <p:spPr>
          <a:xfrm>
            <a:off x="878040" y="1197000"/>
            <a:ext cx="7510320" cy="2232000"/>
          </a:xfrm>
          <a:custGeom>
            <a:avLst/>
            <a:gdLst>
              <a:gd name="textAreaLeft" fmla="*/ 377280 w 7510320"/>
              <a:gd name="textAreaRight" fmla="*/ 7174800 w 7510320"/>
              <a:gd name="textAreaTop" fmla="*/ 478080 h 2232000"/>
              <a:gd name="textAreaBottom" fmla="*/ 2096640 h 2232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fff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547640" y="1243080"/>
            <a:ext cx="21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协整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6" name="File"/>
          <p:cNvSpPr/>
          <p:nvPr/>
        </p:nvSpPr>
        <p:spPr>
          <a:xfrm>
            <a:off x="878040" y="3645000"/>
            <a:ext cx="7510320" cy="2438280"/>
          </a:xfrm>
          <a:custGeom>
            <a:avLst/>
            <a:gdLst>
              <a:gd name="textAreaLeft" fmla="*/ 377280 w 7510320"/>
              <a:gd name="textAreaRight" fmla="*/ 7174800 w 7510320"/>
              <a:gd name="textAreaTop" fmla="*/ 5223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fff7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7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grpSp>
        <p:nvGrpSpPr>
          <p:cNvPr id="168" name="TextBox 8"/>
          <p:cNvGrpSpPr/>
          <p:nvPr/>
        </p:nvGrpSpPr>
        <p:grpSpPr>
          <a:xfrm>
            <a:off x="865080" y="1841400"/>
            <a:ext cx="6675480" cy="1705680"/>
            <a:chOff x="865080" y="1841400"/>
            <a:chExt cx="6675480" cy="1705680"/>
          </a:xfrm>
        </p:grpSpPr>
        <p:pic>
          <p:nvPicPr>
            <p:cNvPr id="169" name="TextBox 8" descr=""/>
            <p:cNvPicPr/>
            <p:nvPr/>
          </p:nvPicPr>
          <p:blipFill>
            <a:blip r:embed="rId2"/>
            <a:stretch/>
          </p:blipFill>
          <p:spPr>
            <a:xfrm>
              <a:off x="865080" y="1841400"/>
              <a:ext cx="66754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78040" y="1859040"/>
              <a:ext cx="6646680" cy="16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义：对于两个非平稳时间序列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为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(1)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序列；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②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存在线性组合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b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使得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b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平稳序列；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称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之间具有协整关系。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描述了时间序列之间的</a:t>
              </a:r>
              <a:r>
                <a:rPr b="1" i="1" lang="zh-CN" sz="1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长期均衡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系。</a:t>
              </a:r>
              <a:endParaRPr b="1" lang="en-US" sz="16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171" name="TextBox 10"/>
          <p:cNvSpPr/>
          <p:nvPr/>
        </p:nvSpPr>
        <p:spPr>
          <a:xfrm>
            <a:off x="1860480" y="369252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误差修正模型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141560" y="4030560"/>
            <a:ext cx="688644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：时间序列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误差修正模型表示为：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稳随机序列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t-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是误差修正项。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了时间序列之间的</a:t>
            </a:r>
            <a:r>
              <a:rPr b="1" i="1" lang="zh-CN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短期波动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关系。</a:t>
            </a:r>
            <a:endParaRPr b="1" lang="en-US" sz="16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1547640" y="4292640"/>
            <a:ext cx="6248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2093760" y="1682640"/>
            <a:ext cx="5410440" cy="533520"/>
          </a:xfrm>
          <a:prstGeom prst="rect">
            <a:avLst/>
          </a:prstGeom>
          <a:solidFill>
            <a:srgbClr val="f8f8f8"/>
          </a:solidFill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什么要协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00"/>
                </a:solidFill>
                <a:latin typeface="宋体"/>
                <a:ea typeface="宋体"/>
              </a:rPr>
              <a:t>提纲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1332000" y="166068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7" name="Rectangle 33"/>
          <p:cNvSpPr/>
          <p:nvPr/>
        </p:nvSpPr>
        <p:spPr>
          <a:xfrm>
            <a:off x="2093760" y="248904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什么是协整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1332000" y="24890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2093760" y="3338640"/>
            <a:ext cx="541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进行协整检验？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1332000" y="33163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93760" y="416556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7c7c"/>
                </a:solidFill>
                <a:latin typeface="宋体"/>
                <a:ea typeface="宋体"/>
              </a:rPr>
              <a:t>R</a:t>
            </a:r>
            <a:r>
              <a:rPr b="0" lang="zh-CN" sz="2400" spc="-1" strike="noStrike" u="sng">
                <a:solidFill>
                  <a:srgbClr val="7c7c7c"/>
                </a:solidFill>
                <a:uFillTx/>
                <a:latin typeface="宋体"/>
                <a:ea typeface="宋体"/>
              </a:rPr>
              <a:t>语言中相关函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332000" y="414324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2093760" y="5014800"/>
            <a:ext cx="541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案例：中国进出口之间关系检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1332000" y="499284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8ff29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85" name="Picture 1029" descr="D:\My Documents\我的图片\上财logo.jpg"/>
          <p:cNvPicPr/>
          <p:nvPr/>
        </p:nvPicPr>
        <p:blipFill>
          <a:blip r:embed="rId1"/>
          <a:stretch/>
        </p:blipFill>
        <p:spPr>
          <a:xfrm>
            <a:off x="8028000" y="5770440"/>
            <a:ext cx="804960" cy="8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47:28Z</dcterms:created>
  <dc:creator>邵晨</dc:creator>
  <dc:description/>
  <dc:language>en-US</dc:language>
  <cp:lastModifiedBy>QYX</cp:lastModifiedBy>
  <dcterms:modified xsi:type="dcterms:W3CDTF">2010-11-22T09:31:53Z</dcterms:modified>
  <cp:revision>273</cp:revision>
  <dc:subject/>
  <dc:title>PowerPoint Template</dc:title>
</cp:coreProperties>
</file>