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48A7-4F75-47B4-91F1-995434EE97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应用场景决定知识储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供选择的包及我们的选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高性能计算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s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ran.r-project.org/web/views/HighPerformanceComputing.htm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写扩展、并行计算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3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：非计算密集时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差不多，因为瓶颈在分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其适用环境：各子线程是计算密集型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优势在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众多，弊病则在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良莠不全。所谓成也萧何，败也萧何。很多包是基于研究目的而设计，实现没有过多考虑性能问题，有些甚至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U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可喜的是都是开源的，发现问题可以自己加以改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初识向量化，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转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因缘。数据挖掘、算法人员的绝佳助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很慢的循环速度，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样的面向科学计算目的，并不直接适用于工程应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路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la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致，有一失必其要有一得，总有一扇窗户通向你所要去的地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原生的支持：向量运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而简单，事实上我们经常接触到，只是没有过多注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支持（如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 mm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软件上的支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la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演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la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矩阵相乘的并行支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向量化也是现代大型计算机的基本特点，因为易于并行计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-redu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简介。类比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相当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矢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运算相当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原因：向量化后的算法具有天然的可并行性，这类算法的可扩展性很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实战案例：稀疏矩阵不同行的各元素减去某个值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2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31A-11EA-4BB8-BA5F-70078D9D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133-D7D9-43D9-92DD-1CCF4AD7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F1B-FEC9-4A2C-8CF0-E577D82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957-A479-4A51-B3E3-B776B2DC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7E7-B324-4388-A032-EF42B50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455-EF90-4723-B9DC-7127383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8A2-AD48-4047-9711-563C04D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12A-3CAE-43EC-B473-9E90A4C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54C-009F-4F2A-A188-A7CD50A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B76-35A0-4E6A-88C4-FC82FD1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E5E-A2C8-41BF-A71F-17DFEF3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C32-64C6-467B-AD67-8FF19D2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80C-F158-4A93-945F-A7E975C485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wentrue.net/blog/?p=945" TargetMode="External"/><Relationship Id="rId4" Type="http://schemas.openxmlformats.org/officeDocument/2006/relationships/hyperlink" Target="http://www.wentrue.net/blog/?p=945" TargetMode="External"/><Relationship Id="rId5" Type="http://schemas.openxmlformats.org/officeDocument/2006/relationships/hyperlink" Target="http://www.wentrue.net/blog/?p=945" TargetMode="External"/><Relationship Id="rId6" Type="http://schemas.openxmlformats.org/officeDocument/2006/relationships/hyperlink" Target="http://www.wentrue.net/blog/?tag=r" TargetMode="External"/><Relationship Id="rId7" Type="http://schemas.openxmlformats.org/officeDocument/2006/relationships/hyperlink" Target="http://www.wentrue.net/blog/?tag=r" TargetMode="External"/><Relationship Id="rId8" Type="http://schemas.openxmlformats.org/officeDocument/2006/relationships/hyperlink" Target="http://www.wentrue.net/blog/?tag=r" TargetMode="External"/><Relationship Id="rId9" Type="http://schemas.openxmlformats.org/officeDocument/2006/relationships/hyperlink" Target="http://www.douban.com/people/wentrue/" TargetMode="External"/><Relationship Id="rId10" Type="http://schemas.openxmlformats.org/officeDocument/2006/relationships/hyperlink" Target="http://www.douban.com/people/wentrue/" TargetMode="External"/><Relationship Id="rId11" Type="http://schemas.openxmlformats.org/officeDocument/2006/relationships/hyperlink" Target="http://www.douban.com/people/wentrue/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400" y="2417760"/>
            <a:ext cx="854712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Arial"/>
                <a:ea typeface="宋体"/>
              </a:rPr>
              <a:t>加速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5500" spc="-1" strike="noStrike">
                <a:solidFill>
                  <a:srgbClr val="000000"/>
                </a:solidFill>
                <a:latin typeface="Arial"/>
                <a:ea typeface="宋体"/>
              </a:rPr>
              <a:t>，向量化与并行计算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5960" y="4673520"/>
            <a:ext cx="5007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稳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ntr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攻城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@Dou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4000" y="301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已经做了向量化转换了，它还是慢！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215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那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…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把它并行了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7600" y="414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向量化是并行计算天然的先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2720" y="295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我们的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272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关于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snowfall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一个试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27080" y="2811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优化之路任重而道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760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终极原则：过早的优化是魔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1240" y="1865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5840" y="395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谢谢收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2000" y="5713560"/>
            <a:ext cx="527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更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www.wentrue.net/blog/?p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=9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www.wentrue.net/blog/?tag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=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www.douban.com/people/wentru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9360" y="3047760"/>
            <a:ext cx="494496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宋体"/>
                <a:ea typeface="宋体"/>
              </a:rPr>
              <a:t>从</a:t>
            </a:r>
            <a:r>
              <a:rPr b="0" lang="en-US" sz="5500" spc="-1" strike="noStrike">
                <a:solidFill>
                  <a:srgbClr val="000000"/>
                </a:solidFill>
                <a:latin typeface="宋体"/>
                <a:ea typeface="宋体"/>
              </a:rPr>
              <a:t>Matlab</a:t>
            </a:r>
            <a:r>
              <a:rPr b="0" lang="zh-CN" sz="55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0" lang="en-US" sz="55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困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273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解决方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42520" y="179388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0" y="273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ization is the more limited process of converting a computer program from a scalar implementation, which processes a single pair of operands at a time, to a vector implementation which processes one operation on multiple pairs of operands at once. The term comes from the convention of putting operands into vectors or arra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3240" y="56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向量化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@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960" y="22255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向量取值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[1: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向量赋值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[1:10] &lt;- seq(1,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pply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列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pply(A, 1, me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矩阵运算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+ 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%*%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为什么要这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40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map-reduc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3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7481880"/>
            <a:ext cx="10159920" cy="13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3240" y="287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算法设计范型：向量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en</cp:lastModifiedBy>
  <dcterms:modified xsi:type="dcterms:W3CDTF">2010-06-19T03:07:56Z</dcterms:modified>
  <cp:revision>70</cp:revision>
  <dc:subject/>
  <dc:title>PowerPoint Presentation</dc:title>
</cp:coreProperties>
</file>