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5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31.wmf" ContentType="image/x-wmf"/>
  <Override PartName="/ppt/media/image28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3.png" ContentType="image/png"/>
  <Override PartName="/ppt/media/image10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png" ContentType="image/png"/>
  <Override PartName="/ppt/media/image2.jpeg" ContentType="image/jpeg"/>
  <Override PartName="/ppt/media/image18.wmf" ContentType="image/x-wmf"/>
  <Override PartName="/ppt/media/image20.wmf" ContentType="image/x-wm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A531-1664-4257-92A9-60BDA35C9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3BCE-74D7-471D-BFB9-FCCD41BD05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ldImg"/>
          </p:nvPr>
        </p:nvSpPr>
        <p:spPr>
          <a:xfrm>
            <a:off x="1913040" y="692280"/>
            <a:ext cx="3031920" cy="227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FDA8-4F49-47B0-81FB-A46ABE0A95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tudents explain why each of these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f confidence can be seen in the sampling distrib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ldImg"/>
          </p:nvPr>
        </p:nvSpPr>
        <p:spPr>
          <a:xfrm>
            <a:off x="1913040" y="692280"/>
            <a:ext cx="3031920" cy="227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DD72-1BA5-44B2-84A3-9D6040A0FA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ldImg"/>
          </p:nvPr>
        </p:nvSpPr>
        <p:spPr>
          <a:xfrm>
            <a:off x="1913040" y="692280"/>
            <a:ext cx="3031920" cy="227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DCAB-73F6-4B14-9A9E-D6461C16D0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于  的估计值未知，我们可以采用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E014-201D-441E-9DBD-056C7B5266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ot(0:n,dbinom(0:n,n,p),type="h",lwd=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(0:n,dnorm(0:n,n*p,n*p*(1-p)),col=3,lwd=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("size=100,p=0.1,density of normal and binom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=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ot(0:n,dbinom(0:n,n,p),type="h",lwd=4,ylim=c(0,0.1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(0:n,dnorm(0:n,n*p,n*p*(1-p)),col=3,lwd=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("size=600,p=0.1,density of normal and binom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5C7-7267-4F9D-8865-C3A920C2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359-3A01-4EB8-92AD-E6C3AC83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8B4-E0BF-4CB3-BDE4-757B7F5E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52E-64FD-4CAC-AC2F-76C61206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373-319E-4E52-85D0-9EBB776C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1A7-709A-4348-9BAE-49F82F66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450-1B79-4930-8E20-78E3E988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33C-3C5F-4E84-BE3D-5C434D19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721-2B45-426A-B441-A1202D9E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DE2-D59A-48BB-9024-2B4052CE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719-5FFB-4A11-9401-50D11D97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1F1-E64B-4510-BED7-CC69CE48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BBDA-3C38-4821-B495-442989295A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3640" y="2130120"/>
            <a:ext cx="489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第三章 参数估计</a:t>
            </a:r>
            <a:br>
              <a:rPr sz="40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Parametric Estimation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780000" y="4652640"/>
            <a:ext cx="475128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数理统计课题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250920" y="324000"/>
                <a:ext cx="6545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用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，</m:t>
                    </m:r>
                    <m:r>
                      <m:t xml:space="preserve">⋯</m:t>
                    </m:r>
                    <m:r>
                      <m:t xml:space="preserve">，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分别作为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，</m:t>
                    </m:r>
                    <m:r>
                      <m:t xml:space="preserve">⋯</m:t>
                    </m:r>
                    <m:r>
                      <m:t xml:space="preserve">，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的估计量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3"/>
          <p:cNvSpPr/>
          <p:nvPr/>
        </p:nvSpPr>
        <p:spPr>
          <a:xfrm>
            <a:off x="250920" y="191628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矩估计的原理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验分布趋向于理论分布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辛钦大数定律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941400" y="4021200"/>
                <a:ext cx="23446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3238560" y="4208400"/>
                <a:ext cx="14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4800600" y="4287960"/>
                <a:ext cx="6764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5880240" y="4471920"/>
                <a:ext cx="2031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611280" y="5229360"/>
                <a:ext cx="70563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我们令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用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估计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250920" y="836640"/>
                <a:ext cx="5257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种求估计量的方法称为矩估计法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6"/>
          <p:cNvSpPr/>
          <p:nvPr/>
        </p:nvSpPr>
        <p:spPr>
          <a:xfrm>
            <a:off x="395280" y="3860640"/>
            <a:ext cx="8424720" cy="1152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79280" y="14698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设某少年儿童出版社每本书发生错字的次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952560" y="1962000"/>
                <a:ext cx="760248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参数为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的泊松分布，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未知，现抽查了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本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新出版不同的的图书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得到以下样本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试估计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参数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（用矩估计法）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1" name="Group 4"/>
          <p:cNvGrpSpPr/>
          <p:nvPr/>
        </p:nvGrpSpPr>
        <p:grpSpPr>
          <a:xfrm>
            <a:off x="142920" y="3933720"/>
            <a:ext cx="8749800" cy="992160"/>
            <a:chOff x="142920" y="3933720"/>
            <a:chExt cx="8749800" cy="992160"/>
          </a:xfrm>
        </p:grpSpPr>
        <mc:AlternateContent>
          <mc:Choice xmlns:a14="http://schemas.microsoft.com/office/drawing/2010/main" Requires="a14">
            <p:sp>
              <p:nvSpPr>
                <p:cNvPr id="172" name="Object 5"/>
                <p:cNvSpPr txBox="1"/>
                <p:nvPr/>
              </p:nvSpPr>
              <p:spPr>
                <a:xfrm>
                  <a:off x="362160" y="3933720"/>
                  <a:ext cx="853056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错字数为</m:t>
                          </m:r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t xml:space="preserve">5</m:t>
                          </m:r>
                          <m:r>
                            <m:t xml:space="preserve"> 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错字数为</m:t>
                          </m:r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  <m:r>
                            <m:rPr>
                              <m:lit/>
                              <m:nor/>
                            </m:rPr>
                            <m:t xml:space="preserve">的书本数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 </m:t>
                          </m:r>
                          <m:r>
                            <m:t xml:space="preserve">6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0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Line 6"/>
            <p:cNvSpPr/>
            <p:nvPr/>
          </p:nvSpPr>
          <p:spPr>
            <a:xfrm>
              <a:off x="142920" y="4383720"/>
              <a:ext cx="838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3471840" y="4028400"/>
              <a:ext cx="0" cy="87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8"/>
            <p:cNvSpPr/>
            <p:nvPr/>
          </p:nvSpPr>
          <p:spPr>
            <a:xfrm>
              <a:off x="7552440" y="4028400"/>
              <a:ext cx="0" cy="87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844560" y="2276640"/>
                <a:ext cx="1079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1589040" y="2843280"/>
                <a:ext cx="19987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令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768240" y="3409920"/>
                <a:ext cx="1528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768240" y="4295880"/>
                <a:ext cx="39625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估计值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2116080" y="3300480"/>
                <a:ext cx="62722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1719360" y="2276640"/>
                <a:ext cx="2469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4932360" y="2205000"/>
                <a:ext cx="2160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658800" y="189000"/>
                <a:ext cx="8450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设总体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未知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是一个样本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684360" y="765000"/>
                <a:ext cx="3490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求：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的矩估计量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871560" y="1525680"/>
                <a:ext cx="28368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781200" y="3141720"/>
                <a:ext cx="16002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令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6"/>
              <p:cNvSpPr txBox="1"/>
              <p:nvPr/>
            </p:nvSpPr>
            <p:spPr>
              <a:xfrm>
                <a:off x="1238400" y="4292640"/>
                <a:ext cx="28954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820800" y="2327400"/>
                <a:ext cx="177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2530440" y="2363760"/>
                <a:ext cx="2289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X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4800600" y="2133720"/>
                <a:ext cx="3598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Text Box 10"/>
          <p:cNvSpPr/>
          <p:nvPr/>
        </p:nvSpPr>
        <p:spPr>
          <a:xfrm>
            <a:off x="34920" y="189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e796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be796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79280" y="1700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ahoma"/>
              </a:rPr>
              <a:t>解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2"/>
              <p:cNvSpPr txBox="1"/>
              <p:nvPr/>
            </p:nvSpPr>
            <p:spPr>
              <a:xfrm>
                <a:off x="2457360" y="3394080"/>
                <a:ext cx="7239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3"/>
              <p:cNvSpPr txBox="1"/>
              <p:nvPr/>
            </p:nvSpPr>
            <p:spPr>
              <a:xfrm>
                <a:off x="4210200" y="4572000"/>
                <a:ext cx="7794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4"/>
              <p:cNvSpPr txBox="1"/>
              <p:nvPr/>
            </p:nvSpPr>
            <p:spPr>
              <a:xfrm>
                <a:off x="4643280" y="3505320"/>
                <a:ext cx="2803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5"/>
              <p:cNvSpPr txBox="1"/>
              <p:nvPr/>
            </p:nvSpPr>
            <p:spPr>
              <a:xfrm>
                <a:off x="5357880" y="4216320"/>
                <a:ext cx="3628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819000" y="557280"/>
                <a:ext cx="7029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471600" y="2058840"/>
                <a:ext cx="4052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468360" y="3382920"/>
                <a:ext cx="37972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1" name="Text Box 6"/>
          <p:cNvSpPr/>
          <p:nvPr/>
        </p:nvSpPr>
        <p:spPr>
          <a:xfrm>
            <a:off x="108000" y="1557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e7960"/>
                </a:solidFill>
                <a:latin typeface="Tahoma"/>
              </a:rPr>
              <a:t>解得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7"/>
              <p:cNvSpPr txBox="1"/>
              <p:nvPr/>
            </p:nvSpPr>
            <p:spPr>
              <a:xfrm>
                <a:off x="4494240" y="1916280"/>
                <a:ext cx="35812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4270320" y="3317760"/>
                <a:ext cx="365292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324000" y="4869000"/>
                <a:ext cx="1177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0"/>
              <p:cNvSpPr txBox="1"/>
              <p:nvPr/>
            </p:nvSpPr>
            <p:spPr>
              <a:xfrm>
                <a:off x="3656160" y="4727520"/>
                <a:ext cx="2743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r>
                      <m:t xml:space="preserve">n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6424560" y="4721400"/>
                <a:ext cx="23367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2"/>
              <p:cNvSpPr txBox="1"/>
              <p:nvPr/>
            </p:nvSpPr>
            <p:spPr>
              <a:xfrm>
                <a:off x="1446120" y="4726080"/>
                <a:ext cx="22989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8" name="Text Box 13"/>
          <p:cNvSpPr/>
          <p:nvPr/>
        </p:nvSpPr>
        <p:spPr>
          <a:xfrm>
            <a:off x="685800" y="18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e796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be796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be7960"/>
                </a:solidFill>
                <a:latin typeface="Times New Roman"/>
              </a:rPr>
              <a:t>（续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1657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．极大似然估计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总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概率分布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4211640" y="2752560"/>
                <a:ext cx="9619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Rectangle 5"/>
          <p:cNvSpPr/>
          <p:nvPr/>
        </p:nvSpPr>
        <p:spPr>
          <a:xfrm>
            <a:off x="4905360" y="26712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概率密度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7380360" y="2743200"/>
                <a:ext cx="1008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Rectangle 8"/>
          <p:cNvSpPr/>
          <p:nvPr/>
        </p:nvSpPr>
        <p:spPr>
          <a:xfrm>
            <a:off x="838800" y="31820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其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1547640" y="3260880"/>
                <a:ext cx="29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10"/>
          <p:cNvSpPr/>
          <p:nvPr/>
        </p:nvSpPr>
        <p:spPr>
          <a:xfrm>
            <a:off x="2736720" y="3182040"/>
            <a:ext cx="4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是未知参数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1" descr="MCj02511250000[1]"/>
          <p:cNvPicPr/>
          <p:nvPr/>
        </p:nvPicPr>
        <p:blipFill>
          <a:blip r:embed="rId1"/>
          <a:stretch/>
        </p:blipFill>
        <p:spPr>
          <a:xfrm>
            <a:off x="4572000" y="5086440"/>
            <a:ext cx="1211400" cy="129528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12"/>
          <p:cNvSpPr/>
          <p:nvPr/>
        </p:nvSpPr>
        <p:spPr>
          <a:xfrm>
            <a:off x="4932360" y="3789360"/>
            <a:ext cx="3384720" cy="1224000"/>
          </a:xfrm>
          <a:prstGeom prst="cloudCallout">
            <a:avLst>
              <a:gd name="adj1" fmla="val -44935"/>
              <a:gd name="adj2" fmla="val 62972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5508720" y="40784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何求极大似然估计量呢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-324000" y="765000"/>
            <a:ext cx="5883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点估计的常用方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327640" cy="1895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5545080" cy="19717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539640" y="54936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点估计的常用方法</a:t>
            </a: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极大似然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3059280" y="4797360"/>
            <a:ext cx="2376360" cy="1224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3059280" y="3429000"/>
            <a:ext cx="2232000" cy="1440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3851280" y="1844640"/>
            <a:ext cx="2735280" cy="1511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5"/>
          <p:cNvSpPr/>
          <p:nvPr/>
        </p:nvSpPr>
        <p:spPr>
          <a:xfrm>
            <a:off x="684360" y="1701720"/>
            <a:ext cx="1941480" cy="17272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多个参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1117440" y="2879640"/>
                <a:ext cx="15242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4091040" y="2124000"/>
                <a:ext cx="2438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4091040" y="2743200"/>
                <a:ext cx="2438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θ</m:t>
                        </m:r>
                      </m:e>
                      <m:sup/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2" name="AutoShape 9"/>
          <p:cNvSpPr/>
          <p:nvPr/>
        </p:nvSpPr>
        <p:spPr>
          <a:xfrm>
            <a:off x="2843280" y="2492280"/>
            <a:ext cx="1006560" cy="360360"/>
          </a:xfrm>
          <a:prstGeom prst="rightArrow">
            <a:avLst>
              <a:gd name="adj1" fmla="val 50000"/>
              <a:gd name="adj2" fmla="val 69830"/>
            </a:avLst>
          </a:prstGeom>
          <a:solidFill>
            <a:srgbClr val="be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986200" y="20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7234200" y="2421000"/>
            <a:ext cx="1154160" cy="2952720"/>
          </a:xfrm>
          <a:custGeom>
            <a:avLst/>
            <a:gdLst>
              <a:gd name="textAreaLeft" fmla="*/ 154440 w 1154160"/>
              <a:gd name="textAreaRight" fmla="*/ 999720 w 1154160"/>
              <a:gd name="textAreaTop" fmla="*/ 516600 h 2952720"/>
              <a:gd name="textAreaBottom" fmla="*/ 214092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e796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435640" y="4437000"/>
            <a:ext cx="1728720" cy="792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然方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 flipV="1">
            <a:off x="5074920" y="4581360"/>
            <a:ext cx="360360" cy="144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5074920" y="4797360"/>
            <a:ext cx="36036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4282920" y="465192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7"/>
              <p:cNvSpPr txBox="1"/>
              <p:nvPr/>
            </p:nvSpPr>
            <p:spPr>
              <a:xfrm>
                <a:off x="3403440" y="3846600"/>
                <a:ext cx="17528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8"/>
              <p:cNvSpPr txBox="1"/>
              <p:nvPr/>
            </p:nvSpPr>
            <p:spPr>
              <a:xfrm>
                <a:off x="3490920" y="4941720"/>
                <a:ext cx="14414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AutoShape 19"/>
          <p:cNvSpPr/>
          <p:nvPr/>
        </p:nvSpPr>
        <p:spPr>
          <a:xfrm rot="10800000">
            <a:off x="2553840" y="472392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395280" y="4005360"/>
            <a:ext cx="2230560" cy="165564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似然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539640" y="54936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点估计的常用方法</a:t>
            </a: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极大似然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多项分布参数的极大似然估计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1403280" y="3573360"/>
                <a:ext cx="6264360" cy="309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580000" y="2060640"/>
                <a:ext cx="1656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0920" y="1412640"/>
            <a:ext cx="860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多情况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假定一个变量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能取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状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2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个状态假定可能性为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               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独立进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试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状态出现的频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有多项分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611280" y="1700280"/>
                <a:ext cx="8064360" cy="35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大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5708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点估计的基本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置信区间估计的基本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两种基本的点估计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有效估计和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-R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下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充分统计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87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例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7:Hardy-Weinberg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平衡定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9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假定基因的频率在自然界是固定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因类型三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们出现的可能性为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中   是父代为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可能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父代为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可能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需要给出父代   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5796000" y="2049480"/>
                <a:ext cx="2305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θ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1270080" y="2638440"/>
                <a:ext cx="277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6"/>
              <p:cNvSpPr txBox="1"/>
              <p:nvPr/>
            </p:nvSpPr>
            <p:spPr>
              <a:xfrm>
                <a:off x="4788000" y="2638440"/>
                <a:ext cx="6397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7"/>
          <p:cNvSpPr/>
          <p:nvPr/>
        </p:nvSpPr>
        <p:spPr>
          <a:xfrm>
            <a:off x="2844720" y="3213000"/>
            <a:ext cx="3095640" cy="720720"/>
          </a:xfrm>
          <a:prstGeom prst="rect">
            <a:avLst/>
          </a:prstGeom>
          <a:solidFill>
            <a:srgbClr val="3366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AA   Aa     aa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合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342  500  187   10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2843280" y="3573360"/>
            <a:ext cx="3024000" cy="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2673360" y="4203720"/>
                <a:ext cx="277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8760" y="155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数似然函数为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611280" y="2359080"/>
                <a:ext cx="8101080" cy="27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θ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611280" y="4944960"/>
                <a:ext cx="66247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684360" y="5857920"/>
                <a:ext cx="14396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192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极大似然估计的理论结果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极大似然估计的分布有渐进的正态分布</a:t>
            </a:r>
            <a:endParaRPr b="0" lang="en-US" sz="3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1042920" y="1741320"/>
                <a:ext cx="720108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l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置信区间估计的基本概念</a:t>
            </a:r>
            <a:br>
              <a:rPr sz="44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(Confidential Interval) 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枢轴量的概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小样本置信区间求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拔靴法置信区间求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34680" y="1657080"/>
            <a:ext cx="5305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置信区间估计的概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755640" y="2781360"/>
            <a:ext cx="3095640" cy="863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1547640" y="2219400"/>
                <a:ext cx="14400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1258920" y="31417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0" name="Group 6"/>
          <p:cNvGrpSpPr/>
          <p:nvPr/>
        </p:nvGrpSpPr>
        <p:grpSpPr>
          <a:xfrm>
            <a:off x="5435640" y="2851200"/>
            <a:ext cx="2160720" cy="1439640"/>
            <a:chOff x="5435640" y="2851200"/>
            <a:chExt cx="2160720" cy="1439640"/>
          </a:xfrm>
        </p:grpSpPr>
        <p:sp>
          <p:nvSpPr>
            <p:cNvPr id="271" name="Rectangle 7"/>
            <p:cNvSpPr/>
            <p:nvPr/>
          </p:nvSpPr>
          <p:spPr>
            <a:xfrm>
              <a:off x="5435640" y="2851200"/>
              <a:ext cx="2160720" cy="1439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Object 8"/>
                <p:cNvSpPr txBox="1"/>
                <p:nvPr/>
              </p:nvSpPr>
              <p:spPr>
                <a:xfrm>
                  <a:off x="5691240" y="3066840"/>
                  <a:ext cx="1644480" cy="50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Object 9"/>
                <p:cNvSpPr txBox="1"/>
                <p:nvPr/>
              </p:nvSpPr>
              <p:spPr>
                <a:xfrm>
                  <a:off x="5759280" y="3714480"/>
                  <a:ext cx="1582920" cy="50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AutoShape 10"/>
          <p:cNvSpPr/>
          <p:nvPr/>
        </p:nvSpPr>
        <p:spPr>
          <a:xfrm>
            <a:off x="324000" y="4797360"/>
            <a:ext cx="1726920" cy="863640"/>
          </a:xfrm>
          <a:prstGeom prst="pi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11"/>
          <p:cNvGrpSpPr/>
          <p:nvPr/>
        </p:nvGrpSpPr>
        <p:grpSpPr>
          <a:xfrm>
            <a:off x="2195640" y="4941720"/>
            <a:ext cx="5832000" cy="625680"/>
            <a:chOff x="2195640" y="4941720"/>
            <a:chExt cx="5832000" cy="625680"/>
          </a:xfrm>
        </p:grpSpPr>
        <p:sp>
          <p:nvSpPr>
            <p:cNvPr id="276" name="Rectangle 12"/>
            <p:cNvSpPr/>
            <p:nvPr/>
          </p:nvSpPr>
          <p:spPr>
            <a:xfrm>
              <a:off x="2250720" y="4941720"/>
              <a:ext cx="5776920" cy="57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Object 13"/>
                <p:cNvSpPr txBox="1"/>
                <p:nvPr/>
              </p:nvSpPr>
              <p:spPr>
                <a:xfrm>
                  <a:off x="2195640" y="4967280"/>
                  <a:ext cx="56836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≤</m:t>
                          </m:r>
                          <m:r>
                            <m:t xml:space="preserve">θ</m:t>
                          </m:r>
                          <m:r>
                            <m:t xml:space="preserve">≤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8" name="AutoShape 14"/>
          <p:cNvSpPr/>
          <p:nvPr/>
        </p:nvSpPr>
        <p:spPr>
          <a:xfrm>
            <a:off x="4068720" y="342756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1260360" y="4219560"/>
            <a:ext cx="208764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3635280" y="2922480"/>
            <a:ext cx="287280" cy="144000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0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179280" y="476280"/>
            <a:ext cx="5883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3. 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置信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置信区间的含义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179280" y="1773360"/>
          <a:ext cx="745344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7453440" cy="3968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5c1f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85" name="Rectangle 4"/>
          <p:cNvSpPr/>
          <p:nvPr/>
        </p:nvSpPr>
        <p:spPr>
          <a:xfrm>
            <a:off x="344520" y="2049480"/>
            <a:ext cx="2282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本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4572000" y="3987720"/>
            <a:ext cx="0" cy="1701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3683160" y="4114800"/>
            <a:ext cx="1854000" cy="0"/>
          </a:xfrm>
          <a:prstGeom prst="line">
            <a:avLst/>
          </a:prstGeom>
          <a:ln w="50760">
            <a:solidFill>
              <a:srgbClr val="dfd2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3454560" y="5410080"/>
            <a:ext cx="1777680" cy="0"/>
          </a:xfrm>
          <a:prstGeom prst="line">
            <a:avLst/>
          </a:prstGeom>
          <a:ln w="50760">
            <a:solidFill>
              <a:srgbClr val="dfd2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463840" y="5029200"/>
            <a:ext cx="17780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316080" y="3892680"/>
            <a:ext cx="223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区间 （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- 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+ 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6504120" y="3860640"/>
            <a:ext cx="2315880" cy="1300680"/>
          </a:xfrm>
          <a:prstGeom prst="rect">
            <a:avLst/>
          </a:prstGeom>
          <a:solidFill>
            <a:srgbClr val="d3a2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随机区间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%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含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包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911760" y="4572000"/>
            <a:ext cx="1854000" cy="0"/>
          </a:xfrm>
          <a:prstGeom prst="line">
            <a:avLst/>
          </a:prstGeom>
          <a:ln w="50760">
            <a:solidFill>
              <a:srgbClr val="dfd2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2"/>
          <p:cNvGrpSpPr/>
          <p:nvPr/>
        </p:nvGrpSpPr>
        <p:grpSpPr>
          <a:xfrm>
            <a:off x="6000840" y="3602160"/>
            <a:ext cx="409320" cy="2165400"/>
            <a:chOff x="6000840" y="3602160"/>
            <a:chExt cx="409320" cy="2165400"/>
          </a:xfrm>
        </p:grpSpPr>
        <p:sp>
          <p:nvSpPr>
            <p:cNvPr id="294" name="Freeform 13"/>
            <p:cNvSpPr/>
            <p:nvPr/>
          </p:nvSpPr>
          <p:spPr>
            <a:xfrm>
              <a:off x="6002280" y="3602160"/>
              <a:ext cx="407880" cy="1084320"/>
            </a:xfrm>
            <a:prstGeom prst="pie">
              <a:avLst/>
            </a:prstGeom>
            <a:solidFill>
              <a:srgbClr val="be7960"/>
            </a:solidFill>
            <a:ln cap="rnd" w="12600">
              <a:solidFill>
                <a:srgbClr val="be7960"/>
              </a:solidFill>
              <a:round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4"/>
            <p:cNvSpPr/>
            <p:nvPr/>
          </p:nvSpPr>
          <p:spPr>
            <a:xfrm>
              <a:off x="6000840" y="4684680"/>
              <a:ext cx="406440" cy="1082880"/>
            </a:xfrm>
            <a:prstGeom prst="pie">
              <a:avLst/>
            </a:prstGeom>
            <a:solidFill>
              <a:srgbClr val="be7960"/>
            </a:solidFill>
            <a:ln cap="rnd" w="12600">
              <a:solidFill>
                <a:srgbClr val="be7960"/>
              </a:solidFill>
              <a:round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构造置信区间的一般方法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pilot function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468360" y="1959120"/>
                <a:ext cx="8136000" cy="29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枢轴量定义：从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的一个点估计出发，构造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它的分布不依赖于待估计参数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，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这个函数为枢轴量，选定两个常数</m:t>
                        </m:r>
                        <m:r>
                          <m:t xml:space="preserve">c和d</m:t>
                        </m:r>
                        <m:r>
                          <m:rPr>
                            <m:lit/>
                            <m:nor/>
                          </m:rPr>
                          <m:t xml:space="preserve">，在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给定的置信水平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，有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≤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利用以上不等式解出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θ</m:t>
                        </m:r>
                        <m:r>
                          <m:t xml:space="preserve">≤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体均值的区间估计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5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体服从正态分布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σ</a:t>
            </a:r>
            <a:r>
              <a:rPr b="1" lang="en-US" sz="33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时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900000" y="2859120"/>
                <a:ext cx="3979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5"/>
          <p:cNvSpPr/>
          <p:nvPr/>
        </p:nvSpPr>
        <p:spPr>
          <a:xfrm>
            <a:off x="4789440" y="2791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5076720" y="2865600"/>
                <a:ext cx="2159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5" name="Object 8"/>
          <p:cNvGraphicFramePr/>
          <p:nvPr/>
        </p:nvGraphicFramePr>
        <p:xfrm>
          <a:off x="2100240" y="3441600"/>
          <a:ext cx="2089080" cy="10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0240" y="3441600"/>
                    <a:ext cx="208908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9"/>
          <p:cNvSpPr/>
          <p:nvPr/>
        </p:nvSpPr>
        <p:spPr>
          <a:xfrm>
            <a:off x="1236600" y="50245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区间估计的定义，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下，总体均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1"/>
              <p:cNvSpPr txBox="1"/>
              <p:nvPr/>
            </p:nvSpPr>
            <p:spPr>
              <a:xfrm>
                <a:off x="1981080" y="5904000"/>
                <a:ext cx="34610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Rectangle 12"/>
          <p:cNvSpPr/>
          <p:nvPr/>
        </p:nvSpPr>
        <p:spPr>
          <a:xfrm>
            <a:off x="1258920" y="836640"/>
            <a:ext cx="6481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一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即：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209680" y="1986120"/>
                <a:ext cx="32259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Rectangle 5"/>
          <p:cNvSpPr/>
          <p:nvPr/>
        </p:nvSpPr>
        <p:spPr>
          <a:xfrm>
            <a:off x="1086840" y="2851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而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7"/>
          <p:cNvGrpSpPr/>
          <p:nvPr/>
        </p:nvGrpSpPr>
        <p:grpSpPr>
          <a:xfrm>
            <a:off x="1400040" y="3357720"/>
            <a:ext cx="7203960" cy="891720"/>
            <a:chOff x="1400040" y="3357720"/>
            <a:chExt cx="7203960" cy="891720"/>
          </a:xfrm>
        </p:grpSpPr>
        <mc:AlternateContent>
          <mc:Choice xmlns:a14="http://schemas.microsoft.com/office/drawing/2010/main" Requires="a14">
            <p:sp>
              <p:nvSpPr>
                <p:cNvPr id="316" name="Object 8"/>
                <p:cNvSpPr txBox="1"/>
                <p:nvPr/>
              </p:nvSpPr>
              <p:spPr>
                <a:xfrm>
                  <a:off x="1400040" y="3357720"/>
                  <a:ext cx="4936680" cy="89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≤</m:t>
                          </m:r>
                          <m:r>
                            <m:t xml:space="preserve">μ</m:t>
                          </m:r>
                          <m:r>
                            <m:t xml:space="preserve">≤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Rectangle 9"/>
            <p:cNvSpPr/>
            <p:nvPr/>
          </p:nvSpPr>
          <p:spPr>
            <a:xfrm>
              <a:off x="6989040" y="35265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10"/>
          <p:cNvSpPr/>
          <p:nvPr/>
        </p:nvSpPr>
        <p:spPr>
          <a:xfrm>
            <a:off x="1774800" y="4580280"/>
            <a:ext cx="40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即在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α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置信度下，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μ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置信区间为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2"/>
              <p:cNvSpPr txBox="1"/>
              <p:nvPr/>
            </p:nvSpPr>
            <p:spPr>
              <a:xfrm>
                <a:off x="2116080" y="4941720"/>
                <a:ext cx="3535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Rectangle 13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注意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有很多满足置信度的置信区间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2411280" y="4146480"/>
                <a:ext cx="50403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α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2585880" y="1407960"/>
                <a:ext cx="4794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α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Line 5"/>
          <p:cNvSpPr/>
          <p:nvPr/>
        </p:nvSpPr>
        <p:spPr>
          <a:xfrm>
            <a:off x="7086600" y="3182760"/>
            <a:ext cx="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6"/>
          <p:cNvSpPr/>
          <p:nvPr/>
        </p:nvSpPr>
        <p:spPr>
          <a:xfrm>
            <a:off x="1981080" y="3182760"/>
            <a:ext cx="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2743200" y="3182760"/>
            <a:ext cx="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6324480" y="3182760"/>
            <a:ext cx="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5562720" y="3182760"/>
            <a:ext cx="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3505320" y="3182760"/>
            <a:ext cx="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005440" y="3486240"/>
            <a:ext cx="3755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.6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.5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4610160" y="1979640"/>
            <a:ext cx="0" cy="1440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13"/>
          <p:cNvGrpSpPr/>
          <p:nvPr/>
        </p:nvGrpSpPr>
        <p:grpSpPr>
          <a:xfrm>
            <a:off x="914400" y="1957320"/>
            <a:ext cx="7392960" cy="1270080"/>
            <a:chOff x="914400" y="1957320"/>
            <a:chExt cx="7392960" cy="1270080"/>
          </a:xfrm>
        </p:grpSpPr>
        <p:sp>
          <p:nvSpPr>
            <p:cNvPr id="334" name="Freeform 14"/>
            <p:cNvSpPr/>
            <p:nvPr/>
          </p:nvSpPr>
          <p:spPr>
            <a:xfrm>
              <a:off x="4610160" y="1957320"/>
              <a:ext cx="3697200" cy="1270080"/>
            </a:xfrm>
            <a:prstGeom prst="pie">
              <a:avLst/>
            </a:prstGeom>
            <a:noFill/>
            <a:ln cap="rnd" w="76320">
              <a:solidFill>
                <a:srgbClr val="ff0000"/>
              </a:solidFill>
              <a:round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5"/>
            <p:cNvSpPr/>
            <p:nvPr/>
          </p:nvSpPr>
          <p:spPr>
            <a:xfrm>
              <a:off x="914400" y="1957320"/>
              <a:ext cx="3697200" cy="1270080"/>
            </a:xfrm>
            <a:prstGeom prst="pie">
              <a:avLst/>
            </a:prstGeom>
            <a:noFill/>
            <a:ln cap="rnd" w="76320">
              <a:solidFill>
                <a:srgbClr val="ff0000"/>
              </a:solidFill>
              <a:round/>
            </a:ln>
            <a:effectLst>
              <a:outerShdw dist="17819" dir="2700000" blurRad="0" rotWithShape="0">
                <a:srgbClr val="5c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16"/>
          <p:cNvGrpSpPr/>
          <p:nvPr/>
        </p:nvGrpSpPr>
        <p:grpSpPr>
          <a:xfrm>
            <a:off x="6107040" y="1628640"/>
            <a:ext cx="735120" cy="909000"/>
            <a:chOff x="6107040" y="1628640"/>
            <a:chExt cx="735120" cy="909000"/>
          </a:xfrm>
        </p:grpSpPr>
        <p:grpSp>
          <p:nvGrpSpPr>
            <p:cNvPr id="337" name="Group 17"/>
            <p:cNvGrpSpPr/>
            <p:nvPr/>
          </p:nvGrpSpPr>
          <p:grpSpPr>
            <a:xfrm>
              <a:off x="6107040" y="1652400"/>
              <a:ext cx="735120" cy="885240"/>
              <a:chOff x="6107040" y="1652400"/>
              <a:chExt cx="735120" cy="885240"/>
            </a:xfrm>
          </p:grpSpPr>
          <p:grpSp>
            <p:nvGrpSpPr>
              <p:cNvPr id="338" name="Group 18"/>
              <p:cNvGrpSpPr/>
              <p:nvPr/>
            </p:nvGrpSpPr>
            <p:grpSpPr>
              <a:xfrm>
                <a:off x="6107040" y="1652400"/>
                <a:ext cx="724320" cy="885240"/>
                <a:chOff x="6107040" y="1652400"/>
                <a:chExt cx="724320" cy="885240"/>
              </a:xfrm>
            </p:grpSpPr>
            <p:sp>
              <p:nvSpPr>
                <p:cNvPr id="339" name="Rectangle 19"/>
                <p:cNvSpPr/>
                <p:nvPr/>
              </p:nvSpPr>
              <p:spPr>
                <a:xfrm>
                  <a:off x="6107040" y="1652400"/>
                  <a:ext cx="48780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20"/>
                <p:cNvSpPr/>
                <p:nvPr/>
              </p:nvSpPr>
              <p:spPr>
                <a:xfrm>
                  <a:off x="6416640" y="1946160"/>
                  <a:ext cx="41472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3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3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Rectangle 21"/>
              <p:cNvSpPr/>
              <p:nvPr/>
            </p:nvSpPr>
            <p:spPr>
              <a:xfrm>
                <a:off x="6638760" y="2098440"/>
                <a:ext cx="20340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2" name="Rectangle 22"/>
            <p:cNvSpPr/>
            <p:nvPr/>
          </p:nvSpPr>
          <p:spPr>
            <a:xfrm>
              <a:off x="6441840" y="1628640"/>
              <a:ext cx="393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Line 23"/>
          <p:cNvSpPr/>
          <p:nvPr/>
        </p:nvSpPr>
        <p:spPr>
          <a:xfrm>
            <a:off x="800280" y="3301920"/>
            <a:ext cx="7619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4"/>
          <p:cNvSpPr/>
          <p:nvPr/>
        </p:nvSpPr>
        <p:spPr>
          <a:xfrm>
            <a:off x="8269200" y="3067200"/>
            <a:ext cx="74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5405400" y="3863880"/>
            <a:ext cx="1798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.9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26"/>
          <p:cNvSpPr/>
          <p:nvPr/>
        </p:nvSpPr>
        <p:spPr>
          <a:xfrm>
            <a:off x="611280" y="3357720"/>
            <a:ext cx="3755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.5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.6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27"/>
          <p:cNvSpPr/>
          <p:nvPr/>
        </p:nvSpPr>
        <p:spPr>
          <a:xfrm>
            <a:off x="1789200" y="3863880"/>
            <a:ext cx="1798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.9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28"/>
          <p:cNvSpPr/>
          <p:nvPr/>
        </p:nvSpPr>
        <p:spPr>
          <a:xfrm>
            <a:off x="4240080" y="3462480"/>
            <a:ext cx="801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9"/>
              <p:cNvSpPr txBox="1"/>
              <p:nvPr/>
            </p:nvSpPr>
            <p:spPr>
              <a:xfrm>
                <a:off x="324000" y="4869000"/>
                <a:ext cx="58705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α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参数估计解决问题的基本思想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几种点估计方法的优缺点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常见点估计的评价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掌握大样本极大似然估计的近似分布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置信区间估计的定义和常用求法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点估计与置信区间估计的主要区别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的分布离散程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b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本容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置信水平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 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影响到区间精度的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5651640" y="2205000"/>
            <a:ext cx="3195360" cy="5673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X - Z</a:t>
            </a:r>
            <a:r>
              <a:rPr b="1" lang="en-US" sz="2400" spc="-1" strike="noStrike">
                <a:solidFill>
                  <a:srgbClr val="fcfeb9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fcfeb9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fcfeb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to</a:t>
            </a:r>
            <a:r>
              <a:rPr b="1" lang="en-US" sz="2400" spc="-1" strike="noStrike">
                <a:solidFill>
                  <a:srgbClr val="fcfeb9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X + Z</a:t>
            </a:r>
            <a:r>
              <a:rPr b="1" lang="en-US" sz="2400" spc="-1" strike="noStrike">
                <a:solidFill>
                  <a:srgbClr val="fcfeb9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fcfeb9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 baseline="-25000">
                <a:solidFill>
                  <a:srgbClr val="fcfeb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5560920" y="1951200"/>
            <a:ext cx="3332160" cy="1096920"/>
          </a:xfrm>
          <a:prstGeom prst="wedgeRoundRectCallout">
            <a:avLst>
              <a:gd name="adj1" fmla="val -26453"/>
              <a:gd name="adj2" fmla="val 66666"/>
              <a:gd name="adj3" fmla="val 16667"/>
            </a:avLst>
          </a:prstGeom>
          <a:noFill/>
          <a:ln w="12600">
            <a:solidFill>
              <a:srgbClr val="d3a2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7006680" y="6273720"/>
            <a:ext cx="164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ecece"/>
                </a:solidFill>
                <a:latin typeface="Arial"/>
              </a:rPr>
              <a:t>© 1984-1994 T/Maker Co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7"/>
          <p:cNvGraphicFramePr/>
          <p:nvPr/>
        </p:nvGraphicFramePr>
        <p:xfrm>
          <a:off x="4462560" y="3141720"/>
          <a:ext cx="327816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2560" y="3141720"/>
                    <a:ext cx="3278160" cy="313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5c1f00"/>
                    </a:outerShdw>
                  </a:effectLst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a219"/>
                                </p:to>
                              </p:animCl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a21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a219"/>
                                </p:to>
                              </p:animCl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a21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4" dur="1" fill="hold"/>
                                  <p:tgtEl>
                                    <p:spTgt spid="3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a219"/>
                                </p:to>
                              </p:animClr>
                              <p:animClr clrSpc="rgb">
                                <p:cBhvr>
                                  <p:cTn id="345" dur="1" fill="hold"/>
                                  <p:tgtEl>
                                    <p:spTgt spid="3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3a21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26920" y="177768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8]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已知某零件的直径服从正态分布，从该批产品中随机抽取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件，测得平均直径为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202.5mm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，已知总体标准差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σ=2.5mm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，试建立该种零件平均直径的置信区间，给定置信度为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解：已知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916360" y="4638600"/>
                <a:ext cx="180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6"/>
          <p:cNvGrpSpPr/>
          <p:nvPr/>
        </p:nvGrpSpPr>
        <p:grpSpPr>
          <a:xfrm>
            <a:off x="2052720" y="5192640"/>
            <a:ext cx="4824000" cy="469080"/>
            <a:chOff x="2052720" y="5192640"/>
            <a:chExt cx="4824000" cy="469080"/>
          </a:xfrm>
        </p:grpSpPr>
        <p:graphicFrame>
          <p:nvGraphicFramePr>
            <p:cNvPr id="362" name="Object 7"/>
            <p:cNvGraphicFramePr/>
            <p:nvPr/>
          </p:nvGraphicFramePr>
          <p:xfrm>
            <a:off x="2052720" y="5192640"/>
            <a:ext cx="460440" cy="43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52720" y="5192640"/>
                      <a:ext cx="46044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Rectangle 8"/>
            <p:cNvSpPr/>
            <p:nvPr/>
          </p:nvSpPr>
          <p:spPr>
            <a:xfrm>
              <a:off x="2432880" y="5202000"/>
              <a:ext cx="44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202.5,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楷体_GB2312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=10, 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α=0.95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5" name="Picture 10" descr="MCj01863500000[1]"/>
          <p:cNvPicPr/>
          <p:nvPr/>
        </p:nvPicPr>
        <p:blipFill>
          <a:blip r:embed="rId4"/>
          <a:stretch/>
        </p:blipFill>
        <p:spPr>
          <a:xfrm>
            <a:off x="8028000" y="4724280"/>
            <a:ext cx="917640" cy="13687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1"/>
          <p:cNvSpPr/>
          <p:nvPr/>
        </p:nvSpPr>
        <p:spPr>
          <a:xfrm>
            <a:off x="108000" y="620640"/>
            <a:ext cx="5883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2"/>
              <p:cNvSpPr txBox="1"/>
              <p:nvPr/>
            </p:nvSpPr>
            <p:spPr>
              <a:xfrm>
                <a:off x="1979640" y="5769000"/>
                <a:ext cx="3960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即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116000" y="1484280"/>
                <a:ext cx="6912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1" name="Group 5"/>
          <p:cNvGrpSpPr/>
          <p:nvPr/>
        </p:nvGrpSpPr>
        <p:grpSpPr>
          <a:xfrm>
            <a:off x="826560" y="3429000"/>
            <a:ext cx="5832000" cy="2628720"/>
            <a:chOff x="826560" y="3429000"/>
            <a:chExt cx="5832000" cy="2628720"/>
          </a:xfrm>
        </p:grpSpPr>
        <p:grpSp>
          <p:nvGrpSpPr>
            <p:cNvPr id="372" name="Group 6"/>
            <p:cNvGrpSpPr/>
            <p:nvPr/>
          </p:nvGrpSpPr>
          <p:grpSpPr>
            <a:xfrm>
              <a:off x="2845800" y="3429000"/>
              <a:ext cx="3812760" cy="763920"/>
              <a:chOff x="2845800" y="3429000"/>
              <a:chExt cx="3812760" cy="763920"/>
            </a:xfrm>
          </p:grpSpPr>
          <p:sp>
            <p:nvSpPr>
              <p:cNvPr id="373" name="AutoShape 7"/>
              <p:cNvSpPr/>
              <p:nvPr/>
            </p:nvSpPr>
            <p:spPr>
              <a:xfrm>
                <a:off x="2845800" y="3429000"/>
                <a:ext cx="3812760" cy="763920"/>
              </a:xfrm>
              <a:prstGeom prst="wedgeRoundRectCallout">
                <a:avLst>
                  <a:gd name="adj1" fmla="val -49634"/>
                  <a:gd name="adj2" fmla="val 89999"/>
                  <a:gd name="adj3" fmla="val 16667"/>
                </a:avLst>
              </a:prstGeom>
              <a:solidFill>
                <a:srgbClr val="cc33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Text Box 8"/>
              <p:cNvSpPr/>
              <p:nvPr/>
            </p:nvSpPr>
            <p:spPr>
              <a:xfrm>
                <a:off x="2889720" y="3547800"/>
                <a:ext cx="15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"/>
            <p:cNvGrpSpPr/>
            <p:nvPr/>
          </p:nvGrpSpPr>
          <p:grpSpPr>
            <a:xfrm>
              <a:off x="826560" y="4447800"/>
              <a:ext cx="2761560" cy="1609920"/>
              <a:chOff x="826560" y="4447800"/>
              <a:chExt cx="2761560" cy="1609920"/>
            </a:xfrm>
          </p:grpSpPr>
          <p:pic>
            <p:nvPicPr>
              <p:cNvPr id="376" name="Object 10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826560" y="4447800"/>
                <a:ext cx="2761560" cy="117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Text Box 11"/>
              <p:cNvSpPr/>
              <p:nvPr/>
            </p:nvSpPr>
            <p:spPr>
              <a:xfrm>
                <a:off x="1319400" y="5721480"/>
                <a:ext cx="151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Rectangle 12"/>
          <p:cNvSpPr/>
          <p:nvPr/>
        </p:nvSpPr>
        <p:spPr>
          <a:xfrm>
            <a:off x="3564000" y="320832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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计算结果为：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[200.95,204.05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3"/>
          <p:cNvSpPr/>
          <p:nvPr/>
        </p:nvSpPr>
        <p:spPr>
          <a:xfrm>
            <a:off x="324000" y="260280"/>
            <a:ext cx="5883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23720" y="14824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30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知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≥3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只需将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即可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-210960" y="33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2843280" y="1654200"/>
            <a:ext cx="5473440" cy="838080"/>
            <a:chOff x="2843280" y="1654200"/>
            <a:chExt cx="5473440" cy="838080"/>
          </a:xfrm>
        </p:grpSpPr>
        <mc:AlternateContent>
          <mc:Choice xmlns:a14="http://schemas.microsoft.com/office/drawing/2010/main" Requires="a14">
            <p:sp>
              <p:nvSpPr>
                <p:cNvPr id="383" name="Object 5"/>
                <p:cNvSpPr txBox="1"/>
                <p:nvPr/>
              </p:nvSpPr>
              <p:spPr>
                <a:xfrm>
                  <a:off x="2843280" y="1654200"/>
                  <a:ext cx="27158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,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84" name="Rectangle 6"/>
            <p:cNvSpPr/>
            <p:nvPr/>
          </p:nvSpPr>
          <p:spPr>
            <a:xfrm>
              <a:off x="5570640" y="1865880"/>
              <a:ext cx="274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中的</a:t>
              </a: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σ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用 </a:t>
              </a: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S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近似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7"/>
          <p:cNvSpPr/>
          <p:nvPr/>
        </p:nvSpPr>
        <p:spPr>
          <a:xfrm>
            <a:off x="593280" y="4043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 2 )  n&lt;30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，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-21096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9"/>
              <p:cNvSpPr txBox="1"/>
              <p:nvPr/>
            </p:nvSpPr>
            <p:spPr>
              <a:xfrm>
                <a:off x="3492360" y="3860640"/>
                <a:ext cx="43196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Rectangle 10"/>
          <p:cNvSpPr/>
          <p:nvPr/>
        </p:nvSpPr>
        <p:spPr>
          <a:xfrm>
            <a:off x="1518840" y="497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1"/>
              <p:cNvSpPr txBox="1"/>
              <p:nvPr/>
            </p:nvSpPr>
            <p:spPr>
              <a:xfrm>
                <a:off x="3137040" y="4951440"/>
                <a:ext cx="2232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12"/>
          <p:cNvSpPr/>
          <p:nvPr/>
        </p:nvSpPr>
        <p:spPr>
          <a:xfrm>
            <a:off x="1601640" y="5844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2847960" y="5556240"/>
                <a:ext cx="388944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Rectangle 14"/>
          <p:cNvSpPr/>
          <p:nvPr/>
        </p:nvSpPr>
        <p:spPr>
          <a:xfrm>
            <a:off x="417600" y="54936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35040" y="1587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[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9]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某大学从该校学生中随机抽取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，调查到他们平均每人每天完成作业时间为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钟，样本标准差为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钟，试以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95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％的置信水平估计该大学全体学生平均每天完成作业时间。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830240" y="4724280"/>
                <a:ext cx="4686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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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ｎ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Rectangle 5"/>
          <p:cNvSpPr/>
          <p:nvPr/>
        </p:nvSpPr>
        <p:spPr>
          <a:xfrm>
            <a:off x="1683000" y="4240800"/>
            <a:ext cx="341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-α=0.95       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α/2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=2.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2560320" y="5012280"/>
            <a:ext cx="36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％的置信度下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置信区间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9"/>
              <p:cNvSpPr txBox="1"/>
              <p:nvPr/>
            </p:nvSpPr>
            <p:spPr>
              <a:xfrm>
                <a:off x="2411280" y="5661000"/>
                <a:ext cx="36007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01" name="Picture 10" descr="MCj01863500000[1]"/>
          <p:cNvPicPr/>
          <p:nvPr/>
        </p:nvPicPr>
        <p:blipFill>
          <a:blip r:embed="rId1"/>
          <a:stretch/>
        </p:blipFill>
        <p:spPr>
          <a:xfrm>
            <a:off x="7740720" y="5084640"/>
            <a:ext cx="839880" cy="12510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1"/>
          <p:cNvSpPr/>
          <p:nvPr/>
        </p:nvSpPr>
        <p:spPr>
          <a:xfrm>
            <a:off x="179280" y="549360"/>
            <a:ext cx="705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举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35040" y="1657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总体方差的区间估计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547640" y="2419200"/>
                <a:ext cx="295128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5"/>
          <p:cNvSpPr/>
          <p:nvPr/>
        </p:nvSpPr>
        <p:spPr>
          <a:xfrm>
            <a:off x="0" y="34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6"/>
              <p:cNvSpPr txBox="1"/>
              <p:nvPr/>
            </p:nvSpPr>
            <p:spPr>
              <a:xfrm>
                <a:off x="1403280" y="3354480"/>
                <a:ext cx="34578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Rectangle 7"/>
          <p:cNvSpPr/>
          <p:nvPr/>
        </p:nvSpPr>
        <p:spPr>
          <a:xfrm>
            <a:off x="6288120" y="349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8"/>
              <p:cNvSpPr txBox="1"/>
              <p:nvPr/>
            </p:nvSpPr>
            <p:spPr>
              <a:xfrm>
                <a:off x="1403280" y="4365720"/>
                <a:ext cx="425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即P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sSup>
                                  <m:e/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Rectangle 9"/>
          <p:cNvSpPr/>
          <p:nvPr/>
        </p:nvSpPr>
        <p:spPr>
          <a:xfrm>
            <a:off x="0" y="35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0"/>
              <p:cNvSpPr txBox="1"/>
              <p:nvPr/>
            </p:nvSpPr>
            <p:spPr>
              <a:xfrm>
                <a:off x="1403280" y="5443560"/>
                <a:ext cx="6335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　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，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Rectangle 11"/>
          <p:cNvSpPr/>
          <p:nvPr/>
        </p:nvSpPr>
        <p:spPr>
          <a:xfrm>
            <a:off x="179280" y="693720"/>
            <a:ext cx="5883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3851280" y="4294080"/>
            <a:ext cx="42498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3780000" y="2709720"/>
            <a:ext cx="4464000" cy="9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056960" y="162756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5"/>
              <p:cNvSpPr txBox="1"/>
              <p:nvPr/>
            </p:nvSpPr>
            <p:spPr>
              <a:xfrm>
                <a:off x="3911760" y="2781360"/>
                <a:ext cx="2614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，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7"/>
              <p:cNvSpPr txBox="1"/>
              <p:nvPr/>
            </p:nvSpPr>
            <p:spPr>
              <a:xfrm>
                <a:off x="4145040" y="4365720"/>
                <a:ext cx="27241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，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9" name="Rectangle 8"/>
          <p:cNvSpPr/>
          <p:nvPr/>
        </p:nvSpPr>
        <p:spPr>
          <a:xfrm>
            <a:off x="684360" y="2781360"/>
            <a:ext cx="2016000" cy="792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2700360" y="2925720"/>
            <a:ext cx="1006560" cy="430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684360" y="4365720"/>
            <a:ext cx="2016000" cy="936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体标准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11"/>
          <p:cNvSpPr/>
          <p:nvPr/>
        </p:nvSpPr>
        <p:spPr>
          <a:xfrm>
            <a:off x="2771640" y="4581360"/>
            <a:ext cx="935280" cy="4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108000" y="69228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单个总体参数的区间估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3"/>
              <p:cNvSpPr txBox="1"/>
              <p:nvPr/>
            </p:nvSpPr>
            <p:spPr>
              <a:xfrm>
                <a:off x="2050920" y="2133720"/>
                <a:ext cx="5256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　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，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比例的置信区间的例子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490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毕业生中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进入研究生学习，构造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置信区间估计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程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.hat=32/40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=40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pha=0.05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=p.hat-qnorm(1-alpha/2,0,1)*sqrt(p.hat*(1-p.hat)/n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=p.hat+qnorm(1-alpha/2,0,1) *sqrt(p.hat*(1-p.hat)/n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4"/>
              <p:cNvSpPr txBox="1"/>
              <p:nvPr/>
            </p:nvSpPr>
            <p:spPr>
              <a:xfrm>
                <a:off x="1835280" y="5013360"/>
                <a:ext cx="532908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≤</m:t>
                        </m:r>
                        <m:r>
                          <m:t xml:space="preserve">p</m:t>
                        </m:r>
                        <m:r>
                          <m:t xml:space="preserve">≤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rad>
                        <m:r>
                          <m:t xml:space="preserve">≤</m:t>
                        </m:r>
                        <m:r>
                          <m:t xml:space="preserve">p</m:t>
                        </m:r>
                        <m:r>
                          <m:t xml:space="preserve">≤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rad>
                      </m:e>
                      <m:e/>
                    </m:eqArr>
                    <m:r>
                      <m:rPr>
                        <m:lit/>
                        <m:nor/>
                      </m:rPr>
                      <m:t xml:space="preserve">053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d293"/>
                </a:solidFill>
                <a:latin typeface="楷体_GB2312"/>
                <a:ea typeface="楷体_GB2312"/>
              </a:rPr>
              <a:t>样本量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由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62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正态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比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总体的方差越大，需要的样本量越大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样本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和置信区间长度的平方成反比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置信度越高，样本量越大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2486160" y="2955960"/>
                <a:ext cx="26398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2558880" y="1708200"/>
                <a:ext cx="1791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6"/>
              <p:cNvSpPr txBox="1"/>
              <p:nvPr/>
            </p:nvSpPr>
            <p:spPr>
              <a:xfrm>
                <a:off x="4356000" y="1844640"/>
                <a:ext cx="37688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3" name="Line 7"/>
          <p:cNvSpPr/>
          <p:nvPr/>
        </p:nvSpPr>
        <p:spPr>
          <a:xfrm flipH="1">
            <a:off x="4716000" y="1700280"/>
            <a:ext cx="2016360" cy="649080"/>
          </a:xfrm>
          <a:prstGeom prst="line">
            <a:avLst/>
          </a:prstGeom>
          <a:ln w="7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524960" y="9799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总体均值的区间估计时，半置信区间的宽度为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9"/>
              <p:cNvSpPr txBox="1"/>
              <p:nvPr/>
            </p:nvSpPr>
            <p:spPr>
              <a:xfrm>
                <a:off x="6948360" y="333360"/>
                <a:ext cx="2103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j0286034"/>
          <p:cNvPicPr/>
          <p:nvPr/>
        </p:nvPicPr>
        <p:blipFill>
          <a:blip r:embed="rId1"/>
          <a:stretch/>
        </p:blipFill>
        <p:spPr>
          <a:xfrm>
            <a:off x="6227640" y="2023920"/>
            <a:ext cx="919440" cy="88596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3"/>
          <p:cNvSpPr/>
          <p:nvPr/>
        </p:nvSpPr>
        <p:spPr>
          <a:xfrm>
            <a:off x="611280" y="2239920"/>
            <a:ext cx="3456000" cy="647640"/>
          </a:xfrm>
          <a:prstGeom prst="irregularSeal2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1278360" y="2324160"/>
            <a:ext cx="21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考虑问题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684360" y="3392640"/>
            <a:ext cx="8135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79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什么样的精度？即我们想构造多宽的区间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79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构造的置信区间来说，想要多大的置信度？即我们想要多大的可靠度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样本量的确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大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点估计的基本概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两种基本的点估计方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矩估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极大似然估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92929"/>
                </a:solidFill>
                <a:latin typeface="Arial"/>
              </a:rPr>
              <a:t>多项分布的极大似然估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92929"/>
                </a:solidFill>
                <a:latin typeface="Arial"/>
              </a:rPr>
              <a:t>极大似然估计的渐进分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置信区间估计的基本概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枢轴量的概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小样本</a:t>
            </a: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置信区间求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极大似然估计的置信区间解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有效估计和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-R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下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充分统计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因子分解定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Rao-Blackwell</a:t>
            </a: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定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1116000" y="4870440"/>
            <a:ext cx="6192720" cy="719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1116000" y="3573360"/>
            <a:ext cx="6696000" cy="1081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1116000" y="2781360"/>
            <a:ext cx="568800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826920" y="21708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本容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总体方差、允许误差、置信度有以下关系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2804400" y="285336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要样本容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总体方差成正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1258920" y="382752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在给定的置信水平下，允许误差越大，样本容量就可以越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2578320" y="501228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本容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置信度成正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11280" y="981000"/>
            <a:ext cx="7057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估计总体均值时，样本量的确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635040" y="1584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0]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一家广告公司想估计某类商店去年所花的平均广告费有多少。经验表明，总体方差约为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 800 000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。如置信度取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，并要使估计值处在总体平均值附近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元的范围内，这家广告公司应取多大的样本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990000" y="4364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：已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5"/>
              <p:cNvSpPr txBox="1"/>
              <p:nvPr/>
            </p:nvSpPr>
            <p:spPr>
              <a:xfrm>
                <a:off x="1763640" y="4697280"/>
                <a:ext cx="58327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0000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Rectangle 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7"/>
              <p:cNvSpPr txBox="1"/>
              <p:nvPr/>
            </p:nvSpPr>
            <p:spPr>
              <a:xfrm>
                <a:off x="1547640" y="5084640"/>
                <a:ext cx="5513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0000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Rectangle 8"/>
          <p:cNvSpPr/>
          <p:nvPr/>
        </p:nvSpPr>
        <p:spPr>
          <a:xfrm>
            <a:off x="324000" y="60580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家广告公司应抽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商店作样本（注意抽取样本数总是整数，所以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圆整成整数）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539640" y="692280"/>
            <a:ext cx="734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估计总体均值时，样本量的确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1693080" y="19134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总体比例时，允许误差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4"/>
              <p:cNvSpPr txBox="1"/>
              <p:nvPr/>
            </p:nvSpPr>
            <p:spPr>
              <a:xfrm>
                <a:off x="2484360" y="2490840"/>
                <a:ext cx="259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0" name="Rectangle 5"/>
          <p:cNvSpPr/>
          <p:nvPr/>
        </p:nvSpPr>
        <p:spPr>
          <a:xfrm>
            <a:off x="1042920" y="37180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上式可得出估计总体比例时，确定必要样本容量的公式。由于总体比率是未知的，因此要用样本比率代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7"/>
              <p:cNvSpPr txBox="1"/>
              <p:nvPr/>
            </p:nvSpPr>
            <p:spPr>
              <a:xfrm>
                <a:off x="2195640" y="4506840"/>
                <a:ext cx="3960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limUpp>
                          <m:e>
                            <m:r>
                              <m:t xml:space="preserve">p</m:t>
                            </m:r>
                          </m:e>
                          <m:lim/>
                        </m:limUp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p</m:t>
                            </m:r>
                          </m:e>
                          <m:lim/>
                        </m:limUp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3" name="Rectangle 8"/>
          <p:cNvSpPr/>
          <p:nvPr/>
        </p:nvSpPr>
        <p:spPr>
          <a:xfrm>
            <a:off x="250920" y="765000"/>
            <a:ext cx="698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估计总体比例时，样本量的确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35040" y="1417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1]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一家市场调研公司想估计某地区有健身器材的家庭所占的比例。该公司希望对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的估计误差不超过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0.05,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要求的可靠程度为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，应取多大量的样本？没有可利用的   估计值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对于服从二项分布的随机变量，当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4"/>
              <p:cNvSpPr txBox="1"/>
              <p:nvPr/>
            </p:nvSpPr>
            <p:spPr>
              <a:xfrm>
                <a:off x="7524720" y="4076640"/>
                <a:ext cx="3715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4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6"/>
              <p:cNvSpPr txBox="1"/>
              <p:nvPr/>
            </p:nvSpPr>
            <p:spPr>
              <a:xfrm>
                <a:off x="6156360" y="5589720"/>
                <a:ext cx="1079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Rectangle 7"/>
          <p:cNvSpPr/>
          <p:nvPr/>
        </p:nvSpPr>
        <p:spPr>
          <a:xfrm>
            <a:off x="2779920" y="43646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其方差达到最大值。因此，在无法得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9"/>
              <p:cNvSpPr txBox="1"/>
              <p:nvPr/>
            </p:nvSpPr>
            <p:spPr>
              <a:xfrm>
                <a:off x="4498920" y="3286080"/>
                <a:ext cx="36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472" name="Rectangle 10"/>
          <p:cNvSpPr/>
          <p:nvPr/>
        </p:nvSpPr>
        <p:spPr>
          <a:xfrm>
            <a:off x="1961280" y="4771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时，可以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12"/>
              <p:cNvSpPr txBox="1"/>
              <p:nvPr/>
            </p:nvSpPr>
            <p:spPr>
              <a:xfrm>
                <a:off x="6877080" y="3933720"/>
                <a:ext cx="1008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Rectangle 13"/>
          <p:cNvSpPr/>
          <p:nvPr/>
        </p:nvSpPr>
        <p:spPr>
          <a:xfrm>
            <a:off x="4558680" y="4756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1648800" y="522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16"/>
              <p:cNvSpPr txBox="1"/>
              <p:nvPr/>
            </p:nvSpPr>
            <p:spPr>
              <a:xfrm>
                <a:off x="2430360" y="5373720"/>
                <a:ext cx="3221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Rectangle 17"/>
          <p:cNvSpPr/>
          <p:nvPr/>
        </p:nvSpPr>
        <p:spPr>
          <a:xfrm>
            <a:off x="1621800" y="5850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18"/>
              <p:cNvSpPr txBox="1"/>
              <p:nvPr/>
            </p:nvSpPr>
            <p:spPr>
              <a:xfrm>
                <a:off x="2268360" y="5877000"/>
                <a:ext cx="339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1" name="Rectangle 19"/>
          <p:cNvSpPr/>
          <p:nvPr/>
        </p:nvSpPr>
        <p:spPr>
          <a:xfrm>
            <a:off x="3330360" y="5804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估计值未知，可以采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0"/>
              <p:cNvSpPr txBox="1"/>
              <p:nvPr/>
            </p:nvSpPr>
            <p:spPr>
              <a:xfrm>
                <a:off x="3492360" y="4608360"/>
                <a:ext cx="1008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Rectangle 21"/>
          <p:cNvSpPr/>
          <p:nvPr/>
        </p:nvSpPr>
        <p:spPr>
          <a:xfrm>
            <a:off x="2105280" y="621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计算必要的样本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2"/>
          <p:cNvSpPr/>
          <p:nvPr/>
        </p:nvSpPr>
        <p:spPr>
          <a:xfrm>
            <a:off x="324000" y="549360"/>
            <a:ext cx="698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估计总体比例时，样本量的确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906560" y="1916280"/>
                <a:ext cx="475308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7" name="Rectangle 4"/>
          <p:cNvSpPr/>
          <p:nvPr/>
        </p:nvSpPr>
        <p:spPr>
          <a:xfrm>
            <a:off x="971640" y="465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为了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可靠度保证估计误差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应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户进行调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1258920" y="836640"/>
            <a:ext cx="69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估计总体比例时，样本量的确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Object 2"/>
          <p:cNvGraphicFramePr/>
          <p:nvPr/>
        </p:nvGraphicFramePr>
        <p:xfrm>
          <a:off x="1619280" y="1486080"/>
          <a:ext cx="5113440" cy="230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86080"/>
                    <a:ext cx="511344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Text Box 3"/>
          <p:cNvSpPr/>
          <p:nvPr/>
        </p:nvSpPr>
        <p:spPr>
          <a:xfrm>
            <a:off x="6094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注意：比例近似正态分布时所要求的样本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4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240360" cy="27813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4"/>
          <a:stretch/>
        </p:blipFill>
        <p:spPr>
          <a:xfrm>
            <a:off x="4213080" y="3789360"/>
            <a:ext cx="3167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19879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两个总体均值之差的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1418040" y="2683440"/>
            <a:ext cx="572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两总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(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(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2112480" y="3475800"/>
            <a:ext cx="452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两总体分别独立的抽取容量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样本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6"/>
              <p:cNvSpPr txBox="1"/>
              <p:nvPr/>
            </p:nvSpPr>
            <p:spPr>
              <a:xfrm>
                <a:off x="1116000" y="4294080"/>
                <a:ext cx="51847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令它们的平均数为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、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，方差为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、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8" name="Group 7"/>
          <p:cNvGrpSpPr/>
          <p:nvPr/>
        </p:nvGrpSpPr>
        <p:grpSpPr>
          <a:xfrm>
            <a:off x="6372360" y="4076640"/>
            <a:ext cx="1584000" cy="1744560"/>
            <a:chOff x="6372360" y="4076640"/>
            <a:chExt cx="1584000" cy="1744560"/>
          </a:xfrm>
        </p:grpSpPr>
        <p:grpSp>
          <p:nvGrpSpPr>
            <p:cNvPr id="499" name="Group 8"/>
            <p:cNvGrpSpPr/>
            <p:nvPr/>
          </p:nvGrpSpPr>
          <p:grpSpPr>
            <a:xfrm>
              <a:off x="6372360" y="4076640"/>
              <a:ext cx="1584000" cy="1362240"/>
              <a:chOff x="6372360" y="4076640"/>
              <a:chExt cx="1584000" cy="1362240"/>
            </a:xfrm>
          </p:grpSpPr>
          <p:pic>
            <p:nvPicPr>
              <p:cNvPr id="500" name="Object 9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6696360" y="4688280"/>
                <a:ext cx="1260000" cy="75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AutoShape 10"/>
              <p:cNvSpPr/>
              <p:nvPr/>
            </p:nvSpPr>
            <p:spPr>
              <a:xfrm>
                <a:off x="6372360" y="4076640"/>
                <a:ext cx="926280" cy="519840"/>
              </a:xfrm>
              <a:prstGeom prst="cloudCallout">
                <a:avLst>
                  <a:gd name="adj1" fmla="val 76250"/>
                  <a:gd name="adj2" fmla="val 75856"/>
                </a:avLst>
              </a:prstGeom>
              <a:solidFill>
                <a:srgbClr val="cc33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Text Box 11"/>
              <p:cNvSpPr/>
              <p:nvPr/>
            </p:nvSpPr>
            <p:spPr>
              <a:xfrm>
                <a:off x="6463800" y="4279680"/>
                <a:ext cx="67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 u="sng">
                    <a:solidFill>
                      <a:srgbClr val="ffffff"/>
                    </a:solidFill>
                    <a:uFillTx/>
                    <a:latin typeface="楷体_GB2312"/>
                    <a:ea typeface="楷体_GB2312"/>
                  </a:rPr>
                  <a:t>？？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3" name="Text Box 12"/>
            <p:cNvSpPr/>
            <p:nvPr/>
          </p:nvSpPr>
          <p:spPr>
            <a:xfrm>
              <a:off x="6947640" y="5484960"/>
              <a:ext cx="182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Rectangle 13"/>
          <p:cNvSpPr/>
          <p:nvPr/>
        </p:nvSpPr>
        <p:spPr>
          <a:xfrm>
            <a:off x="61128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2"/>
          <p:cNvSpPr/>
          <p:nvPr/>
        </p:nvSpPr>
        <p:spPr>
          <a:xfrm>
            <a:off x="1098720" y="3641760"/>
            <a:ext cx="5832360" cy="576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3"/>
          <p:cNvSpPr/>
          <p:nvPr/>
        </p:nvSpPr>
        <p:spPr>
          <a:xfrm>
            <a:off x="1098720" y="1773360"/>
            <a:ext cx="5849640" cy="649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100000"/>
              </a:lnSpc>
              <a:spcBef>
                <a:spcPts val="825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个总体方差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σ</a:t>
            </a:r>
            <a:r>
              <a:rPr b="1" lang="en-US" sz="33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en-US" sz="33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σ</a:t>
            </a:r>
            <a:r>
              <a:rPr b="1" lang="en-US" sz="33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en-US" sz="33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已知，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355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6"/>
              <p:cNvSpPr txBox="1"/>
              <p:nvPr/>
            </p:nvSpPr>
            <p:spPr>
              <a:xfrm>
                <a:off x="1258920" y="2593800"/>
                <a:ext cx="48258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于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，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Rectangle 7"/>
          <p:cNvSpPr/>
          <p:nvPr/>
        </p:nvSpPr>
        <p:spPr>
          <a:xfrm>
            <a:off x="1855440" y="3688560"/>
            <a:ext cx="423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0" y="35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9"/>
              <p:cNvSpPr txBox="1"/>
              <p:nvPr/>
            </p:nvSpPr>
            <p:spPr>
              <a:xfrm>
                <a:off x="1243080" y="4578480"/>
                <a:ext cx="620856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，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10"/>
          <p:cNvSpPr/>
          <p:nvPr/>
        </p:nvSpPr>
        <p:spPr>
          <a:xfrm>
            <a:off x="75564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/>
          <p:cNvSpPr/>
          <p:nvPr/>
        </p:nvSpPr>
        <p:spPr>
          <a:xfrm>
            <a:off x="826920" y="1844640"/>
            <a:ext cx="6553440" cy="720720"/>
          </a:xfrm>
          <a:prstGeom prst="horizontalScroll">
            <a:avLst>
              <a:gd name="adj" fmla="val 12500"/>
            </a:avLst>
          </a:prstGeom>
          <a:solidFill>
            <a:srgbClr val="cc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个总体方差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σ</a:t>
            </a:r>
            <a:r>
              <a:rPr b="1" lang="en-US" sz="33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en-US" sz="33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σ</a:t>
            </a:r>
            <a:r>
              <a:rPr b="1" lang="en-US" sz="33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en-US" sz="33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未知，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1269720" y="2394720"/>
            <a:ext cx="47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≠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且两样本容量均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1652400" y="2874240"/>
            <a:ext cx="436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估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957600" y="3618720"/>
            <a:ext cx="40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知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7"/>
              <p:cNvSpPr txBox="1"/>
              <p:nvPr/>
            </p:nvSpPr>
            <p:spPr>
              <a:xfrm>
                <a:off x="2103480" y="4506840"/>
                <a:ext cx="388944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Rectangle 9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87280" y="3284640"/>
            <a:ext cx="1657440" cy="122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≠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两样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很大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4"/>
          <p:cNvSpPr/>
          <p:nvPr/>
        </p:nvSpPr>
        <p:spPr>
          <a:xfrm>
            <a:off x="2916360" y="3645000"/>
            <a:ext cx="718920" cy="431640"/>
          </a:xfrm>
          <a:prstGeom prst="rightArrow">
            <a:avLst>
              <a:gd name="adj1" fmla="val 50000"/>
              <a:gd name="adj2" fmla="val 41639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3780000" y="3429000"/>
            <a:ext cx="4897440" cy="93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估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点估计的基本概念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Point Estimator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2843280" y="2565360"/>
            <a:ext cx="2881080" cy="792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68360" y="1700280"/>
            <a:ext cx="77724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估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由样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定一个统计量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它估计总体的未知参数，称为总体参数的估计量。当具体的样本抽出后，可求得出样本统计量的值。用它作为总体参数的估计值，称作总体参数的点估计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9"/>
              <p:cNvSpPr txBox="1"/>
              <p:nvPr/>
            </p:nvSpPr>
            <p:spPr>
              <a:xfrm>
                <a:off x="3132000" y="2562120"/>
                <a:ext cx="232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900000" y="3284640"/>
            <a:ext cx="6408720" cy="3240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1652760" y="3890880"/>
                <a:ext cx="38242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7" name="Rectangle 4"/>
          <p:cNvSpPr/>
          <p:nvPr/>
        </p:nvSpPr>
        <p:spPr>
          <a:xfrm>
            <a:off x="684360" y="1700280"/>
            <a:ext cx="1800000" cy="12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=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=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未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2843280" y="1916280"/>
            <a:ext cx="465120" cy="1008000"/>
          </a:xfrm>
          <a:custGeom>
            <a:avLst/>
            <a:gdLst>
              <a:gd name="textAreaLeft" fmla="*/ 62280 w 465120"/>
              <a:gd name="textAreaRight" fmla="*/ 402840 w 4651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e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1866960" y="5483160"/>
            <a:ext cx="466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539640" y="1844640"/>
            <a:ext cx="7920000" cy="3094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539640" y="1989000"/>
                <a:ext cx="78231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</m:e>
                        </m:rad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1155600" y="3141720"/>
                <a:ext cx="49291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其中，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Rectangle 5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/>
          <p:cNvSpPr/>
          <p:nvPr/>
        </p:nvSpPr>
        <p:spPr>
          <a:xfrm>
            <a:off x="468360" y="1773360"/>
            <a:ext cx="7343640" cy="718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399960" y="18442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二 、两个总体方差比的置信区间估计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658520" y="299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由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17928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6"/>
              <p:cNvSpPr txBox="1"/>
              <p:nvPr/>
            </p:nvSpPr>
            <p:spPr>
              <a:xfrm>
                <a:off x="2743200" y="2565360"/>
                <a:ext cx="316872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，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Rectangle 7"/>
          <p:cNvSpPr/>
          <p:nvPr/>
        </p:nvSpPr>
        <p:spPr>
          <a:xfrm>
            <a:off x="0" y="36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666720" y="4194000"/>
                <a:ext cx="8008920" cy="17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，</m:t>
                    </m:r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，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，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Rectangle 9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900000" y="3067200"/>
            <a:ext cx="7559640" cy="1800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36280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-α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置信度下，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∕σ</a:t>
            </a:r>
            <a:r>
              <a:rPr b="1" lang="en-US" sz="3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的置信区间为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0" y="367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5"/>
              <p:cNvSpPr txBox="1"/>
              <p:nvPr/>
            </p:nvSpPr>
            <p:spPr>
              <a:xfrm>
                <a:off x="1547640" y="3284640"/>
                <a:ext cx="576108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，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，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，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7" name="Rectangle 7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826920" y="3860640"/>
            <a:ext cx="5257800" cy="2089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828720" y="1987920"/>
            <a:ext cx="6335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 两个总体比例之差的区间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828720" y="2696040"/>
            <a:ext cx="7488360" cy="92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两个总体比例分别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为了估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分别从两个总体中各随机抽取容量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随机样本，并计算两个样本的比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6"/>
              <p:cNvSpPr txBox="1"/>
              <p:nvPr/>
            </p:nvSpPr>
            <p:spPr>
              <a:xfrm>
                <a:off x="1476360" y="4005360"/>
                <a:ext cx="431964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，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Rectangle 7"/>
          <p:cNvSpPr/>
          <p:nvPr/>
        </p:nvSpPr>
        <p:spPr>
          <a:xfrm>
            <a:off x="900000" y="836640"/>
            <a:ext cx="5883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826920" y="4292640"/>
            <a:ext cx="7417080" cy="115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1258920" y="3355920"/>
            <a:ext cx="6697800" cy="72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1547640" y="2205000"/>
            <a:ext cx="4319640" cy="93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2191680" y="246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7"/>
              <p:cNvSpPr txBox="1"/>
              <p:nvPr/>
            </p:nvSpPr>
            <p:spPr>
              <a:xfrm>
                <a:off x="3132000" y="2276640"/>
                <a:ext cx="22320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Rectangle 8"/>
          <p:cNvSpPr/>
          <p:nvPr/>
        </p:nvSpPr>
        <p:spPr>
          <a:xfrm>
            <a:off x="1403280" y="3366360"/>
            <a:ext cx="561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10"/>
              <p:cNvSpPr txBox="1"/>
              <p:nvPr/>
            </p:nvSpPr>
            <p:spPr>
              <a:xfrm>
                <a:off x="923760" y="4402080"/>
                <a:ext cx="72946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，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Rectangle 11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1908000" y="5497560"/>
            <a:ext cx="4032360" cy="720720"/>
          </a:xfrm>
          <a:prstGeom prst="rect">
            <a:avLst/>
          </a:prstGeom>
          <a:solidFill>
            <a:srgbClr val="ccffff"/>
          </a:solidFill>
          <a:ln w="7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35040" y="163980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]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减肥用品公司对其所作的报纸广告在两个城市的效果进行了比较，其分别从两个城市中随机抽取了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成年人，其中看过该广告的比例分别为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       ,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求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城市中看过该广告的成年人比例之差的置信度为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4"/>
              <p:cNvSpPr txBox="1"/>
              <p:nvPr/>
            </p:nvSpPr>
            <p:spPr>
              <a:xfrm>
                <a:off x="5940360" y="3119400"/>
                <a:ext cx="1224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5"/>
              <p:cNvSpPr txBox="1"/>
              <p:nvPr/>
            </p:nvSpPr>
            <p:spPr>
              <a:xfrm>
                <a:off x="7500960" y="3068640"/>
                <a:ext cx="11034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8" name="Rectangle 6"/>
          <p:cNvSpPr/>
          <p:nvPr/>
        </p:nvSpPr>
        <p:spPr>
          <a:xfrm>
            <a:off x="1116000" y="4355280"/>
            <a:ext cx="41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：由于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均为大样本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1821240" y="4771080"/>
            <a:ext cx="339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α=0.9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α/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.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8"/>
              <p:cNvSpPr txBox="1"/>
              <p:nvPr/>
            </p:nvSpPr>
            <p:spPr>
              <a:xfrm>
                <a:off x="1908000" y="5516640"/>
                <a:ext cx="4032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1" name="Picture 9" descr="MCj03835500000[1]"/>
          <p:cNvPicPr/>
          <p:nvPr/>
        </p:nvPicPr>
        <p:blipFill>
          <a:blip r:embed="rId1"/>
          <a:stretch/>
        </p:blipFill>
        <p:spPr>
          <a:xfrm>
            <a:off x="6372360" y="4437000"/>
            <a:ext cx="730080" cy="16048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10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Oval 2"/>
          <p:cNvSpPr/>
          <p:nvPr/>
        </p:nvSpPr>
        <p:spPr>
          <a:xfrm>
            <a:off x="1547640" y="2060640"/>
            <a:ext cx="6337440" cy="1584360"/>
          </a:xfrm>
          <a:prstGeom prst="ellipse">
            <a:avLst/>
          </a:prstGeom>
          <a:solidFill>
            <a:srgbClr val="ccffff"/>
          </a:solidFill>
          <a:ln w="7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1219320" y="1674000"/>
            <a:ext cx="285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5"/>
              <p:cNvSpPr txBox="1"/>
              <p:nvPr/>
            </p:nvSpPr>
            <p:spPr>
              <a:xfrm>
                <a:off x="1835280" y="2550960"/>
                <a:ext cx="56894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r>
                      <m:t xml:space="preserve">∓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5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7" name="Rectangle 6"/>
          <p:cNvSpPr/>
          <p:nvPr/>
        </p:nvSpPr>
        <p:spPr>
          <a:xfrm>
            <a:off x="1260360" y="3986640"/>
            <a:ext cx="691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信度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置信区间为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4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两个正态总体参数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有效估计和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-R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下界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有效估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ramer-Rao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下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635040" y="151596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罗</a:t>
            </a:r>
            <a:r>
              <a:rPr b="1" lang="en-US" sz="3300" spc="-1" strike="noStrike">
                <a:solidFill>
                  <a:srgbClr val="000000"/>
                </a:solidFill>
                <a:latin typeface="华文楷体"/>
              </a:rPr>
              <a:t>—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克拉美不等式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Cramer-Rao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684360" y="2637000"/>
            <a:ext cx="1511280" cy="865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以上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偏估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4"/>
          <p:cNvSpPr/>
          <p:nvPr/>
        </p:nvSpPr>
        <p:spPr>
          <a:xfrm>
            <a:off x="2627280" y="2852640"/>
            <a:ext cx="3313080" cy="360360"/>
          </a:xfrm>
          <a:custGeom>
            <a:avLst/>
            <a:gdLst>
              <a:gd name="textAreaLeft" fmla="*/ 414000 w 3313080"/>
              <a:gd name="textAreaRight" fmla="*/ 2899080 w 3313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5"/>
          <p:cNvSpPr/>
          <p:nvPr/>
        </p:nvSpPr>
        <p:spPr>
          <a:xfrm>
            <a:off x="2987640" y="2205000"/>
            <a:ext cx="2089080" cy="5763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最小方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5940360" y="2565360"/>
            <a:ext cx="259236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小方差无偏估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684360" y="4653000"/>
            <a:ext cx="1584000" cy="57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估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2916360" y="4653000"/>
            <a:ext cx="244764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2843280" y="4076640"/>
            <a:ext cx="2592360" cy="504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拉美不等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10"/>
          <p:cNvSpPr/>
          <p:nvPr/>
        </p:nvSpPr>
        <p:spPr>
          <a:xfrm>
            <a:off x="5580000" y="3573360"/>
            <a:ext cx="1150920" cy="2233800"/>
          </a:xfrm>
          <a:custGeom>
            <a:avLst/>
            <a:gdLst>
              <a:gd name="textAreaLeft" fmla="*/ 0 w 1150920"/>
              <a:gd name="textAreaRight" fmla="*/ 1151280 w 1150920"/>
              <a:gd name="textAreaTop" fmla="*/ 558360 h 2233800"/>
              <a:gd name="textAreaBottom" fmla="*/ 1675440 h 2233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5148360" y="6022800"/>
            <a:ext cx="2160360" cy="71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最佳无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两种基本的点估计方法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6500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矩估计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Moment Estima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极大似然估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Maximum Likelihood estima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多项分布的极大似然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极大似然估计的渐进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极大似然估计的置信区间解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826920" y="2205000"/>
            <a:ext cx="7274160" cy="3456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2"/>
          <p:cNvSpPr/>
          <p:nvPr/>
        </p:nvSpPr>
        <p:spPr>
          <a:xfrm rot="11810400">
            <a:off x="1933560" y="3257280"/>
            <a:ext cx="4392720" cy="1655640"/>
          </a:xfrm>
          <a:prstGeom prst="cloudCallout">
            <a:avLst>
              <a:gd name="adj1" fmla="val -63407"/>
              <a:gd name="adj2" fmla="val -471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635040" y="1545840"/>
            <a:ext cx="8113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罗</a:t>
            </a:r>
            <a:r>
              <a:rPr b="1" lang="en-US" sz="3100" spc="-1" strike="noStrike">
                <a:solidFill>
                  <a:srgbClr val="000000"/>
                </a:solidFill>
                <a:latin typeface="华文楷体"/>
              </a:rPr>
              <a:t>—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克拉美不等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对于一个无偏估计量   的方差          在分布为正则的条件下，其方差不会小于一个正数，这个正数是       的下限，它依赖于总体的概率密度函数和样本量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4"/>
              <p:cNvSpPr txBox="1"/>
              <p:nvPr/>
            </p:nvSpPr>
            <p:spPr>
              <a:xfrm>
                <a:off x="6302520" y="5502240"/>
                <a:ext cx="279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5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6"/>
              <p:cNvSpPr txBox="1"/>
              <p:nvPr/>
            </p:nvSpPr>
            <p:spPr>
              <a:xfrm>
                <a:off x="5221440" y="2060640"/>
                <a:ext cx="25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5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8"/>
              <p:cNvSpPr txBox="1"/>
              <p:nvPr/>
            </p:nvSpPr>
            <p:spPr>
              <a:xfrm>
                <a:off x="6694560" y="1987560"/>
                <a:ext cx="1046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10"/>
              <p:cNvSpPr txBox="1"/>
              <p:nvPr/>
            </p:nvSpPr>
            <p:spPr>
              <a:xfrm>
                <a:off x="3841920" y="3009960"/>
                <a:ext cx="874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13"/>
              <p:cNvSpPr txBox="1"/>
              <p:nvPr/>
            </p:nvSpPr>
            <p:spPr>
              <a:xfrm>
                <a:off x="2916360" y="4221000"/>
                <a:ext cx="431460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θ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04" name="Picture 14" descr="MCj02511250000[1]"/>
          <p:cNvPicPr/>
          <p:nvPr/>
        </p:nvPicPr>
        <p:blipFill>
          <a:blip r:embed="rId1"/>
          <a:stretch/>
        </p:blipFill>
        <p:spPr>
          <a:xfrm>
            <a:off x="7740720" y="4076640"/>
            <a:ext cx="1211040" cy="12956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15"/>
          <p:cNvSpPr/>
          <p:nvPr/>
        </p:nvSpPr>
        <p:spPr>
          <a:xfrm>
            <a:off x="612720" y="5629320"/>
            <a:ext cx="7775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：当      等于不等式右端时，这时称   为最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偏估计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16"/>
              <p:cNvSpPr txBox="1"/>
              <p:nvPr/>
            </p:nvSpPr>
            <p:spPr>
              <a:xfrm>
                <a:off x="1619280" y="5626080"/>
                <a:ext cx="901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7" name="Rectangle 17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635040" y="1587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]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　若              ，   是总体均值的最优无偏估计量。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［证］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4"/>
              <p:cNvSpPr txBox="1"/>
              <p:nvPr/>
            </p:nvSpPr>
            <p:spPr>
              <a:xfrm>
                <a:off x="2930400" y="1628640"/>
                <a:ext cx="16257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6"/>
              <p:cNvSpPr txBox="1"/>
              <p:nvPr/>
            </p:nvSpPr>
            <p:spPr>
              <a:xfrm>
                <a:off x="4643280" y="1557360"/>
                <a:ext cx="284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6" name="Group 10"/>
          <p:cNvGrpSpPr/>
          <p:nvPr/>
        </p:nvGrpSpPr>
        <p:grpSpPr>
          <a:xfrm>
            <a:off x="1979640" y="2637000"/>
            <a:ext cx="5761080" cy="3711240"/>
            <a:chOff x="1979640" y="2637000"/>
            <a:chExt cx="5761080" cy="3711240"/>
          </a:xfrm>
        </p:grpSpPr>
        <mc:AlternateContent>
          <mc:Choice xmlns:a14="http://schemas.microsoft.com/office/drawing/2010/main" Requires="a14">
            <p:sp>
              <p:nvSpPr>
                <p:cNvPr id="617" name="Object 11"/>
                <p:cNvSpPr txBox="1"/>
                <p:nvPr/>
              </p:nvSpPr>
              <p:spPr>
                <a:xfrm>
                  <a:off x="2411640" y="2637000"/>
                  <a:ext cx="367164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σ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8" name="Object 12"/>
                <p:cNvSpPr txBox="1"/>
                <p:nvPr/>
              </p:nvSpPr>
              <p:spPr>
                <a:xfrm>
                  <a:off x="1979640" y="3716280"/>
                  <a:ext cx="5761080" cy="11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∴</m:t>
                          </m:r>
                          <m:r>
                            <m:rPr>
                              <m:lit/>
                              <m:nor/>
                            </m:rPr>
                            <m:t xml:space="preserve">　　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σ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　　　　　　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619" name="Object 13"/>
            <p:cNvGraphicFramePr/>
            <p:nvPr/>
          </p:nvGraphicFramePr>
          <p:xfrm>
            <a:off x="2276640" y="4549680"/>
            <a:ext cx="5021280" cy="1798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20" name="Object 1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76640" y="4549680"/>
                      <a:ext cx="5021280" cy="17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1" name="Rectangle 14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5.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充分统计量的概念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Sufficiency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充分统计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因子分解定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Rao-Blackwell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定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AutoShape 4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如何改进你的估计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Rao-Blackwell 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定理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你设计了一个估计     假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一个充分统计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么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等号成立当且仅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4500720" y="1628640"/>
                <a:ext cx="360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5"/>
              <p:cNvSpPr txBox="1"/>
              <p:nvPr/>
            </p:nvSpPr>
            <p:spPr>
              <a:xfrm>
                <a:off x="2700360" y="2112840"/>
                <a:ext cx="1440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6"/>
              <p:cNvSpPr txBox="1"/>
              <p:nvPr/>
            </p:nvSpPr>
            <p:spPr>
              <a:xfrm>
                <a:off x="2268360" y="2781360"/>
                <a:ext cx="34452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7"/>
              <p:cNvSpPr txBox="1"/>
              <p:nvPr/>
            </p:nvSpPr>
            <p:spPr>
              <a:xfrm>
                <a:off x="4114800" y="3622680"/>
                <a:ext cx="1465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1332000" y="5010120"/>
            <a:ext cx="151272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3"/>
          <p:cNvSpPr/>
          <p:nvPr/>
        </p:nvSpPr>
        <p:spPr>
          <a:xfrm>
            <a:off x="5797440" y="436248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AutoShape 4"/>
          <p:cNvSpPr/>
          <p:nvPr/>
        </p:nvSpPr>
        <p:spPr>
          <a:xfrm>
            <a:off x="3060720" y="4362480"/>
            <a:ext cx="1655640" cy="36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Oval 5"/>
          <p:cNvSpPr/>
          <p:nvPr/>
        </p:nvSpPr>
        <p:spPr>
          <a:xfrm>
            <a:off x="2557440" y="5443560"/>
            <a:ext cx="2592360" cy="863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6"/>
          <p:cNvSpPr/>
          <p:nvPr/>
        </p:nvSpPr>
        <p:spPr>
          <a:xfrm>
            <a:off x="1258920" y="3257640"/>
            <a:ext cx="1657440" cy="8636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707760" y="1800000"/>
            <a:ext cx="8040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774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无偏性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unbiasednes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设　为总体未知参数　的估计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若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9"/>
              <p:cNvSpPr txBox="1"/>
              <p:nvPr/>
            </p:nvSpPr>
            <p:spPr>
              <a:xfrm>
                <a:off x="1638360" y="2747880"/>
                <a:ext cx="257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6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11"/>
              <p:cNvSpPr txBox="1"/>
              <p:nvPr/>
            </p:nvSpPr>
            <p:spPr>
              <a:xfrm>
                <a:off x="4613400" y="2959200"/>
                <a:ext cx="245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Rectangle 12"/>
          <p:cNvSpPr/>
          <p:nvPr/>
        </p:nvSpPr>
        <p:spPr>
          <a:xfrm>
            <a:off x="828720" y="43279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称　是　的无偏估计量，称　具有无偏性。如果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3"/>
              <p:cNvSpPr txBox="1"/>
              <p:nvPr/>
            </p:nvSpPr>
            <p:spPr>
              <a:xfrm>
                <a:off x="1476360" y="3276720"/>
                <a:ext cx="12952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5"/>
              <p:cNvSpPr txBox="1"/>
              <p:nvPr/>
            </p:nvSpPr>
            <p:spPr>
              <a:xfrm>
                <a:off x="1846440" y="4238640"/>
                <a:ext cx="338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645" name="Rectangle 1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17"/>
              <p:cNvSpPr txBox="1"/>
              <p:nvPr/>
            </p:nvSpPr>
            <p:spPr>
              <a:xfrm>
                <a:off x="5211720" y="4278240"/>
                <a:ext cx="225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64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19"/>
              <p:cNvSpPr txBox="1"/>
              <p:nvPr/>
            </p:nvSpPr>
            <p:spPr>
              <a:xfrm>
                <a:off x="7958160" y="4219560"/>
                <a:ext cx="338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649" name="Rectangle 20"/>
          <p:cNvSpPr/>
          <p:nvPr/>
        </p:nvSpPr>
        <p:spPr>
          <a:xfrm>
            <a:off x="1361520" y="4905360"/>
            <a:ext cx="32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有偏估计量，则它的偏差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21"/>
          <p:cNvSpPr/>
          <p:nvPr/>
        </p:nvSpPr>
        <p:spPr>
          <a:xfrm>
            <a:off x="2688840" y="56584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23"/>
              <p:cNvSpPr txBox="1"/>
              <p:nvPr/>
            </p:nvSpPr>
            <p:spPr>
              <a:xfrm>
                <a:off x="3565440" y="5443560"/>
                <a:ext cx="1584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（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rPr>
                        <m:lit/>
                        <m:nor/>
                      </m:rPr>
                      <m:t xml:space="preserve">）－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24"/>
              <p:cNvSpPr txBox="1"/>
              <p:nvPr/>
            </p:nvSpPr>
            <p:spPr>
              <a:xfrm>
                <a:off x="2424240" y="4419720"/>
                <a:ext cx="269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Rectangle 25"/>
          <p:cNvSpPr/>
          <p:nvPr/>
        </p:nvSpPr>
        <p:spPr>
          <a:xfrm>
            <a:off x="61128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AutoShape 2"/>
          <p:cNvSpPr/>
          <p:nvPr/>
        </p:nvSpPr>
        <p:spPr>
          <a:xfrm>
            <a:off x="576360" y="2343240"/>
            <a:ext cx="468000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AutoShape 3"/>
          <p:cNvSpPr/>
          <p:nvPr/>
        </p:nvSpPr>
        <p:spPr>
          <a:xfrm>
            <a:off x="576360" y="3135240"/>
            <a:ext cx="7993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6"/>
              <p:cNvSpPr txBox="1"/>
              <p:nvPr/>
            </p:nvSpPr>
            <p:spPr>
              <a:xfrm>
                <a:off x="1152360" y="2416320"/>
                <a:ext cx="1187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7"/>
              <p:cNvSpPr txBox="1"/>
              <p:nvPr/>
            </p:nvSpPr>
            <p:spPr>
              <a:xfrm>
                <a:off x="2664000" y="2416320"/>
                <a:ext cx="2854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61" name="Rectangle 8"/>
          <p:cNvSpPr/>
          <p:nvPr/>
        </p:nvSpPr>
        <p:spPr>
          <a:xfrm>
            <a:off x="3791880" y="241524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无偏性。</a:t>
            </a:r>
            <a:r>
              <a:rPr b="1" lang="zh-CN" sz="1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025720" y="2462040"/>
            <a:ext cx="10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295280" y="327852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195640" y="321300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6" name="Rectangle 13"/>
          <p:cNvSpPr/>
          <p:nvPr/>
        </p:nvSpPr>
        <p:spPr>
          <a:xfrm>
            <a:off x="36360" y="374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14"/>
              <p:cNvSpPr txBox="1"/>
              <p:nvPr/>
            </p:nvSpPr>
            <p:spPr>
              <a:xfrm>
                <a:off x="4786200" y="3246480"/>
                <a:ext cx="1650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8" name="Rectangle 15"/>
          <p:cNvSpPr/>
          <p:nvPr/>
        </p:nvSpPr>
        <p:spPr>
          <a:xfrm>
            <a:off x="4537080" y="320724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6"/>
              <p:cNvSpPr txBox="1"/>
              <p:nvPr/>
            </p:nvSpPr>
            <p:spPr>
              <a:xfrm>
                <a:off x="6427800" y="3271680"/>
                <a:ext cx="390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0" name="Rectangle 17"/>
          <p:cNvSpPr/>
          <p:nvPr/>
        </p:nvSpPr>
        <p:spPr>
          <a:xfrm>
            <a:off x="6696000" y="327852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无偏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Picture 18" descr="j0299125"/>
          <p:cNvPicPr/>
          <p:nvPr/>
        </p:nvPicPr>
        <p:blipFill>
          <a:blip r:embed="rId1"/>
          <a:stretch/>
        </p:blipFill>
        <p:spPr>
          <a:xfrm>
            <a:off x="395280" y="4653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19"/>
          <p:cNvSpPr/>
          <p:nvPr/>
        </p:nvSpPr>
        <p:spPr>
          <a:xfrm>
            <a:off x="179280" y="692280"/>
            <a:ext cx="5883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20"/>
          <p:cNvSpPr/>
          <p:nvPr/>
        </p:nvSpPr>
        <p:spPr>
          <a:xfrm>
            <a:off x="1042920" y="4364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   的无偏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21"/>
              <p:cNvSpPr txBox="1"/>
              <p:nvPr/>
            </p:nvSpPr>
            <p:spPr>
              <a:xfrm>
                <a:off x="2195640" y="4468680"/>
                <a:ext cx="3585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5" name="Picture 22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23353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1771560" y="2803680"/>
            <a:ext cx="3743280" cy="79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714240" y="1825200"/>
            <a:ext cx="77724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一致性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enc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对任意小的正数，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5"/>
              <p:cNvSpPr txBox="1"/>
              <p:nvPr/>
            </p:nvSpPr>
            <p:spPr>
              <a:xfrm>
                <a:off x="1908000" y="2852640"/>
                <a:ext cx="44643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P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θ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6"/>
              <p:cNvSpPr txBox="1"/>
              <p:nvPr/>
            </p:nvSpPr>
            <p:spPr>
              <a:xfrm>
                <a:off x="5011560" y="3522600"/>
                <a:ext cx="324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7"/>
              <p:cNvSpPr txBox="1"/>
              <p:nvPr/>
            </p:nvSpPr>
            <p:spPr>
              <a:xfrm>
                <a:off x="2130480" y="3738600"/>
                <a:ext cx="342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8"/>
              <p:cNvSpPr txBox="1"/>
              <p:nvPr/>
            </p:nvSpPr>
            <p:spPr>
              <a:xfrm>
                <a:off x="1555920" y="3522600"/>
                <a:ext cx="323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9"/>
              <p:cNvSpPr txBox="1"/>
              <p:nvPr/>
            </p:nvSpPr>
            <p:spPr>
              <a:xfrm>
                <a:off x="979560" y="4314960"/>
                <a:ext cx="7920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sSup>
                      <m:e>
                        <m:r>
                          <m:t xml:space="preserve">与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4" name="Rectangle 10"/>
          <p:cNvSpPr/>
          <p:nvPr/>
        </p:nvSpPr>
        <p:spPr>
          <a:xfrm>
            <a:off x="960120" y="3737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1"/>
          <p:cNvSpPr/>
          <p:nvPr/>
        </p:nvSpPr>
        <p:spPr>
          <a:xfrm>
            <a:off x="1763640" y="3762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2"/>
          <p:cNvSpPr/>
          <p:nvPr/>
        </p:nvSpPr>
        <p:spPr>
          <a:xfrm flipV="1" rot="10800000">
            <a:off x="2419200" y="373716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致估计量，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3"/>
          <p:cNvSpPr/>
          <p:nvPr/>
        </p:nvSpPr>
        <p:spPr>
          <a:xfrm>
            <a:off x="5991480" y="3737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一致性，可以证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4"/>
          <p:cNvSpPr/>
          <p:nvPr/>
        </p:nvSpPr>
        <p:spPr>
          <a:xfrm>
            <a:off x="2770920" y="43138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具有一致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Picture 15" descr="j0251301"/>
          <p:cNvPicPr/>
          <p:nvPr/>
        </p:nvPicPr>
        <p:blipFill>
          <a:blip r:embed="rId1"/>
          <a:stretch/>
        </p:blipFill>
        <p:spPr>
          <a:xfrm>
            <a:off x="7604280" y="5322960"/>
            <a:ext cx="912600" cy="77004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16"/>
          <p:cNvSpPr/>
          <p:nvPr/>
        </p:nvSpPr>
        <p:spPr>
          <a:xfrm>
            <a:off x="250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AutoShape 2"/>
          <p:cNvSpPr/>
          <p:nvPr/>
        </p:nvSpPr>
        <p:spPr>
          <a:xfrm>
            <a:off x="4451400" y="3621240"/>
            <a:ext cx="2736720" cy="720720"/>
          </a:xfrm>
          <a:prstGeom prst="parallelogram">
            <a:avLst>
              <a:gd name="adj" fmla="val 9493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AutoShape 3"/>
          <p:cNvSpPr/>
          <p:nvPr/>
        </p:nvSpPr>
        <p:spPr>
          <a:xfrm>
            <a:off x="1209600" y="3187800"/>
            <a:ext cx="2089080" cy="1728720"/>
          </a:xfrm>
          <a:prstGeom prst="parallelogram">
            <a:avLst>
              <a:gd name="adj" fmla="val 30211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801360" y="16347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有效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5"/>
              <p:cNvSpPr txBox="1"/>
              <p:nvPr/>
            </p:nvSpPr>
            <p:spPr>
              <a:xfrm>
                <a:off x="1919160" y="2016000"/>
                <a:ext cx="990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θ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与</m:t>
                    </m:r>
                    <m:sSub>
                      <m:e>
                        <m:limUpp>
                          <m:e>
                            <m:r>
                              <m:t xml:space="preserve">θ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6"/>
              <p:cNvSpPr txBox="1"/>
              <p:nvPr/>
            </p:nvSpPr>
            <p:spPr>
              <a:xfrm>
                <a:off x="3443400" y="2097000"/>
                <a:ext cx="360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7"/>
              <p:cNvSpPr txBox="1"/>
              <p:nvPr/>
            </p:nvSpPr>
            <p:spPr>
              <a:xfrm>
                <a:off x="1450800" y="3187800"/>
                <a:ext cx="18799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limUpp>
                                  <m:e>
                                    <m:r>
                                      <m:t xml:space="preserve">θ</m:t>
                                    </m:r>
                                  </m:e>
                                  <m:lim/>
                                </m:limUpp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limUpp>
                                  <m:e>
                                    <m:r>
                                      <m:t xml:space="preserve">θ</m:t>
                                    </m:r>
                                  </m:e>
                                  <m:lim/>
                                </m:limUpp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＜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8"/>
              <p:cNvSpPr txBox="1"/>
              <p:nvPr/>
            </p:nvSpPr>
            <p:spPr>
              <a:xfrm>
                <a:off x="4741920" y="3763800"/>
                <a:ext cx="21542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＜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8" name="Rectangle 9"/>
          <p:cNvSpPr/>
          <p:nvPr/>
        </p:nvSpPr>
        <p:spPr>
          <a:xfrm>
            <a:off x="1488240" y="210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2847600" y="210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4150080" y="2107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无偏估计量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3650400" y="3762720"/>
            <a:ext cx="668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13"/>
          <p:cNvSpPr/>
          <p:nvPr/>
        </p:nvSpPr>
        <p:spPr>
          <a:xfrm>
            <a:off x="5727240" y="5132160"/>
            <a:ext cx="216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</a:t>
            </a:r>
            <a:r>
              <a:rPr b="1" lang="en-US" sz="1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14"/>
              <p:cNvSpPr txBox="1"/>
              <p:nvPr/>
            </p:nvSpPr>
            <p:spPr>
              <a:xfrm>
                <a:off x="2362320" y="5276880"/>
                <a:ext cx="330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θ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5"/>
              <p:cNvSpPr txBox="1"/>
              <p:nvPr/>
            </p:nvSpPr>
            <p:spPr>
              <a:xfrm>
                <a:off x="3225960" y="5276880"/>
                <a:ext cx="347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θ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5" name="Rectangle 16"/>
          <p:cNvSpPr/>
          <p:nvPr/>
        </p:nvSpPr>
        <p:spPr>
          <a:xfrm>
            <a:off x="1695240" y="534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2785320" y="534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4514040" y="53470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有效估计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19" descr="j0251301"/>
          <p:cNvPicPr/>
          <p:nvPr/>
        </p:nvPicPr>
        <p:blipFill>
          <a:blip r:embed="rId1"/>
          <a:stretch/>
        </p:blipFill>
        <p:spPr>
          <a:xfrm>
            <a:off x="7451640" y="5180040"/>
            <a:ext cx="912960" cy="77004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21"/>
              <p:cNvSpPr txBox="1"/>
              <p:nvPr/>
            </p:nvSpPr>
            <p:spPr>
              <a:xfrm>
                <a:off x="1714680" y="5875200"/>
                <a:ext cx="22032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较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为μ</m:t>
                    </m:r>
                    <m:r>
                      <m:t xml:space="preserve">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Text Box 22"/>
          <p:cNvSpPr/>
          <p:nvPr/>
        </p:nvSpPr>
        <p:spPr>
          <a:xfrm>
            <a:off x="3946680" y="59245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有效估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395280" y="765000"/>
            <a:ext cx="5883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AutoShape 2"/>
          <p:cNvSpPr/>
          <p:nvPr/>
        </p:nvSpPr>
        <p:spPr>
          <a:xfrm>
            <a:off x="1619280" y="5156280"/>
            <a:ext cx="5040360" cy="1008000"/>
          </a:xfrm>
          <a:prstGeom prst="leftArrowCallout">
            <a:avLst>
              <a:gd name="adj1" fmla="val 25002"/>
              <a:gd name="adj2" fmla="val 25000"/>
              <a:gd name="adj3" fmla="val 83339"/>
              <a:gd name="adj4" fmla="val 66673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2987640" y="1844640"/>
                <a:ext cx="3024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6"/>
              <p:cNvSpPr txBox="1"/>
              <p:nvPr/>
            </p:nvSpPr>
            <p:spPr>
              <a:xfrm>
                <a:off x="2771640" y="2637000"/>
                <a:ext cx="525636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num>
                              <m:den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Rectangle 7"/>
          <p:cNvSpPr/>
          <p:nvPr/>
        </p:nvSpPr>
        <p:spPr>
          <a:xfrm>
            <a:off x="1832760" y="3571920"/>
            <a:ext cx="25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罗</a:t>
            </a:r>
            <a:r>
              <a:rPr b="1" lang="en-US" sz="24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拉美下限值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9"/>
              <p:cNvSpPr txBox="1"/>
              <p:nvPr/>
            </p:nvSpPr>
            <p:spPr>
              <a:xfrm>
                <a:off x="2987640" y="3933720"/>
                <a:ext cx="2879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10"/>
              <p:cNvSpPr txBox="1"/>
              <p:nvPr/>
            </p:nvSpPr>
            <p:spPr>
              <a:xfrm>
                <a:off x="2050920" y="5516640"/>
                <a:ext cx="3603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11"/>
              <p:cNvSpPr txBox="1"/>
              <p:nvPr/>
            </p:nvSpPr>
            <p:spPr>
              <a:xfrm>
                <a:off x="2657520" y="5295960"/>
                <a:ext cx="530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Object 12"/>
              <p:cNvSpPr txBox="1"/>
              <p:nvPr/>
            </p:nvSpPr>
            <p:spPr>
              <a:xfrm>
                <a:off x="3708360" y="5538960"/>
                <a:ext cx="378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Rectangle 1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14"/>
          <p:cNvSpPr/>
          <p:nvPr/>
        </p:nvSpPr>
        <p:spPr>
          <a:xfrm>
            <a:off x="1333800" y="515556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15"/>
          <p:cNvSpPr/>
          <p:nvPr/>
        </p:nvSpPr>
        <p:spPr>
          <a:xfrm>
            <a:off x="3274920" y="54439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16"/>
          <p:cNvSpPr/>
          <p:nvPr/>
        </p:nvSpPr>
        <p:spPr>
          <a:xfrm>
            <a:off x="4424040" y="544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佳无偏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Picture 17" descr="j0251301"/>
          <p:cNvPicPr/>
          <p:nvPr/>
        </p:nvPicPr>
        <p:blipFill>
          <a:blip r:embed="rId1"/>
          <a:stretch/>
        </p:blipFill>
        <p:spPr>
          <a:xfrm>
            <a:off x="1332000" y="2131920"/>
            <a:ext cx="912600" cy="77004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18"/>
          <p:cNvSpPr/>
          <p:nvPr/>
        </p:nvSpPr>
        <p:spPr>
          <a:xfrm>
            <a:off x="1258920" y="83664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衡量估计量优劣的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小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点估计的基本概念与常用求解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置信区间估计的概念与应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两种基本的点估计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有效估计和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-R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下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充分统计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160200" y="1809720"/>
            <a:ext cx="8534520" cy="523800"/>
            <a:chOff x="160200" y="1809720"/>
            <a:chExt cx="8534520" cy="523800"/>
          </a:xfrm>
        </p:grpSpPr>
        <p:sp>
          <p:nvSpPr>
            <p:cNvPr id="67" name="Text Box 3"/>
            <p:cNvSpPr/>
            <p:nvPr/>
          </p:nvSpPr>
          <p:spPr>
            <a:xfrm>
              <a:off x="160200" y="1814400"/>
              <a:ext cx="85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    是一随机变量，                           是它的一个样本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8" name="Object 4"/>
            <p:cNvGraphicFramePr/>
            <p:nvPr/>
          </p:nvGraphicFramePr>
          <p:xfrm>
            <a:off x="477720" y="1850760"/>
            <a:ext cx="406440" cy="37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7720" y="1850760"/>
                      <a:ext cx="40644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Object 5"/>
            <p:cNvGraphicFramePr/>
            <p:nvPr/>
          </p:nvGraphicFramePr>
          <p:xfrm>
            <a:off x="2997360" y="1809720"/>
            <a:ext cx="2031840" cy="523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97360" y="1809720"/>
                      <a:ext cx="203184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" name="Group 6"/>
          <p:cNvGrpSpPr/>
          <p:nvPr/>
        </p:nvGrpSpPr>
        <p:grpSpPr>
          <a:xfrm>
            <a:off x="162000" y="3608280"/>
            <a:ext cx="6526080" cy="1081080"/>
            <a:chOff x="162000" y="3608280"/>
            <a:chExt cx="6526080" cy="1081080"/>
          </a:xfrm>
        </p:grpSpPr>
        <p:graphicFrame>
          <p:nvGraphicFramePr>
            <p:cNvPr id="73" name="Object 7"/>
            <p:cNvGraphicFramePr/>
            <p:nvPr/>
          </p:nvGraphicFramePr>
          <p:xfrm>
            <a:off x="566640" y="3608280"/>
            <a:ext cx="2160360" cy="10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6640" y="3608280"/>
                      <a:ext cx="216036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Text Box 8"/>
            <p:cNvSpPr/>
            <p:nvPr/>
          </p:nvSpPr>
          <p:spPr>
            <a:xfrm>
              <a:off x="162000" y="3916080"/>
              <a:ext cx="652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称                            为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样本的     阶原点矩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6" name="Object 9"/>
            <p:cNvGraphicFramePr/>
            <p:nvPr/>
          </p:nvGraphicFramePr>
          <p:xfrm>
            <a:off x="3941640" y="3877920"/>
            <a:ext cx="352080" cy="4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7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41640" y="3877920"/>
                      <a:ext cx="35208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" name="Group 10"/>
          <p:cNvGrpSpPr/>
          <p:nvPr/>
        </p:nvGrpSpPr>
        <p:grpSpPr>
          <a:xfrm>
            <a:off x="160200" y="2328840"/>
            <a:ext cx="8758440" cy="650880"/>
            <a:chOff x="160200" y="2328840"/>
            <a:chExt cx="8758440" cy="650880"/>
          </a:xfrm>
        </p:grpSpPr>
        <p:sp>
          <p:nvSpPr>
            <p:cNvPr id="79" name="Text Box 11"/>
            <p:cNvSpPr/>
            <p:nvPr/>
          </p:nvSpPr>
          <p:spPr>
            <a:xfrm>
              <a:off x="160200" y="2406600"/>
              <a:ext cx="87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若                存在，则称之为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     阶原点矩。记作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" name="Object 12"/>
            <p:cNvGraphicFramePr/>
            <p:nvPr/>
          </p:nvGraphicFramePr>
          <p:xfrm>
            <a:off x="566640" y="2328840"/>
            <a:ext cx="1125720" cy="650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1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6640" y="2328840"/>
                      <a:ext cx="112572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Object 13"/>
            <p:cNvGraphicFramePr/>
            <p:nvPr/>
          </p:nvGraphicFramePr>
          <p:xfrm>
            <a:off x="7137360" y="2394000"/>
            <a:ext cx="406440" cy="563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3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137360" y="2394000"/>
                      <a:ext cx="40644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Object 14"/>
            <p:cNvGraphicFramePr/>
            <p:nvPr/>
          </p:nvGraphicFramePr>
          <p:xfrm>
            <a:off x="4662360" y="2349720"/>
            <a:ext cx="352440" cy="493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5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62360" y="2349720"/>
                      <a:ext cx="3524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6" name="Group 15"/>
          <p:cNvGrpSpPr/>
          <p:nvPr/>
        </p:nvGrpSpPr>
        <p:grpSpPr>
          <a:xfrm>
            <a:off x="179280" y="2924280"/>
            <a:ext cx="9361440" cy="828720"/>
            <a:chOff x="179280" y="2924280"/>
            <a:chExt cx="9361440" cy="828720"/>
          </a:xfrm>
        </p:grpSpPr>
        <p:sp>
          <p:nvSpPr>
            <p:cNvPr id="87" name="Text Box 16"/>
            <p:cNvSpPr/>
            <p:nvPr/>
          </p:nvSpPr>
          <p:spPr>
            <a:xfrm>
              <a:off x="179280" y="3078360"/>
              <a:ext cx="936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若                                  存在，则称之为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     阶中心矩。记作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Object 17"/>
            <p:cNvGraphicFramePr/>
            <p:nvPr/>
          </p:nvGraphicFramePr>
          <p:xfrm>
            <a:off x="539280" y="2924280"/>
            <a:ext cx="2636640" cy="828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9" name="Object 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39280" y="2924280"/>
                      <a:ext cx="263664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Object 18"/>
            <p:cNvGraphicFramePr/>
            <p:nvPr/>
          </p:nvGraphicFramePr>
          <p:xfrm>
            <a:off x="8543520" y="3078360"/>
            <a:ext cx="501480" cy="563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91" name="Object 1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543520" y="3078360"/>
                      <a:ext cx="50148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19"/>
            <p:cNvGraphicFramePr/>
            <p:nvPr/>
          </p:nvGraphicFramePr>
          <p:xfrm>
            <a:off x="5994000" y="3078360"/>
            <a:ext cx="352080" cy="493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93" name="Object 1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94000" y="3078360"/>
                      <a:ext cx="35208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4" name="Group 20"/>
          <p:cNvGrpSpPr/>
          <p:nvPr/>
        </p:nvGrpSpPr>
        <p:grpSpPr>
          <a:xfrm>
            <a:off x="162000" y="4552920"/>
            <a:ext cx="7966080" cy="1081080"/>
            <a:chOff x="162000" y="4552920"/>
            <a:chExt cx="7966080" cy="1081080"/>
          </a:xfrm>
        </p:grpSpPr>
        <p:graphicFrame>
          <p:nvGraphicFramePr>
            <p:cNvPr id="95" name="Object 21"/>
            <p:cNvGraphicFramePr/>
            <p:nvPr/>
          </p:nvGraphicFramePr>
          <p:xfrm>
            <a:off x="554040" y="4552920"/>
            <a:ext cx="3176640" cy="10810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96" name="Object 21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54040" y="4552920"/>
                      <a:ext cx="317664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22"/>
            <p:cNvGraphicFramePr/>
            <p:nvPr/>
          </p:nvGraphicFramePr>
          <p:xfrm>
            <a:off x="4940280" y="4776840"/>
            <a:ext cx="352440" cy="4935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8" name="Object 22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940280" y="4776840"/>
                      <a:ext cx="3524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Text Box 23"/>
            <p:cNvSpPr/>
            <p:nvPr/>
          </p:nvSpPr>
          <p:spPr>
            <a:xfrm>
              <a:off x="162000" y="4814640"/>
              <a:ext cx="79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称                                         为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样本的     阶中心矩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24"/>
          <p:cNvGrpSpPr/>
          <p:nvPr/>
        </p:nvGrpSpPr>
        <p:grpSpPr>
          <a:xfrm>
            <a:off x="2008080" y="5672160"/>
            <a:ext cx="4950000" cy="952560"/>
            <a:chOff x="2008080" y="5672160"/>
            <a:chExt cx="4950000" cy="952560"/>
          </a:xfrm>
        </p:grpSpPr>
        <p:sp>
          <p:nvSpPr>
            <p:cNvPr id="101" name="Rectangle 25"/>
            <p:cNvSpPr/>
            <p:nvPr/>
          </p:nvSpPr>
          <p:spPr>
            <a:xfrm>
              <a:off x="2270160" y="5908680"/>
              <a:ext cx="36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矩法估计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26"/>
            <p:cNvSpPr/>
            <p:nvPr/>
          </p:nvSpPr>
          <p:spPr>
            <a:xfrm>
              <a:off x="2008080" y="5672160"/>
              <a:ext cx="4950000" cy="95256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3" name="Object 27"/>
            <p:cNvGraphicFramePr/>
            <p:nvPr/>
          </p:nvGraphicFramePr>
          <p:xfrm>
            <a:off x="3941640" y="5926320"/>
            <a:ext cx="2637000" cy="563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04" name="Object 2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941640" y="5926320"/>
                      <a:ext cx="263700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28"/>
            <p:cNvGraphicFramePr/>
            <p:nvPr/>
          </p:nvGraphicFramePr>
          <p:xfrm>
            <a:off x="3897360" y="5680080"/>
            <a:ext cx="674640" cy="4874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06" name="Object 2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897360" y="5680080"/>
                      <a:ext cx="67464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Object 29"/>
            <p:cNvGraphicFramePr/>
            <p:nvPr/>
          </p:nvGraphicFramePr>
          <p:xfrm>
            <a:off x="5337000" y="5680080"/>
            <a:ext cx="675000" cy="4874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08" name="Object 29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337000" y="5680080"/>
                      <a:ext cx="67500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Text Box 30"/>
          <p:cNvSpPr/>
          <p:nvPr/>
        </p:nvSpPr>
        <p:spPr>
          <a:xfrm>
            <a:off x="1908000" y="907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3a21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d3a219"/>
                </a:solidFill>
                <a:latin typeface="Times New Roman"/>
              </a:rPr>
              <a:t>） 矩估计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95280" y="33336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点估计的常用方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160200" y="1809720"/>
            <a:ext cx="8534520" cy="523800"/>
            <a:chOff x="160200" y="1809720"/>
            <a:chExt cx="8534520" cy="523800"/>
          </a:xfrm>
        </p:grpSpPr>
        <p:sp>
          <p:nvSpPr>
            <p:cNvPr id="112" name="Text Box 3"/>
            <p:cNvSpPr/>
            <p:nvPr/>
          </p:nvSpPr>
          <p:spPr>
            <a:xfrm>
              <a:off x="160200" y="1814400"/>
              <a:ext cx="85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    是一随机变量，                           是它的一个样本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3" name="Object 4"/>
            <p:cNvGraphicFramePr/>
            <p:nvPr/>
          </p:nvGraphicFramePr>
          <p:xfrm>
            <a:off x="477720" y="1850760"/>
            <a:ext cx="406440" cy="37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7720" y="1850760"/>
                      <a:ext cx="40644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Object 5"/>
            <p:cNvGraphicFramePr/>
            <p:nvPr/>
          </p:nvGraphicFramePr>
          <p:xfrm>
            <a:off x="2997360" y="1809720"/>
            <a:ext cx="2031840" cy="523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97360" y="1809720"/>
                      <a:ext cx="203184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7" name="Group 6"/>
          <p:cNvGrpSpPr/>
          <p:nvPr/>
        </p:nvGrpSpPr>
        <p:grpSpPr>
          <a:xfrm>
            <a:off x="162000" y="3608280"/>
            <a:ext cx="6526080" cy="1081080"/>
            <a:chOff x="162000" y="3608280"/>
            <a:chExt cx="6526080" cy="1081080"/>
          </a:xfrm>
        </p:grpSpPr>
        <p:graphicFrame>
          <p:nvGraphicFramePr>
            <p:cNvPr id="118" name="Object 7"/>
            <p:cNvGraphicFramePr/>
            <p:nvPr/>
          </p:nvGraphicFramePr>
          <p:xfrm>
            <a:off x="566640" y="3608280"/>
            <a:ext cx="2160360" cy="10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6640" y="3608280"/>
                      <a:ext cx="216036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Text Box 8"/>
            <p:cNvSpPr/>
            <p:nvPr/>
          </p:nvSpPr>
          <p:spPr>
            <a:xfrm>
              <a:off x="162000" y="3916080"/>
              <a:ext cx="652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称                            为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样本的     阶原点矩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21" name="Object 9"/>
            <p:cNvGraphicFramePr/>
            <p:nvPr/>
          </p:nvGraphicFramePr>
          <p:xfrm>
            <a:off x="3941640" y="3877920"/>
            <a:ext cx="352080" cy="4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2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41640" y="3877920"/>
                      <a:ext cx="35208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Group 10"/>
          <p:cNvGrpSpPr/>
          <p:nvPr/>
        </p:nvGrpSpPr>
        <p:grpSpPr>
          <a:xfrm>
            <a:off x="160200" y="2328840"/>
            <a:ext cx="8758440" cy="650880"/>
            <a:chOff x="160200" y="2328840"/>
            <a:chExt cx="8758440" cy="650880"/>
          </a:xfrm>
        </p:grpSpPr>
        <p:sp>
          <p:nvSpPr>
            <p:cNvPr id="124" name="Text Box 11"/>
            <p:cNvSpPr/>
            <p:nvPr/>
          </p:nvSpPr>
          <p:spPr>
            <a:xfrm>
              <a:off x="160200" y="2406600"/>
              <a:ext cx="87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若                存在，则称之为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     阶原点矩。记作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25" name="Object 12"/>
            <p:cNvGraphicFramePr/>
            <p:nvPr/>
          </p:nvGraphicFramePr>
          <p:xfrm>
            <a:off x="566640" y="2328840"/>
            <a:ext cx="1125720" cy="650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6640" y="2328840"/>
                      <a:ext cx="112572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Object 13"/>
            <p:cNvGraphicFramePr/>
            <p:nvPr/>
          </p:nvGraphicFramePr>
          <p:xfrm>
            <a:off x="7137360" y="2394000"/>
            <a:ext cx="406440" cy="563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137360" y="2394000"/>
                      <a:ext cx="40644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Object 14"/>
            <p:cNvGraphicFramePr/>
            <p:nvPr/>
          </p:nvGraphicFramePr>
          <p:xfrm>
            <a:off x="4662360" y="2349720"/>
            <a:ext cx="352440" cy="493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0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62360" y="2349720"/>
                      <a:ext cx="3524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1" name="Group 15"/>
          <p:cNvGrpSpPr/>
          <p:nvPr/>
        </p:nvGrpSpPr>
        <p:grpSpPr>
          <a:xfrm>
            <a:off x="179280" y="2924280"/>
            <a:ext cx="9361440" cy="828720"/>
            <a:chOff x="179280" y="2924280"/>
            <a:chExt cx="9361440" cy="828720"/>
          </a:xfrm>
        </p:grpSpPr>
        <p:sp>
          <p:nvSpPr>
            <p:cNvPr id="132" name="Text Box 16"/>
            <p:cNvSpPr/>
            <p:nvPr/>
          </p:nvSpPr>
          <p:spPr>
            <a:xfrm>
              <a:off x="179280" y="3078360"/>
              <a:ext cx="936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若                                  存在，则称之为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     阶中心矩。记作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3" name="Object 17"/>
            <p:cNvGraphicFramePr/>
            <p:nvPr/>
          </p:nvGraphicFramePr>
          <p:xfrm>
            <a:off x="539280" y="2924280"/>
            <a:ext cx="2636640" cy="828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4" name="Object 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39280" y="2924280"/>
                      <a:ext cx="263664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Object 18"/>
            <p:cNvGraphicFramePr/>
            <p:nvPr/>
          </p:nvGraphicFramePr>
          <p:xfrm>
            <a:off x="8543520" y="3078360"/>
            <a:ext cx="501480" cy="563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6" name="Object 1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543520" y="3078360"/>
                      <a:ext cx="50148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Object 19"/>
            <p:cNvGraphicFramePr/>
            <p:nvPr/>
          </p:nvGraphicFramePr>
          <p:xfrm>
            <a:off x="5994000" y="3078360"/>
            <a:ext cx="352080" cy="493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8" name="Object 1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94000" y="3078360"/>
                      <a:ext cx="35208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9" name="Group 20"/>
          <p:cNvGrpSpPr/>
          <p:nvPr/>
        </p:nvGrpSpPr>
        <p:grpSpPr>
          <a:xfrm>
            <a:off x="162000" y="4552920"/>
            <a:ext cx="7966080" cy="1081080"/>
            <a:chOff x="162000" y="4552920"/>
            <a:chExt cx="7966080" cy="1081080"/>
          </a:xfrm>
        </p:grpSpPr>
        <p:graphicFrame>
          <p:nvGraphicFramePr>
            <p:cNvPr id="140" name="Object 21"/>
            <p:cNvGraphicFramePr/>
            <p:nvPr/>
          </p:nvGraphicFramePr>
          <p:xfrm>
            <a:off x="554040" y="4552920"/>
            <a:ext cx="3176640" cy="10810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41" name="Object 21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54040" y="4552920"/>
                      <a:ext cx="317664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Object 22"/>
            <p:cNvGraphicFramePr/>
            <p:nvPr/>
          </p:nvGraphicFramePr>
          <p:xfrm>
            <a:off x="4940280" y="4776840"/>
            <a:ext cx="352440" cy="4935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43" name="Object 22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940280" y="4776840"/>
                      <a:ext cx="3524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Text Box 23"/>
            <p:cNvSpPr/>
            <p:nvPr/>
          </p:nvSpPr>
          <p:spPr>
            <a:xfrm>
              <a:off x="162000" y="4814640"/>
              <a:ext cx="79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称                                         为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样本的     阶中心矩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Group 24"/>
          <p:cNvGrpSpPr/>
          <p:nvPr/>
        </p:nvGrpSpPr>
        <p:grpSpPr>
          <a:xfrm>
            <a:off x="2008080" y="5672160"/>
            <a:ext cx="4950000" cy="952560"/>
            <a:chOff x="2008080" y="5672160"/>
            <a:chExt cx="4950000" cy="952560"/>
          </a:xfrm>
        </p:grpSpPr>
        <p:sp>
          <p:nvSpPr>
            <p:cNvPr id="146" name="Rectangle 25"/>
            <p:cNvSpPr/>
            <p:nvPr/>
          </p:nvSpPr>
          <p:spPr>
            <a:xfrm>
              <a:off x="2270160" y="5908680"/>
              <a:ext cx="36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矩法估计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2008080" y="5672160"/>
              <a:ext cx="4950000" cy="95256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8" name="Object 27"/>
            <p:cNvGraphicFramePr/>
            <p:nvPr/>
          </p:nvGraphicFramePr>
          <p:xfrm>
            <a:off x="3941640" y="5926320"/>
            <a:ext cx="2637000" cy="563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49" name="Object 2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941640" y="5926320"/>
                      <a:ext cx="263700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Object 28"/>
            <p:cNvGraphicFramePr/>
            <p:nvPr/>
          </p:nvGraphicFramePr>
          <p:xfrm>
            <a:off x="3897360" y="5680080"/>
            <a:ext cx="674640" cy="4874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51" name="Object 2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897360" y="5680080"/>
                      <a:ext cx="67464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Object 29"/>
            <p:cNvGraphicFramePr/>
            <p:nvPr/>
          </p:nvGraphicFramePr>
          <p:xfrm>
            <a:off x="5337000" y="5680080"/>
            <a:ext cx="675000" cy="4874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53" name="Object 29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337000" y="5680080"/>
                      <a:ext cx="67500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4" name="Text Box 30"/>
          <p:cNvSpPr/>
          <p:nvPr/>
        </p:nvSpPr>
        <p:spPr>
          <a:xfrm>
            <a:off x="1908000" y="907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3a21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d3a219"/>
                </a:solidFill>
                <a:latin typeface="Times New Roman"/>
              </a:rPr>
              <a:t>） 矩估计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395280" y="333360"/>
            <a:ext cx="58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点估计的常用方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1692360" y="2225520"/>
                <a:ext cx="42004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2484360" y="4653000"/>
                <a:ext cx="432108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，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60440" y="1644480"/>
                <a:ext cx="79279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是包含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个未知参数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，</m:t>
                    </m:r>
                    <m:r>
                      <m:t xml:space="preserve">⋯</m:t>
                    </m:r>
                    <m:r>
                      <m:t xml:space="preserve">，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的联立方程组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698400" y="4035600"/>
                <a:ext cx="67532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从中解出方程组的解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记为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，</m:t>
                    </m:r>
                    <m:r>
                      <m:t xml:space="preserve">⋯</m:t>
                    </m:r>
                    <m:r>
                      <m:t xml:space="preserve">，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0:52:52Z</dcterms:created>
  <dc:creator>Lenovo User</dc:creator>
  <dc:description/>
  <dc:language>en-US</dc:language>
  <cp:lastModifiedBy>Administrators</cp:lastModifiedBy>
  <dcterms:modified xsi:type="dcterms:W3CDTF">2009-03-22T01:13:18Z</dcterms:modified>
  <cp:revision>35</cp:revision>
  <dc:subject/>
  <dc:title>幻灯片 1</dc:title>
</cp:coreProperties>
</file>