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4.wmf" ContentType="image/x-wmf"/>
  <Override PartName="/ppt/media/image92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8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63.wmf" ContentType="image/x-wmf"/>
  <Override PartName="/ppt/media/image200.wmf" ContentType="image/x-wmf"/>
  <Override PartName="/ppt/media/image44.wmf" ContentType="image/x-wmf"/>
  <Override PartName="/ppt/media/image207.wmf" ContentType="image/x-wmf"/>
  <Override PartName="/ppt/media/image154.wmf" ContentType="image/x-wmf"/>
  <Override PartName="/ppt/media/image164.wmf" ContentType="image/x-wmf"/>
  <Override PartName="/ppt/media/image201.wmf" ContentType="image/x-wmf"/>
  <Override PartName="/ppt/media/image45.wmf" ContentType="image/x-wmf"/>
  <Override PartName="/ppt/media/image202.wmf" ContentType="image/x-wmf"/>
  <Override PartName="/ppt/media/image46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153.wmf" ContentType="image/x-wmf"/>
  <Override PartName="/ppt/media/image20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32.wmf" ContentType="image/x-wmf"/>
  <Override PartName="/ppt/media/image169.wmf" ContentType="image/x-wmf"/>
  <Override PartName="/ppt/media/image131.wmf" ContentType="image/x-wmf"/>
  <Override PartName="/ppt/media/image168.wmf" ContentType="image/x-wmf"/>
  <Override PartName="/ppt/media/image130.wmf" ContentType="image/x-wmf"/>
  <Override PartName="/ppt/media/image167.wmf" ContentType="image/x-wmf"/>
  <Override PartName="/ppt/media/image166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52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1.wmf" ContentType="image/x-wmf"/>
  <Override PartName="/ppt/media/image203.wmf" ContentType="image/x-wmf"/>
  <Override PartName="/ppt/media/image47.wmf" ContentType="image/x-wmf"/>
  <Override PartName="/ppt/media/image150.wmf" ContentType="image/x-wmf"/>
  <Override PartName="/ppt/media/image99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10.wmf" ContentType="image/x-wmf"/>
  <Override PartName="/ppt/media/image5.wmf" ContentType="image/x-wmf"/>
  <Override PartName="/ppt/media/image157.wmf" ContentType="image/x-wmf"/>
  <Override PartName="/ppt/media/image3.wmf" ContentType="image/x-wmf"/>
  <Override PartName="/ppt/media/image155.wmf" ContentType="image/x-wmf"/>
  <Override PartName="/ppt/media/image26.wmf" ContentType="image/x-wmf"/>
  <Override PartName="/ppt/media/image94.wmf" ContentType="image/x-wmf"/>
  <Override PartName="/ppt/media/image93.wmf" ContentType="image/x-wmf"/>
  <Override PartName="/ppt/media/image25.wmf" ContentType="image/x-wmf"/>
  <Override PartName="/ppt/media/image4.wmf" ContentType="image/x-wmf"/>
  <Override PartName="/ppt/media/image156.wmf" ContentType="image/x-wmf"/>
  <Override PartName="/ppt/media/image81.wmf" ContentType="image/x-wmf"/>
  <Override PartName="/ppt/media/image13.wmf" ContentType="image/x-wmf"/>
  <Override PartName="/ppt/media/image2.jpeg" ContentType="image/jpeg"/>
  <Override PartName="/ppt/media/image107.wmf" ContentType="image/x-wmf"/>
  <Override PartName="/ppt/media/image175.wmf" ContentType="image/x-wmf"/>
  <Override PartName="/ppt/media/image1.jpeg" ContentType="image/jpeg"/>
  <Override PartName="/ppt/media/image165.wmf" ContentType="image/x-wmf"/>
  <Override PartName="/ppt/media/image57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D0C-2399-45FD-A49F-58F0739D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5AA-CB83-406C-991B-60AE41A4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C08-AF17-419F-93DB-25982E7E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49A-6043-4DEB-ABEF-31061B43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375-3376-4209-97CC-C096D0B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5F9-E572-4BDA-AA10-5BCD632E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E6E-11B7-4A6A-A586-24D10223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642-67F1-475A-B512-EA19198D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8A5-EED7-4ADC-BBA6-1C48D304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FDA-8F70-4530-9C40-4FD4E51C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267-D2D3-4A2A-BD27-C967A98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6DB-2804-4865-9FFC-C29C639C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ACE0-B2C6-400A-B032-C7BD3BC32C6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5.wmf"/><Relationship Id="rId10" Type="http://schemas.openxmlformats.org/officeDocument/2006/relationships/slideLayout" Target="../slideLayouts/slideLayout1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6.wmf"/><Relationship Id="rId3" Type="http://schemas.openxmlformats.org/officeDocument/2006/relationships/slideLayout" Target="../slideLayouts/slideLayout1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7.wmf"/><Relationship Id="rId3" Type="http://schemas.openxmlformats.org/officeDocument/2006/relationships/slideLayout" Target="../slideLayouts/slideLayout1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.wmf"/><Relationship Id="rId1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2.wm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4.wmf"/><Relationship Id="rId8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8.wmf"/><Relationship Id="rId10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3.wmf"/><Relationship Id="rId10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5.wmf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8.wmf"/><Relationship Id="rId8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1.wmf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5.wmf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8.wmf"/><Relationship Id="rId8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0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3.wmf"/><Relationship Id="rId8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7.wmf"/><Relationship Id="rId10" Type="http://schemas.openxmlformats.org/officeDocument/2006/relationships/slideLayout" Target="../slideLayouts/slideLayout1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0.wmf"/><Relationship Id="rId8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3.wmf"/><Relationship Id="rId8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6.wmf"/><Relationship Id="rId8" Type="http://schemas.openxmlformats.org/officeDocument/2006/relationships/slideLayout" Target="../slideLayouts/slideLayout1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9.wmf"/><Relationship Id="rId8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1.wmf"/><Relationship Id="rId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2.wmf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4.wmf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0.wmf"/><Relationship Id="rId10" Type="http://schemas.openxmlformats.org/officeDocument/2006/relationships/slideLayout" Target="../slideLayouts/slideLayout1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3.wmf"/><Relationship Id="rId8" Type="http://schemas.openxmlformats.org/officeDocument/2006/relationships/slideLayout" Target="../slideLayouts/slideLayout8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7.wmf"/><Relationship Id="rId10" Type="http://schemas.openxmlformats.org/officeDocument/2006/relationships/slideLayout" Target="../slideLayouts/slideLayout1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1.wmf"/><Relationship Id="rId10" Type="http://schemas.openxmlformats.org/officeDocument/2006/relationships/slideLayout" Target="../slideLayouts/slideLayout1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3.wmf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4.wmf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6.wmf"/><Relationship Id="rId3" Type="http://schemas.openxmlformats.org/officeDocument/2006/relationships/image" Target="../media/image167.wmf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9.wmf"/><Relationship Id="rId6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1.wmf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2.wmf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4.wmf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6.wmf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7.wmf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0.wmf"/><Relationship Id="rId8" Type="http://schemas.openxmlformats.org/officeDocument/2006/relationships/slideLayout" Target="../slideLayouts/slideLayout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3.wmf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4.wmf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7.wmf"/><Relationship Id="rId8" Type="http://schemas.openxmlformats.org/officeDocument/2006/relationships/slideLayout" Target="../slideLayouts/slideLayout8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2.wmf"/><Relationship Id="rId12" Type="http://schemas.openxmlformats.org/officeDocument/2006/relationships/slideLayout" Target="../slideLayouts/slideLayout1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3.wmf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4.wmf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8.wmf"/><Relationship Id="rId10" Type="http://schemas.openxmlformats.org/officeDocument/2006/relationships/slideLayout" Target="../slideLayouts/slideLayout1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1.wm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21301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第五章 假设检验</a:t>
            </a:r>
            <a:br>
              <a:rPr sz="44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Hypothesis Test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2.Neyman-Pearson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范式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不用贝叶斯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规避了先验概率的决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对两个假设区别对待，一个成为原假设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(null hypotheses)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，另一个成为备择假设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32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(alternative hypothe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由此导致在有些场合下选择原假设的困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：正态分布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684360" y="1557360"/>
          <a:ext cx="4824360" cy="14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557360"/>
                    <a:ext cx="48243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755640" y="3083040"/>
          <a:ext cx="4537080" cy="128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3083040"/>
                    <a:ext cx="453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684360" y="4724280"/>
          <a:ext cx="5832360" cy="497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724280"/>
                    <a:ext cx="583236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4360" y="5396040"/>
          <a:ext cx="6119640" cy="927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396040"/>
                    <a:ext cx="61196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：正态分布，例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23680" y="1628640"/>
            <a:ext cx="20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数据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Levine(1973)</a:t>
            </a: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研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2670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：正态分布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51116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比较配对样本非参数方法，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符号秩检验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signed rank tex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Neyman-Pearson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范式中的术语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类错误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Type I Error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为真的时候拒绝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检验的显著性水平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significance level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第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类错误的概率，通常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II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类错误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Type I Error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为假的时候接受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其概率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检验的功效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power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为假的时候拒绝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其概率记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检验统计量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test 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拒绝域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rejection region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和接受域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acceptance reg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原分布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(null distribution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在原假设为真的条件检验统计量所服从的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43280" y="2492280"/>
          <a:ext cx="43344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492280"/>
                    <a:ext cx="433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564000" y="3284640"/>
          <a:ext cx="350640" cy="46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3284640"/>
                    <a:ext cx="350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843280" y="4199040"/>
          <a:ext cx="755640" cy="45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3280" y="4199040"/>
                    <a:ext cx="755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Neyman-Pearson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引理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(lemma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方差已知的正态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557360"/>
          <a:ext cx="5832360" cy="10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5832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2816280"/>
          <a:ext cx="3276720" cy="4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2816280"/>
                    <a:ext cx="32767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3500280"/>
          <a:ext cx="37450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3500280"/>
                    <a:ext cx="37450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4292640"/>
          <a:ext cx="4537080" cy="19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4292640"/>
                    <a:ext cx="45370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方差已知的正态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1773360"/>
          <a:ext cx="46087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73360"/>
                    <a:ext cx="4608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2708280"/>
          <a:ext cx="5329440" cy="114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2708280"/>
                    <a:ext cx="53294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4076640"/>
          <a:ext cx="2303640" cy="104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4076640"/>
                    <a:ext cx="23036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置信区间和假设检验的对偶关系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773360"/>
          <a:ext cx="3743280" cy="53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73360"/>
                    <a:ext cx="3743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1280" y="2637000"/>
          <a:ext cx="2089080" cy="61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2637000"/>
                    <a:ext cx="2089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492360" y="2637000"/>
          <a:ext cx="2664000" cy="56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92360" y="2637000"/>
                    <a:ext cx="2664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3500280"/>
          <a:ext cx="2520720" cy="598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3500280"/>
                    <a:ext cx="25207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4221000"/>
          <a:ext cx="2952720" cy="532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4221000"/>
                    <a:ext cx="2952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5013360"/>
          <a:ext cx="4896000" cy="554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5013360"/>
                    <a:ext cx="48960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5805360"/>
          <a:ext cx="4248360" cy="577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5805360"/>
                    <a:ext cx="42483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置信区间和假设检验的对偶关系：引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引理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5280" y="2133720"/>
          <a:ext cx="784872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133720"/>
                    <a:ext cx="78487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置信区间和假设检验：引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证明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2720" y="2421000"/>
          <a:ext cx="691200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2421000"/>
                    <a:ext cx="6912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2720" y="3060720"/>
          <a:ext cx="4608720" cy="66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2720" y="3060720"/>
                    <a:ext cx="46087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59240" y="190800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引理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证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1560" y="3892680"/>
            <a:ext cx="23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则按照</a:t>
            </a:r>
            <a:r>
              <a:rPr b="1" i="1" lang="zh-CN" sz="2800" spc="-1" strike="noStrike">
                <a:solidFill>
                  <a:srgbClr val="292929"/>
                </a:solidFill>
                <a:latin typeface="Arial"/>
              </a:rPr>
              <a:t>C(X)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2720" y="4573440"/>
          <a:ext cx="6481800" cy="101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2720" y="4573440"/>
                    <a:ext cx="64818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置信区间和假设检验的对偶关系：引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2133720"/>
          <a:ext cx="741708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133720"/>
                    <a:ext cx="74170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68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引理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00" y="4437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证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55640" y="4941720"/>
          <a:ext cx="7345440" cy="5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4941720"/>
                    <a:ext cx="73454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Generalized Likelihood Ratio Test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6858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似然比检验在对两个简单假设进行检验的时候是最优的。本节介绍的广义似然比检验将能够处理比较复杂的假设形式。其原理和似然比有相似之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3670200"/>
          <a:ext cx="7489800" cy="11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670200"/>
                    <a:ext cx="748980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11280" y="505764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一个比较自然的度量两个假设可信程度的指标是两个假设的似然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5708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假设检验的基本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Neyman-Pearson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范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和假设检验有关的两个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广义似然比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单样本检验的几个实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两个样本的比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实验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61640" y="158112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因为在两个假设中，参数都有多个可能取值，所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在可能的参数集合上取最大值是一个可以考虑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2852640"/>
          <a:ext cx="29527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852640"/>
                    <a:ext cx="2952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03280" y="5340240"/>
          <a:ext cx="2592360" cy="13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5340240"/>
                    <a:ext cx="25923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821960" y="429264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出于数学处理上的考虑，把分母改成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整个参数集合上取最大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差未知正态总体的均值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628640"/>
          <a:ext cx="6408720" cy="18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640872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84360" y="4365720"/>
          <a:ext cx="417672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4365720"/>
                    <a:ext cx="4176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16360" y="4002120"/>
          <a:ext cx="295128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4002120"/>
                    <a:ext cx="2951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08360" y="5516640"/>
          <a:ext cx="4032360" cy="801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5516640"/>
                    <a:ext cx="403236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6" name=""/>
          <p:cNvCxnSpPr/>
          <p:nvPr/>
        </p:nvCxnSpPr>
        <p:spPr>
          <a:xfrm flipH="1" flipV="1" rot="5400000">
            <a:off x="4300920" y="2473920"/>
            <a:ext cx="364320" cy="3420000"/>
          </a:xfrm>
          <a:prstGeom prst="bentConnector3">
            <a:avLst>
              <a:gd name="adj1" fmla="val 162809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7" name=""/>
          <p:cNvCxnSpPr/>
          <p:nvPr/>
        </p:nvCxnSpPr>
        <p:spPr>
          <a:xfrm flipH="1" rot="16200000">
            <a:off x="3812040" y="4406760"/>
            <a:ext cx="872280" cy="2951640"/>
          </a:xfrm>
          <a:prstGeom prst="bentConnector3">
            <a:avLst>
              <a:gd name="adj1" fmla="val 126011"/>
            </a:avLst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差未知正态总体的均值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5280" y="1773360"/>
          <a:ext cx="3889440" cy="135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3360"/>
                    <a:ext cx="388944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932360" y="1700280"/>
          <a:ext cx="3743280" cy="13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1700280"/>
                    <a:ext cx="37432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00000" y="3357720"/>
          <a:ext cx="6408720" cy="105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3357720"/>
                    <a:ext cx="6408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87280" y="4797360"/>
          <a:ext cx="5545440" cy="91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4797360"/>
                    <a:ext cx="55454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义似然比检验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差未知正态总体的均值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31760" y="1639800"/>
          <a:ext cx="7947000" cy="14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760" y="1639800"/>
                    <a:ext cx="794700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多项分布的广义似然比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9600" y="2192400"/>
          <a:ext cx="4929120" cy="14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" y="2192400"/>
                    <a:ext cx="492912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264760" y="16812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虑多项分布的似然比检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95280" y="3789360"/>
          <a:ext cx="8064360" cy="187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789360"/>
                    <a:ext cx="806436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多项分布的广义似然比检验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700280"/>
          <a:ext cx="8425080" cy="51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700280"/>
                    <a:ext cx="84250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421000"/>
          <a:ext cx="6048360" cy="20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2421000"/>
                    <a:ext cx="60483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9640" y="4797360"/>
          <a:ext cx="6408720" cy="162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797360"/>
                    <a:ext cx="6408720" cy="16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64000" y="4581360"/>
          <a:ext cx="2700360" cy="45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4000" y="4581360"/>
                    <a:ext cx="27003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earson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卡方统计量和似然比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700280"/>
          <a:ext cx="720072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7200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468360" y="4322880"/>
            <a:ext cx="68612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证明在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zh-CN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立的条件下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ears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统计量和似然比渐近等价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里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展开做一直观解释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earson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卡方统计量和似然比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11280" y="1700280"/>
          <a:ext cx="345600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3456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284720" y="1916280"/>
          <a:ext cx="4390920" cy="158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1916280"/>
                    <a:ext cx="4390920" cy="15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95280" y="3645000"/>
          <a:ext cx="5977080" cy="98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3645000"/>
                    <a:ext cx="5977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68360" y="4869000"/>
          <a:ext cx="6048360" cy="180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4869000"/>
                    <a:ext cx="604836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Handy-Weinberg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均衡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在参数估计的例子中引入了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Handy-Weinberg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均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11280" y="2349360"/>
          <a:ext cx="6769080" cy="5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349360"/>
                    <a:ext cx="67690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1476360" y="3860640"/>
            <a:ext cx="5040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terial Clump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用显微镜检查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0.01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毫升牛奶中的细菌群的数量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计量方法是每个方格子里的数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看起来用泊松分布是不错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以下数据来自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Bliss and Fisher (195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813564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1332000" y="5734080"/>
          <a:ext cx="172728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5734080"/>
                    <a:ext cx="17272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理解假设检验的直观概念和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Neyman-Pearson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范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了解假设检验方法的可能缺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广义似然比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正态、多项、泊松总体的假设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Hanging Rootogram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和概率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掌握两个独立样本的比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理解实验设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Bacterial Clump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720072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755640" y="3789360"/>
          <a:ext cx="609588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789360"/>
                    <a:ext cx="60958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Fishe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重新检验孟德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Mendel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39640" y="2494080"/>
            <a:ext cx="2519640" cy="2374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564000" y="2494080"/>
            <a:ext cx="2421000" cy="2663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08200" y="1773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现代基因理论的结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59720" y="1773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孟德尔的观测结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227640" y="2492280"/>
            <a:ext cx="144000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971640" y="5516640"/>
          <a:ext cx="208764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5516640"/>
                    <a:ext cx="20876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33560" y="6093000"/>
            <a:ext cx="39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Pearson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卡方统计量＝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0.6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2276640"/>
          <a:ext cx="6985080" cy="15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6985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1463760" y="17002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泊松分布的特点是均值和方差相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84360" y="3933720"/>
          <a:ext cx="7343640" cy="266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933720"/>
                    <a:ext cx="73436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71640" y="1773360"/>
          <a:ext cx="5113080" cy="265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773360"/>
                    <a:ext cx="511308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826920" y="4797360"/>
          <a:ext cx="5473800" cy="13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797360"/>
                    <a:ext cx="54738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59480" y="17208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近似公式可以有如下解释：等于方差估计值除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均值估计值的比率的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9300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泊松分布的方差和均值相等，但一般情况下的数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的方差大于均值。因此这个检验称为散布度检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360" y="414972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比如负二项分布和泊松分布相比就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更大的散布程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6920" y="5445000"/>
          <a:ext cx="6096240" cy="5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5445000"/>
                    <a:ext cx="60962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泊松散布度检验：石棉纤维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泊松散布度检验：细菌菌落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1557360"/>
          <a:ext cx="633708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557360"/>
                    <a:ext cx="633708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940360" y="2637000"/>
          <a:ext cx="2160720" cy="13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0360" y="2637000"/>
                    <a:ext cx="21607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24000" y="4149720"/>
          <a:ext cx="7343640" cy="100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4149720"/>
                    <a:ext cx="73436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84360" y="5300640"/>
          <a:ext cx="5182920" cy="1297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300640"/>
                    <a:ext cx="518292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更多的评估拟合优度的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anging root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Probability p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正态性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nging rootogram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原理：用图象展示观测值和拟合值的直方图之间的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演示数据：来自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Martin, Gudzinowicz and Fanger 1975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，共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1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通常会用正态分布来拟合所得到的数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770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nging rootogram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71640" y="1557360"/>
          <a:ext cx="6769080" cy="16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557360"/>
                    <a:ext cx="67690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116000" y="3357720"/>
          <a:ext cx="4103640" cy="102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3357720"/>
                    <a:ext cx="410364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16000" y="4869000"/>
          <a:ext cx="5832360" cy="105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4869000"/>
                    <a:ext cx="58323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详细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假设检验的基本概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Neyman-Pearson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范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Neyman-Pearson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引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显著性水平的确定和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p-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一致最优检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和假设检验有关的两个问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置信区间和假设检验的对偶关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如何选择原假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广义似然比检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广义似然比方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多项分布的广义似然比检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泊松分布的广义似然比检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单样本检验的几个实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两个样本的比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nging rootogram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68360" y="1700280"/>
          <a:ext cx="849636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8496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ability plot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4000" y="2781360"/>
          <a:ext cx="6696000" cy="26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66960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4448520" y="16905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要对一组数据对某个理论分布的拟合程度进行定性判断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概率图是极为有用的一种图形工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0920" y="5877000"/>
          <a:ext cx="698508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5877000"/>
                    <a:ext cx="6985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ability plot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68360" y="1700280"/>
          <a:ext cx="7128000" cy="11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71280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755640" y="2924280"/>
            <a:ext cx="4537080" cy="3681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429600" y="465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均匀－均匀概率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ability plot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39640" y="1916280"/>
          <a:ext cx="5977080" cy="153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916280"/>
                    <a:ext cx="597708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39640" y="3860640"/>
          <a:ext cx="417672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860640"/>
                    <a:ext cx="41767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39640" y="5373720"/>
          <a:ext cx="6840720" cy="54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5373720"/>
                    <a:ext cx="6840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率图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752720" cy="4392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916240" y="22240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显然这条曲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不是线性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31400" y="60404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均匀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三角概率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率图：概率积分变换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robability integral transformation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4360" y="1844640"/>
          <a:ext cx="705636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844640"/>
                    <a:ext cx="70563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755640" y="3068640"/>
          <a:ext cx="4537080" cy="14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3068640"/>
                    <a:ext cx="45370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826920" y="4732200"/>
          <a:ext cx="2953080" cy="100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4732200"/>
                    <a:ext cx="29530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率图：特定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F(x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00000" y="1773360"/>
          <a:ext cx="309564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73360"/>
                    <a:ext cx="3095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076720" y="1989000"/>
          <a:ext cx="1871640" cy="89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1989000"/>
                    <a:ext cx="18716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971640" y="3789360"/>
          <a:ext cx="2879640" cy="280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789360"/>
                    <a:ext cx="287964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859280" y="4076640"/>
          <a:ext cx="3529080" cy="14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59280" y="4076640"/>
                    <a:ext cx="3529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率图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Michelso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光速测定实验结果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正态性检验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dfd293"/>
                </a:solidFill>
                <a:latin typeface="Arial"/>
              </a:rPr>
              <a:t>假设检验的基本概念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(Hypothesis Testing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硬币猜测游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用似然比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likelihood ratio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和贝叶斯方法处理这个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700280"/>
            <a:ext cx="7772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0" y="4076640"/>
            <a:ext cx="8964720" cy="86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565360"/>
            <a:ext cx="302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面朝上的概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正态性检验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538280" y="1830240"/>
          <a:ext cx="60660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8280" y="1830240"/>
                    <a:ext cx="6066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正态性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(Independent Samples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826920" y="1773360"/>
          <a:ext cx="597708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773360"/>
                    <a:ext cx="5977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900000" y="2852640"/>
          <a:ext cx="5543640" cy="112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2852640"/>
                    <a:ext cx="55436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900000" y="4149720"/>
          <a:ext cx="5472360" cy="55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149720"/>
                    <a:ext cx="5472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826920" y="5084640"/>
          <a:ext cx="5545440" cy="1202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5084640"/>
                    <a:ext cx="5545440" cy="12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已知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11280" y="1628640"/>
          <a:ext cx="5184720" cy="22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628640"/>
                    <a:ext cx="518472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476360" y="4581360"/>
          <a:ext cx="4038480" cy="105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581360"/>
                    <a:ext cx="4038480" cy="10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4360" y="1916280"/>
          <a:ext cx="6264000" cy="17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16280"/>
                    <a:ext cx="62640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859280" y="2708280"/>
          <a:ext cx="3529080" cy="7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2708280"/>
                    <a:ext cx="35290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539640" y="4149720"/>
          <a:ext cx="7777440" cy="208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149720"/>
                    <a:ext cx="777744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39640" y="2276640"/>
          <a:ext cx="5037120" cy="24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503712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806040" y="1700280"/>
            <a:ext cx="124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定理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的证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48360" y="256536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统计量可以表示为</a:t>
            </a:r>
            <a:r>
              <a:rPr b="0" i="1" lang="zh-CN" sz="2400" spc="-1" strike="noStrike">
                <a:solidFill>
                  <a:srgbClr val="800000"/>
                </a:solidFill>
                <a:latin typeface="Arial"/>
              </a:rPr>
              <a:t>U/V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1280" y="501336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U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服从标准正态分布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5516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V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等于卡方随机变量除以其分布自由度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3320" y="609300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800000"/>
                </a:solidFill>
                <a:latin typeface="Arial"/>
              </a:rPr>
              <a:t>U/V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服从</a:t>
            </a:r>
            <a:r>
              <a:rPr b="0" i="1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11280" y="1916280"/>
          <a:ext cx="302400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916280"/>
                    <a:ext cx="30240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826920" y="3357720"/>
          <a:ext cx="6409080" cy="16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3357720"/>
                    <a:ext cx="6409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，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11760" y="1681200"/>
            <a:ext cx="323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问题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今有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两种决定冰的热功当量的方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2233800" cy="4392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473480" y="3841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此处放箱线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比较两个独立样本：基于正态分布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方差未知，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539640" y="1700280"/>
          <a:ext cx="4176720" cy="21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700280"/>
                    <a:ext cx="41767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292720" y="1700280"/>
          <a:ext cx="3166920" cy="133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1700280"/>
                    <a:ext cx="316692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951840" y="41673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自由度为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分布的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.975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分位点等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77640" y="4095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0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11280" y="4869000"/>
          <a:ext cx="6481800" cy="57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4869000"/>
                    <a:ext cx="64818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1557360" y="591660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即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(.015,.06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猜硬币中的似然比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如果你在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次抛掷中看到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次正面朝上。则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(2)/P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(2)=3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。这就是似然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硬币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出现这个结果的机会是硬币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的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42920" y="3284640"/>
          <a:ext cx="511344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284640"/>
                    <a:ext cx="51134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187280" y="4292640"/>
          <a:ext cx="4176720" cy="89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292640"/>
                    <a:ext cx="4176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两样本假设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7840" y="1700280"/>
          <a:ext cx="4033800" cy="16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1700280"/>
                    <a:ext cx="40338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4360" y="3619440"/>
          <a:ext cx="3671640" cy="96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619440"/>
                    <a:ext cx="3671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5059440" y="1766880"/>
            <a:ext cx="37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双侧备择假设 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two-sided altern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03360" y="2637000"/>
            <a:ext cx="376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单侧备择假设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one-sided altern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3856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11640" y="2421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211640" y="2923920"/>
            <a:ext cx="647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395280" y="4941720"/>
          <a:ext cx="3281400" cy="147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4941720"/>
                    <a:ext cx="32814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两样本假设检验，续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84360" y="1700280"/>
          <a:ext cx="5975280" cy="19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00280"/>
                    <a:ext cx="597528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684360" y="4292640"/>
          <a:ext cx="7056360" cy="139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4292640"/>
                    <a:ext cx="705636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检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等价于似然比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95280" y="1484280"/>
          <a:ext cx="540072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84280"/>
                    <a:ext cx="54007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39640" y="3573360"/>
          <a:ext cx="7704360" cy="83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573360"/>
                    <a:ext cx="770436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611280" y="4653000"/>
          <a:ext cx="5616360" cy="200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4653000"/>
                    <a:ext cx="561636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求最大值：似然比的分子部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939960" y="2349360"/>
          <a:ext cx="30733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9960" y="2349360"/>
                    <a:ext cx="3073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5829480" y="2451240"/>
          <a:ext cx="16761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29480" y="2451240"/>
                    <a:ext cx="16761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1174680" y="4791240"/>
          <a:ext cx="260352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4680" y="4791240"/>
                    <a:ext cx="26035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5025960" y="4829040"/>
          <a:ext cx="3281400" cy="40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5960" y="4829040"/>
                    <a:ext cx="32814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求最大值：似然比的分母部分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0" y="1700280"/>
          <a:ext cx="3564000" cy="15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35640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3564000" y="1906560"/>
          <a:ext cx="5545080" cy="25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1906560"/>
                    <a:ext cx="55450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50920" y="4540320"/>
          <a:ext cx="5257800" cy="203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4540320"/>
                    <a:ext cx="52578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似然比的计算结果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95280" y="1557360"/>
          <a:ext cx="5977080" cy="12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557360"/>
                    <a:ext cx="59770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250920" y="3068640"/>
          <a:ext cx="4176720" cy="12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3068640"/>
                    <a:ext cx="4176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682560" y="4514760"/>
          <a:ext cx="5977080" cy="215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2560" y="4514760"/>
                    <a:ext cx="5977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分子部分的变换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079640" y="1484280"/>
          <a:ext cx="4392360" cy="153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1484280"/>
                    <a:ext cx="43923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1079640" y="3645000"/>
          <a:ext cx="4392360" cy="74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79640" y="3645000"/>
                    <a:ext cx="43923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2158920" y="5157720"/>
          <a:ext cx="2233800" cy="150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58920" y="5157720"/>
                    <a:ext cx="22338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60" name=""/>
          <p:cNvCxnSpPr/>
          <p:nvPr/>
        </p:nvCxnSpPr>
        <p:spPr>
          <a:xfrm>
            <a:off x="3276360" y="3020760"/>
            <a:ext cx="1080" cy="62460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/>
          <p:nvPr/>
        </p:nvCxnSpPr>
        <p:spPr>
          <a:xfrm>
            <a:off x="3276360" y="4392360"/>
            <a:ext cx="1080" cy="76572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755640" y="1628640"/>
          <a:ext cx="5329080" cy="8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628640"/>
                    <a:ext cx="5329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11280" y="2924280"/>
          <a:ext cx="7416720" cy="156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2924280"/>
                    <a:ext cx="7416720" cy="15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826920" y="4797360"/>
          <a:ext cx="6121440" cy="15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4797360"/>
                    <a:ext cx="61214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如果方差不相等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611280" y="1700280"/>
          <a:ext cx="5545080" cy="15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55450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1663560" y="3429000"/>
            <a:ext cx="588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以它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统计量的分母，所得到的统计量不再服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分布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但近似服从自由度为下述结果取整之后的结果的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87280" y="4830840"/>
          <a:ext cx="4038840" cy="162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830840"/>
                    <a:ext cx="403884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教材例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1.2.1.1[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待处理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猜硬币中的似然比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根据抛掷结果计算出的后验概率成为评判标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6000" y="1700280"/>
            <a:ext cx="8748720" cy="86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4360" y="3859200"/>
            <a:ext cx="6264000" cy="86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5977080" cy="887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0960" y="5873760"/>
            <a:ext cx="41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是临界值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critical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教材例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1.2.1.1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82680" y="170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下面是对数变换的模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971640" y="2349360"/>
          <a:ext cx="6095880" cy="24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49360"/>
                    <a:ext cx="609588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异系数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coefficient of variation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24000" y="2349360"/>
          <a:ext cx="3816360" cy="24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349360"/>
                    <a:ext cx="381636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6084720" y="3141720"/>
          <a:ext cx="1236960" cy="8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3141720"/>
                    <a:ext cx="12369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85" name=""/>
          <p:cNvCxnSpPr/>
          <p:nvPr/>
        </p:nvCxnSpPr>
        <p:spPr>
          <a:xfrm flipV="1">
            <a:off x="4140000" y="3579480"/>
            <a:ext cx="1945080" cy="1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2666160" y="5445000"/>
            <a:ext cx="36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一个分布的标准差和均值的比率称为变异系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(coefficient of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86" idx="0"/>
          </p:cNvCxnSpPr>
          <p:nvPr/>
        </p:nvCxnSpPr>
        <p:spPr>
          <a:xfrm flipV="1">
            <a:off x="4486320" y="4017600"/>
            <a:ext cx="2218320" cy="1427760"/>
          </a:xfrm>
          <a:prstGeom prst="straightConnector1">
            <a:avLst/>
          </a:prstGeom>
          <a:ln w="4752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5977080" cy="1531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9640" y="3159000"/>
            <a:ext cx="52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对于变换后的数据，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统计量为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.917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p-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值为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.37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72000" y="3860640"/>
            <a:ext cx="33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没有理由拒绝原假设。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95%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置信区间是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(-.61,.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187280" y="4581360"/>
          <a:ext cx="4537080" cy="21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581360"/>
                    <a:ext cx="453708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功效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(power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468360" y="3141720"/>
          <a:ext cx="763272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141720"/>
                    <a:ext cx="76327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68360" y="3789360"/>
          <a:ext cx="8207280" cy="45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3789360"/>
                    <a:ext cx="82072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68360" y="4387680"/>
          <a:ext cx="6767640" cy="91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4387680"/>
                    <a:ext cx="67676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1918440" y="167652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计算功效对于在规划实验时确定样本量的大小具有重要意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检验的功效是在原假设为假的时候拒绝原假设的概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03760" y="256536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影响两样本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检验的四个要素包括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68360" y="5516640"/>
          <a:ext cx="633564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5516640"/>
                    <a:ext cx="6335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功效的计算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826920" y="1844640"/>
          <a:ext cx="273708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844640"/>
                    <a:ext cx="27370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755640" y="2565360"/>
          <a:ext cx="5472000" cy="140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565360"/>
                    <a:ext cx="547200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292640"/>
          <a:ext cx="5616720" cy="134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4292640"/>
                    <a:ext cx="561672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0" y="1700280"/>
          <a:ext cx="5003640" cy="53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50036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5435640" y="2127240"/>
          <a:ext cx="2952720" cy="196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2127240"/>
                    <a:ext cx="295272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250920" y="3860640"/>
          <a:ext cx="5113080" cy="94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3860640"/>
                    <a:ext cx="51130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324000" y="5124600"/>
          <a:ext cx="3671640" cy="111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5124600"/>
                    <a:ext cx="367164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15920" y="2044800"/>
          <a:ext cx="3448080" cy="90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2044800"/>
                    <a:ext cx="34480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3637080" y="2062080"/>
          <a:ext cx="3095640" cy="87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7080" y="2062080"/>
                    <a:ext cx="30956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179280" y="3789360"/>
          <a:ext cx="4464000" cy="177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3789360"/>
                    <a:ext cx="4464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5148360" y="4005360"/>
          <a:ext cx="2476440" cy="92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48360" y="4005360"/>
                    <a:ext cx="24764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30" name=""/>
          <p:cNvCxnSpPr/>
          <p:nvPr/>
        </p:nvCxnSpPr>
        <p:spPr>
          <a:xfrm>
            <a:off x="1839600" y="2946240"/>
            <a:ext cx="5720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31" name=""/>
          <p:cNvCxnSpPr/>
          <p:nvPr/>
        </p:nvCxnSpPr>
        <p:spPr>
          <a:xfrm>
            <a:off x="5184720" y="2941200"/>
            <a:ext cx="1202040" cy="106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955880" y="3760920"/>
          <a:ext cx="1041480" cy="20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5880" y="3760920"/>
                    <a:ext cx="10414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971640" y="1782720"/>
          <a:ext cx="4752720" cy="88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1782720"/>
                    <a:ext cx="47527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2829600" y="2871720"/>
            <a:ext cx="32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。两样本比较。样本量均为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，来自正态总体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标准差都是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，显著性水平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.05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900000" y="1773360"/>
          <a:ext cx="609624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773360"/>
                    <a:ext cx="60962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非参数方法：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46440" y="1603440"/>
            <a:ext cx="74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这个检验也叫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Wilcoxon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秩和检验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(Wilcoxon Rank Sum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93720" y="207972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将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m+n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次实验分配给处理组和对照组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随机抽取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个分配给对照组，剩下的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个给处理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85560" y="297828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要检验的原假设是处理没有效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如果原假设通过检验，就说明结果中的差异是由随机化造成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20760" y="3841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统计量的计算方法如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9720" y="4508640"/>
            <a:ext cx="427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、将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m+n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个观测值放在一起，按照升序排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（为简化问题，假定没有并列名次。实际上，出现并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名次并不影响我们的计算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、计算来自对照组的观测值的秩的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、如果秩和太大或者太小就可以拒绝原假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猜硬币中的错判概率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假定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c=1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。则判别规则如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因为结果有随机性，这个规则导致错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错误分成两类：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为真的时候拒绝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， 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为假的时候接受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2276640"/>
          <a:ext cx="5472000" cy="57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276640"/>
                    <a:ext cx="5472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5759640" cy="50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971640" y="5516640"/>
            <a:ext cx="56163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的简单例子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98000" y="160344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位受试，随机抽取其中两名进入处理组，剩下两名在对照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2305080" cy="11188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030760" y="364500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表中的数据是实验结果（响应值），括号中出现的是这个值的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22640" y="429264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对照组的秩和等于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，处理组的秩和等于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02680" y="492300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这个差异足以让我们相信在处理组和对照组的结果之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存在系统的差别吗？让我们来做一个概率计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的简单例子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800720" y="171936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Mann-Whitney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检验的关键思想是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我们可以用显式公式计算原假设下的秩和分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65080" y="32446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在原假设下，所有观测值的秩的组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都是等概率的。这样一共有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4!=24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种结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特别地，处理组的结果的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种，也应该是等概率出现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6156360" y="2852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17440" y="5595840"/>
            <a:ext cx="66596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971640" y="2421000"/>
          <a:ext cx="4824360" cy="182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421000"/>
                    <a:ext cx="482436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1891440" y="1741320"/>
            <a:ext cx="45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实际中的检验问题不可能有这么小的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971640" y="4797360"/>
          <a:ext cx="5976720" cy="146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4797360"/>
                    <a:ext cx="597672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：例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89920" y="157464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数据来自教材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423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页，例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1955880" cy="45370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5883120" y="1484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排序结果，有并列排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61000" y="2347920"/>
            <a:ext cx="333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并列排名的处理方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比如有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个值都等于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79.97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。它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占据的名次为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3,4,5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，则每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数的秩都等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3440" y="3933720"/>
            <a:ext cx="28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(3+4+5+6)/4=4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4360" y="4653000"/>
          <a:ext cx="295092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653000"/>
                    <a:ext cx="29509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：例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A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042920" y="1916280"/>
          <a:ext cx="4465800" cy="14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16280"/>
                    <a:ext cx="4465800" cy="14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：定理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755640" y="1916280"/>
          <a:ext cx="6985080" cy="10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916280"/>
                    <a:ext cx="69850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826920" y="3213000"/>
          <a:ext cx="2953080" cy="250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3213000"/>
                    <a:ext cx="295308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5237640" y="3789360"/>
            <a:ext cx="30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证明提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利用教材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7.3.1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的定理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：定理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的证明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468360" y="1700280"/>
          <a:ext cx="6840360" cy="24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6840360" cy="24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95280" y="4221000"/>
          <a:ext cx="6624720" cy="210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4221000"/>
                    <a:ext cx="6624720" cy="21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Mann-Whitney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检验不依赖正态假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用排序名次取代实际数字，对离群值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可以证明，如果正态假设成立，则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Mann-Whitney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检验和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分布的功效几乎相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下面我们用另一种观点看待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Mann-Whitney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检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68360" y="4149720"/>
          <a:ext cx="5256000" cy="15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149720"/>
                    <a:ext cx="52560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395280" y="1773360"/>
          <a:ext cx="8497800" cy="92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3360"/>
                    <a:ext cx="84978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250920" y="3068640"/>
          <a:ext cx="6913440" cy="99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3068640"/>
                    <a:ext cx="69134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250920" y="4149720"/>
          <a:ext cx="6696000" cy="84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4149720"/>
                    <a:ext cx="669600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539640" y="1557360"/>
          <a:ext cx="66963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557360"/>
                    <a:ext cx="669636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395280" y="3141720"/>
          <a:ext cx="7705800" cy="100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141720"/>
                    <a:ext cx="7705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755640" y="4221000"/>
          <a:ext cx="4896000" cy="249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4221000"/>
                    <a:ext cx="48960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临界值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c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对错判概率的影响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假定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c=0.1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，即先验概率有差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3745080" cy="590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826920" y="2133720"/>
          <a:ext cx="3745080" cy="14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133720"/>
                    <a:ext cx="3745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Mann-Whitney</a:t>
            </a: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检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贝叶斯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1628640"/>
          <a:ext cx="6408720" cy="8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640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755640" y="2924280"/>
          <a:ext cx="324000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924280"/>
                    <a:ext cx="32400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324000" y="3645000"/>
          <a:ext cx="8208720" cy="96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3645000"/>
                    <a:ext cx="820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贝叶斯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6720" y="1484280"/>
          <a:ext cx="7775640" cy="93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" y="1484280"/>
                    <a:ext cx="777564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396720" y="2421000"/>
          <a:ext cx="7415280" cy="181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720" y="2421000"/>
                    <a:ext cx="741528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396720" y="4437000"/>
          <a:ext cx="676908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720" y="4437000"/>
                    <a:ext cx="6769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396720" y="5084640"/>
          <a:ext cx="7344000" cy="55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720" y="5084640"/>
                    <a:ext cx="734400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396720" y="5950080"/>
          <a:ext cx="5183280" cy="527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6720" y="5950080"/>
                    <a:ext cx="51832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贝叶斯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042920" y="1989000"/>
          <a:ext cx="4983120" cy="132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498312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2184120" y="3697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0000"/>
                </a:solidFill>
                <a:latin typeface="Arial"/>
              </a:rPr>
              <a:t>解释是完全不一样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贝叶斯方法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468360" y="1844640"/>
          <a:ext cx="7488360" cy="24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844640"/>
                    <a:ext cx="748836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123696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补充例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比较配对样本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comparing paired sampl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148640" y="168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许多实验中使用的不是独立样本，而是配对样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06240" y="2276640"/>
            <a:ext cx="88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医学实验。受试可能按照年龄、体重或者患病程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配对，然后每个对中的一个成员会被随机分到处理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，另一个进入对照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27440" y="373680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或者，对是由同一位受试在计量“之前”和“之后”构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50400" y="467208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键问题是如何处理“不独立”样本的相关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468360" y="1773360"/>
          <a:ext cx="6335640" cy="13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73360"/>
                    <a:ext cx="633564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1909800" y="3213000"/>
          <a:ext cx="3382920" cy="133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9800" y="3213000"/>
                    <a:ext cx="33829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468360" y="4724280"/>
          <a:ext cx="5616360" cy="462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4724280"/>
                    <a:ext cx="56163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2268360" y="5300640"/>
          <a:ext cx="3773520" cy="1173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5300640"/>
                    <a:ext cx="377352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比较配对样本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539640" y="1628640"/>
          <a:ext cx="4103640" cy="158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628640"/>
                    <a:ext cx="4103640" cy="15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611280" y="4292640"/>
          <a:ext cx="4392360" cy="225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4292640"/>
                    <a:ext cx="43923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1672920" y="3327480"/>
            <a:ext cx="50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配对实验的优势在于，如果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的相关系数大于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则估计值的方差更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5940360" y="4149720"/>
          <a:ext cx="2519280" cy="143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0360" y="4149720"/>
                    <a:ext cx="251928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HuangXiangyang</cp:lastModifiedBy>
  <dcterms:modified xsi:type="dcterms:W3CDTF">2007-12-13T07:11:00Z</dcterms:modified>
  <cp:revision>92</cp:revision>
  <dc:subject/>
  <dc:title>幻灯片 1</dc:title>
</cp:coreProperties>
</file>