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547-9DC3-45AB-9119-20F2311B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C27-2701-4317-8B2F-5ECF079F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722-9EC8-43F8-AC79-067147B1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268-986B-4C24-A699-7AD51EAA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4B3-BD2D-49CA-86CA-E4FB437F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DA6-8490-48A5-A182-907A8827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537-C3B6-498D-8E75-93BD5A82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5AE-5C32-47BA-B06F-551BCA72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D7A-1287-4B36-B6B1-8DAB1734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433-83A9-47AE-8FDA-0FC9AFB5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6E6-675E-4C11-AD66-11766AE9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F46-B563-417C-9D9A-2BCE997A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8B1C-95F4-428E-B9C7-79BCCF2D430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3640" y="2130120"/>
            <a:ext cx="489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贝叶斯估计</a:t>
            </a:r>
            <a:br>
              <a:rPr sz="4000"/>
            </a:br>
            <a:r>
              <a:rPr b="0" lang="zh-CN" sz="4000" spc="-1" strike="noStrike">
                <a:solidFill>
                  <a:srgbClr val="dfd293"/>
                </a:solidFill>
                <a:latin typeface="Arial"/>
              </a:rPr>
              <a:t>Bayes Estimat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0" y="4652640"/>
            <a:ext cx="475128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数理统计课题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思路：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未知参数视为随机变量：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数据的不可设计性与经验的不能穷尽性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取样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求联合分布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,..x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0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是参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联合分布密度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分布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,..x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0" lang="zh-CN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是随机变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确定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先验分布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利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ayesi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式求后验分布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使用后验分布做推断（参数估计、假设检验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：两点分布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b(1,</a:t>
            </a:r>
            <a:r>
              <a:rPr b="0" i="1" lang="zh-CN" sz="4400" spc="-1" strike="noStrike">
                <a:solidFill>
                  <a:srgbClr val="dfd293"/>
                </a:solidFill>
                <a:latin typeface="Arial"/>
              </a:rPr>
              <a:t>p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的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合分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先验分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验分布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验期望估计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987640" y="1484280"/>
                <a:ext cx="37450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59280" y="2637000"/>
                <a:ext cx="14414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2637000"/>
                <a:ext cx="13683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θ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132000" y="3068640"/>
                <a:ext cx="39610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332000" y="4797360"/>
                <a:ext cx="52560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</m:e>
                    </m:nary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θ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、先验分布的共轭分布选取法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验分布和先验分布是同一个类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优点：易于解释、继续试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知：          ，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得                                    与先验分布同类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(x|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从正态分布，选正态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(x|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从两点分布，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t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(x|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从指数分布，选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amm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2708280"/>
                <a:ext cx="7207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780000" y="2637000"/>
                <a:ext cx="12254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763640" y="3213000"/>
                <a:ext cx="33530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Bayes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统计推断问题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参数估计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点估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区间估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估计的损失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损失函数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风险：平均损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致最小风险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任意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产生的样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1…xn,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都是最小分析估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Bayesian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平均风险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780000" y="1773360"/>
                <a:ext cx="4176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limUpp>
                      <m:e>
                        <m:limUpp>
                          <m:e>
                            <m:r>
                              <m:t xml:space="preserve">θ</m:t>
                            </m:r>
                          </m:e>
                          <m:lim/>
                        </m:limUp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  <m:r>
                          <m:t xml:space="preserve">)</m:t>
                        </m:r>
                      </m:e>
                      <m:lim/>
                    </m:limUp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708360" y="2421000"/>
                <a:ext cx="11509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403280" y="4076640"/>
                <a:ext cx="481032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limUpp>
                              <m:e>
                                <m:r>
                                  <m:t xml:space="preserve">θ</m:t>
                                </m:r>
                              </m:e>
                              <m:lim/>
                            </m:limUp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,</m:t>
                                </m:r>
                                <m:limUpp>
                                  <m:e>
                                    <m:r>
                                      <m:t xml:space="preserve">θ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dθ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,</m:t>
                                </m:r>
                                <m:limUpp>
                                  <m:e>
                                    <m:r>
                                      <m:t xml:space="preserve">θ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dθ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564000" y="1484280"/>
                <a:ext cx="13698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后验风险：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ayesi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风险与后验风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验分析最小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&gt;Bayesi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风险最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16000" y="2349360"/>
                <a:ext cx="46800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limUpp>
                              <m:e>
                                <m:r>
                                  <m:t xml:space="preserve">θ</m:t>
                                </m:r>
                              </m:e>
                              <m:lim/>
                            </m:limUpp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</m:e>
                        </m:nary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两种常用损失函数：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损失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ayesia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风险估计：后验期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损失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大后验密度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987640" y="1628640"/>
                <a:ext cx="23763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56000" y="3141720"/>
                <a:ext cx="295272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θ</m:t>
                        </m:r>
                      </m:e>
                      <m:lim/>
                    </m:limUpp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|</m:t>
                              </m:r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limUpp>
                                <m:e>
                                  <m:r>
                                    <m:t xml:space="preserve">θ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ε</m:t>
                                  </m:r>
                                </m:e>
                                <m:lim/>
                              </m:limUp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|</m:t>
                              </m:r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limUpp>
                                <m:e>
                                  <m:limUpp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lim/>
                                  </m:limUpp>
                                  <m:r>
                                    <m:t xml:space="preserve">|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ε</m:t>
                                  </m:r>
                                </m:e>
                                <m:lim/>
                              </m:limUp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例子：　正态分布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从正态分布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先验分布是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ay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估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得后验分布还是正态分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：某圆形产品内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单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服从正态分布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4), </a:t>
            </a: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先验分布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在测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=1.8,n=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M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1.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bay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(1.8*5/0.4+2*0.2^(-2))/(5/0.4+0.2^(-2))=1.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484360" y="3357720"/>
                <a:ext cx="316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置信区间估计：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33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是随机变量，可求其后验分布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: 1.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积分求后验分布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根据后验分布求置信区间         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03640" y="2924280"/>
                <a:ext cx="338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</m:e>
                    </m:nary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11280" y="4724280"/>
                <a:ext cx="504036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的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的置信区间为：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，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其中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表示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后验分布的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分位数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例子：　两点分布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服从两点分布，概率</a:t>
            </a:r>
            <a:r>
              <a:rPr b="0" lang="zh-CN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则            服从二项分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0" lang="zh-CN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估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设先验分布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eta(a,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求得后验分布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求得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(</a:t>
            </a:r>
            <a:r>
              <a:rPr b="0" lang="zh-CN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|r)=(a+r)/(a+b+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2.Neyman-Pearson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范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不用贝叶斯方法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规避了先验概率的决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对两个假设区别对待，一个成为原假设</a:t>
            </a: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1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(null hypotheses)</a:t>
            </a: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，另一个成为备择假设</a:t>
            </a: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1" lang="zh-CN" sz="14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(alternative hypothes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92929"/>
                </a:solidFill>
                <a:latin typeface="Arial"/>
              </a:rPr>
              <a:t>由此导致在有些场合下选择原假设的困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Neyman-Pearso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引理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(lemma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方差已知的正态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置信区间和假设检验的对偶关系：引理置信区间和假设检验的对偶关系：引理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广义似然比检验：</a:t>
            </a:r>
            <a:br>
              <a:rPr sz="800"/>
            </a:b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方差未知正态总体的均值检验多项分布的广义似然比检验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Pearson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卡方统计量和似然比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Handy-Weinberg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均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在参数估计的例子中引入了</a:t>
            </a: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Handy-Weinberg</a:t>
            </a:r>
            <a:r>
              <a:rPr b="0" lang="zh-CN" sz="1400" spc="-1" strike="noStrike">
                <a:solidFill>
                  <a:srgbClr val="800000"/>
                </a:solidFill>
                <a:latin typeface="Arial"/>
              </a:rPr>
              <a:t>均衡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Bacterial Clump</a:t>
            </a:r>
            <a:r>
              <a:rPr b="1" lang="zh-CN" sz="900" spc="-1" strike="noStrike">
                <a:solidFill>
                  <a:srgbClr val="ffffff"/>
                </a:solidFill>
                <a:latin typeface="Arial"/>
              </a:rPr>
              <a:t>泊松散布度检验</a:t>
            </a:r>
            <a:r>
              <a:rPr b="1" lang="zh-CN" sz="900" spc="-1" strike="noStrike">
                <a:solidFill>
                  <a:srgbClr val="ffffff"/>
                </a:solidFill>
                <a:latin typeface="Arial"/>
              </a:rPr>
              <a:t>(dispersion test)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泊松散布度检验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(dispersion test)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泊松散布度检验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数方法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Mann-Whitney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检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409720" y="2468520"/>
            <a:ext cx="3669120" cy="2943000"/>
            <a:chOff x="5409720" y="2468520"/>
            <a:chExt cx="3669120" cy="2943000"/>
          </a:xfrm>
        </p:grpSpPr>
        <p:sp>
          <p:nvSpPr>
            <p:cNvPr id="99" name=""/>
            <p:cNvSpPr/>
            <p:nvPr/>
          </p:nvSpPr>
          <p:spPr>
            <a:xfrm>
              <a:off x="5586120" y="2531880"/>
              <a:ext cx="3459240" cy="273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86120" y="2531880"/>
              <a:ext cx="3459240" cy="273312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86120" y="2531880"/>
              <a:ext cx="345924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86120" y="2531880"/>
              <a:ext cx="3459240" cy="273312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0" y="342"/>
                  </a:moveTo>
                  <a:lnTo>
                    <a:pt x="434" y="342"/>
                  </a:lnTo>
                  <a:lnTo>
                    <a:pt x="434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586120" y="2531880"/>
              <a:ext cx="1440" cy="2733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6120" y="5265360"/>
              <a:ext cx="34592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586120" y="2531880"/>
              <a:ext cx="1440" cy="2733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58612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8612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62360" y="5289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2740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2740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5612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27048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9884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62112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2112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4984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96420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6420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9256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314840" y="5225400"/>
              <a:ext cx="180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14840" y="2531880"/>
              <a:ext cx="180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4356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65792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5792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8628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000640" y="5225400"/>
              <a:ext cx="180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0640" y="2531880"/>
              <a:ext cx="180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2936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35164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5164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8000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694360" y="5225400"/>
              <a:ext cx="180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94360" y="2531880"/>
              <a:ext cx="180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23080" y="52894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9045360" y="5225400"/>
              <a:ext cx="1440" cy="3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45360" y="2531880"/>
              <a:ext cx="1440" cy="31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021600" y="5289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86120" y="5265360"/>
              <a:ext cx="31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9005040" y="5265360"/>
              <a:ext cx="399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97200" y="5202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86120" y="4875120"/>
              <a:ext cx="3168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9005040" y="4875120"/>
              <a:ext cx="3996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09720" y="48099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86120" y="4482720"/>
              <a:ext cx="31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9005040" y="4482720"/>
              <a:ext cx="399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97200" y="441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86120" y="4090680"/>
              <a:ext cx="31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9005040" y="4090680"/>
              <a:ext cx="399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09720" y="40273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6120" y="3698640"/>
              <a:ext cx="3168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9005040" y="3698640"/>
              <a:ext cx="3996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97200" y="3635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86120" y="3308040"/>
              <a:ext cx="31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9005040" y="3308040"/>
              <a:ext cx="399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09720" y="32428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6120" y="2916000"/>
              <a:ext cx="3168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9005040" y="2916000"/>
              <a:ext cx="3996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97200" y="2852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6120" y="2531880"/>
              <a:ext cx="3168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9005040" y="2531880"/>
              <a:ext cx="3996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09720" y="24685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86120" y="2531880"/>
              <a:ext cx="345924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86120" y="2531880"/>
              <a:ext cx="3459240" cy="273312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0" y="342"/>
                  </a:moveTo>
                  <a:lnTo>
                    <a:pt x="434" y="342"/>
                  </a:lnTo>
                  <a:lnTo>
                    <a:pt x="434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586120" y="2531880"/>
              <a:ext cx="1440" cy="2733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86120" y="4090680"/>
              <a:ext cx="3459240" cy="1174320"/>
            </a:xfrm>
            <a:custGeom>
              <a:avLst/>
              <a:gdLst/>
              <a:ahLst/>
              <a:rect l="l" t="t" r="r" b="b"/>
              <a:pathLst>
                <a:path w="2179" h="740">
                  <a:moveTo>
                    <a:pt x="0" y="740"/>
                  </a:moveTo>
                  <a:lnTo>
                    <a:pt x="20" y="710"/>
                  </a:lnTo>
                  <a:lnTo>
                    <a:pt x="40" y="680"/>
                  </a:lnTo>
                  <a:lnTo>
                    <a:pt x="65" y="650"/>
                  </a:lnTo>
                  <a:lnTo>
                    <a:pt x="85" y="625"/>
                  </a:lnTo>
                  <a:lnTo>
                    <a:pt x="105" y="599"/>
                  </a:lnTo>
                  <a:lnTo>
                    <a:pt x="130" y="569"/>
                  </a:lnTo>
                  <a:lnTo>
                    <a:pt x="150" y="544"/>
                  </a:lnTo>
                  <a:lnTo>
                    <a:pt x="170" y="519"/>
                  </a:lnTo>
                  <a:lnTo>
                    <a:pt x="195" y="494"/>
                  </a:lnTo>
                  <a:lnTo>
                    <a:pt x="215" y="473"/>
                  </a:lnTo>
                  <a:lnTo>
                    <a:pt x="236" y="448"/>
                  </a:lnTo>
                  <a:lnTo>
                    <a:pt x="261" y="428"/>
                  </a:lnTo>
                  <a:lnTo>
                    <a:pt x="281" y="403"/>
                  </a:lnTo>
                  <a:lnTo>
                    <a:pt x="301" y="383"/>
                  </a:lnTo>
                  <a:lnTo>
                    <a:pt x="326" y="363"/>
                  </a:lnTo>
                  <a:lnTo>
                    <a:pt x="346" y="343"/>
                  </a:lnTo>
                  <a:lnTo>
                    <a:pt x="366" y="322"/>
                  </a:lnTo>
                  <a:lnTo>
                    <a:pt x="391" y="302"/>
                  </a:lnTo>
                  <a:lnTo>
                    <a:pt x="411" y="282"/>
                  </a:lnTo>
                  <a:lnTo>
                    <a:pt x="431" y="267"/>
                  </a:lnTo>
                  <a:lnTo>
                    <a:pt x="457" y="247"/>
                  </a:lnTo>
                  <a:lnTo>
                    <a:pt x="477" y="232"/>
                  </a:lnTo>
                  <a:lnTo>
                    <a:pt x="497" y="217"/>
                  </a:lnTo>
                  <a:lnTo>
                    <a:pt x="522" y="202"/>
                  </a:lnTo>
                  <a:lnTo>
                    <a:pt x="542" y="186"/>
                  </a:lnTo>
                  <a:lnTo>
                    <a:pt x="562" y="171"/>
                  </a:lnTo>
                  <a:lnTo>
                    <a:pt x="587" y="156"/>
                  </a:lnTo>
                  <a:lnTo>
                    <a:pt x="607" y="141"/>
                  </a:lnTo>
                  <a:lnTo>
                    <a:pt x="627" y="131"/>
                  </a:lnTo>
                  <a:lnTo>
                    <a:pt x="652" y="116"/>
                  </a:lnTo>
                  <a:lnTo>
                    <a:pt x="672" y="106"/>
                  </a:lnTo>
                  <a:lnTo>
                    <a:pt x="693" y="96"/>
                  </a:lnTo>
                  <a:lnTo>
                    <a:pt x="718" y="86"/>
                  </a:lnTo>
                  <a:lnTo>
                    <a:pt x="738" y="76"/>
                  </a:lnTo>
                  <a:lnTo>
                    <a:pt x="758" y="66"/>
                  </a:lnTo>
                  <a:lnTo>
                    <a:pt x="783" y="56"/>
                  </a:lnTo>
                  <a:lnTo>
                    <a:pt x="803" y="50"/>
                  </a:lnTo>
                  <a:lnTo>
                    <a:pt x="823" y="40"/>
                  </a:lnTo>
                  <a:lnTo>
                    <a:pt x="848" y="35"/>
                  </a:lnTo>
                  <a:lnTo>
                    <a:pt x="868" y="30"/>
                  </a:lnTo>
                  <a:lnTo>
                    <a:pt x="888" y="25"/>
                  </a:lnTo>
                  <a:lnTo>
                    <a:pt x="913" y="20"/>
                  </a:lnTo>
                  <a:lnTo>
                    <a:pt x="934" y="15"/>
                  </a:lnTo>
                  <a:lnTo>
                    <a:pt x="954" y="10"/>
                  </a:lnTo>
                  <a:lnTo>
                    <a:pt x="979" y="5"/>
                  </a:lnTo>
                  <a:lnTo>
                    <a:pt x="999" y="5"/>
                  </a:lnTo>
                  <a:lnTo>
                    <a:pt x="1019" y="0"/>
                  </a:lnTo>
                  <a:lnTo>
                    <a:pt x="1044" y="0"/>
                  </a:lnTo>
                  <a:lnTo>
                    <a:pt x="1064" y="0"/>
                  </a:lnTo>
                  <a:lnTo>
                    <a:pt x="1089" y="0"/>
                  </a:lnTo>
                  <a:lnTo>
                    <a:pt x="1109" y="0"/>
                  </a:lnTo>
                  <a:lnTo>
                    <a:pt x="1129" y="0"/>
                  </a:lnTo>
                  <a:lnTo>
                    <a:pt x="1154" y="0"/>
                  </a:lnTo>
                  <a:lnTo>
                    <a:pt x="1175" y="5"/>
                  </a:lnTo>
                  <a:lnTo>
                    <a:pt x="1195" y="5"/>
                  </a:lnTo>
                  <a:lnTo>
                    <a:pt x="1220" y="10"/>
                  </a:lnTo>
                  <a:lnTo>
                    <a:pt x="1240" y="15"/>
                  </a:lnTo>
                  <a:lnTo>
                    <a:pt x="1260" y="20"/>
                  </a:lnTo>
                  <a:lnTo>
                    <a:pt x="1285" y="25"/>
                  </a:lnTo>
                  <a:lnTo>
                    <a:pt x="1305" y="30"/>
                  </a:lnTo>
                  <a:lnTo>
                    <a:pt x="1325" y="35"/>
                  </a:lnTo>
                  <a:lnTo>
                    <a:pt x="1350" y="40"/>
                  </a:lnTo>
                  <a:lnTo>
                    <a:pt x="1370" y="50"/>
                  </a:lnTo>
                  <a:lnTo>
                    <a:pt x="1391" y="56"/>
                  </a:lnTo>
                  <a:lnTo>
                    <a:pt x="1416" y="66"/>
                  </a:lnTo>
                  <a:lnTo>
                    <a:pt x="1436" y="76"/>
                  </a:lnTo>
                  <a:lnTo>
                    <a:pt x="1456" y="86"/>
                  </a:lnTo>
                  <a:lnTo>
                    <a:pt x="1481" y="96"/>
                  </a:lnTo>
                  <a:lnTo>
                    <a:pt x="1501" y="106"/>
                  </a:lnTo>
                  <a:lnTo>
                    <a:pt x="1521" y="116"/>
                  </a:lnTo>
                  <a:lnTo>
                    <a:pt x="1546" y="131"/>
                  </a:lnTo>
                  <a:lnTo>
                    <a:pt x="1566" y="141"/>
                  </a:lnTo>
                  <a:lnTo>
                    <a:pt x="1586" y="156"/>
                  </a:lnTo>
                  <a:lnTo>
                    <a:pt x="1611" y="171"/>
                  </a:lnTo>
                  <a:lnTo>
                    <a:pt x="1632" y="186"/>
                  </a:lnTo>
                  <a:lnTo>
                    <a:pt x="1652" y="202"/>
                  </a:lnTo>
                  <a:lnTo>
                    <a:pt x="1677" y="217"/>
                  </a:lnTo>
                  <a:lnTo>
                    <a:pt x="1697" y="232"/>
                  </a:lnTo>
                  <a:lnTo>
                    <a:pt x="1717" y="247"/>
                  </a:lnTo>
                  <a:lnTo>
                    <a:pt x="1742" y="267"/>
                  </a:lnTo>
                  <a:lnTo>
                    <a:pt x="1762" y="282"/>
                  </a:lnTo>
                  <a:lnTo>
                    <a:pt x="1782" y="302"/>
                  </a:lnTo>
                  <a:lnTo>
                    <a:pt x="1807" y="322"/>
                  </a:lnTo>
                  <a:lnTo>
                    <a:pt x="1827" y="343"/>
                  </a:lnTo>
                  <a:lnTo>
                    <a:pt x="1847" y="363"/>
                  </a:lnTo>
                  <a:lnTo>
                    <a:pt x="1873" y="383"/>
                  </a:lnTo>
                  <a:lnTo>
                    <a:pt x="1893" y="403"/>
                  </a:lnTo>
                  <a:lnTo>
                    <a:pt x="1913" y="428"/>
                  </a:lnTo>
                  <a:lnTo>
                    <a:pt x="1938" y="448"/>
                  </a:lnTo>
                  <a:lnTo>
                    <a:pt x="1958" y="473"/>
                  </a:lnTo>
                  <a:lnTo>
                    <a:pt x="1978" y="494"/>
                  </a:lnTo>
                  <a:lnTo>
                    <a:pt x="2003" y="519"/>
                  </a:lnTo>
                  <a:lnTo>
                    <a:pt x="2023" y="544"/>
                  </a:lnTo>
                  <a:lnTo>
                    <a:pt x="2043" y="569"/>
                  </a:lnTo>
                  <a:lnTo>
                    <a:pt x="2068" y="599"/>
                  </a:lnTo>
                  <a:lnTo>
                    <a:pt x="2088" y="625"/>
                  </a:lnTo>
                  <a:lnTo>
                    <a:pt x="2109" y="650"/>
                  </a:lnTo>
                  <a:lnTo>
                    <a:pt x="2134" y="680"/>
                  </a:lnTo>
                  <a:lnTo>
                    <a:pt x="2154" y="710"/>
                  </a:lnTo>
                  <a:lnTo>
                    <a:pt x="2179" y="740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17800" y="2763720"/>
              <a:ext cx="3387600" cy="1998360"/>
            </a:xfrm>
            <a:custGeom>
              <a:avLst/>
              <a:gdLst/>
              <a:ahLst/>
              <a:rect l="l" t="t" r="r" b="b"/>
              <a:pathLst>
                <a:path w="2134" h="1259">
                  <a:moveTo>
                    <a:pt x="0" y="0"/>
                  </a:moveTo>
                  <a:lnTo>
                    <a:pt x="20" y="453"/>
                  </a:lnTo>
                  <a:lnTo>
                    <a:pt x="45" y="655"/>
                  </a:lnTo>
                  <a:lnTo>
                    <a:pt x="65" y="776"/>
                  </a:lnTo>
                  <a:lnTo>
                    <a:pt x="85" y="856"/>
                  </a:lnTo>
                  <a:lnTo>
                    <a:pt x="110" y="917"/>
                  </a:lnTo>
                  <a:lnTo>
                    <a:pt x="130" y="962"/>
                  </a:lnTo>
                  <a:lnTo>
                    <a:pt x="150" y="997"/>
                  </a:lnTo>
                  <a:lnTo>
                    <a:pt x="175" y="1027"/>
                  </a:lnTo>
                  <a:lnTo>
                    <a:pt x="195" y="1053"/>
                  </a:lnTo>
                  <a:lnTo>
                    <a:pt x="216" y="1073"/>
                  </a:lnTo>
                  <a:lnTo>
                    <a:pt x="241" y="1093"/>
                  </a:lnTo>
                  <a:lnTo>
                    <a:pt x="261" y="1108"/>
                  </a:lnTo>
                  <a:lnTo>
                    <a:pt x="281" y="1123"/>
                  </a:lnTo>
                  <a:lnTo>
                    <a:pt x="306" y="1133"/>
                  </a:lnTo>
                  <a:lnTo>
                    <a:pt x="326" y="1148"/>
                  </a:lnTo>
                  <a:lnTo>
                    <a:pt x="346" y="1158"/>
                  </a:lnTo>
                  <a:lnTo>
                    <a:pt x="371" y="1168"/>
                  </a:lnTo>
                  <a:lnTo>
                    <a:pt x="391" y="1174"/>
                  </a:lnTo>
                  <a:lnTo>
                    <a:pt x="411" y="1184"/>
                  </a:lnTo>
                  <a:lnTo>
                    <a:pt x="437" y="1189"/>
                  </a:lnTo>
                  <a:lnTo>
                    <a:pt x="457" y="1194"/>
                  </a:lnTo>
                  <a:lnTo>
                    <a:pt x="477" y="1204"/>
                  </a:lnTo>
                  <a:lnTo>
                    <a:pt x="502" y="1209"/>
                  </a:lnTo>
                  <a:lnTo>
                    <a:pt x="522" y="1214"/>
                  </a:lnTo>
                  <a:lnTo>
                    <a:pt x="542" y="1219"/>
                  </a:lnTo>
                  <a:lnTo>
                    <a:pt x="567" y="1219"/>
                  </a:lnTo>
                  <a:lnTo>
                    <a:pt x="587" y="1224"/>
                  </a:lnTo>
                  <a:lnTo>
                    <a:pt x="607" y="1229"/>
                  </a:lnTo>
                  <a:lnTo>
                    <a:pt x="632" y="1234"/>
                  </a:lnTo>
                  <a:lnTo>
                    <a:pt x="652" y="1234"/>
                  </a:lnTo>
                  <a:lnTo>
                    <a:pt x="673" y="1239"/>
                  </a:lnTo>
                  <a:lnTo>
                    <a:pt x="698" y="1239"/>
                  </a:lnTo>
                  <a:lnTo>
                    <a:pt x="718" y="1244"/>
                  </a:lnTo>
                  <a:lnTo>
                    <a:pt x="738" y="1244"/>
                  </a:lnTo>
                  <a:lnTo>
                    <a:pt x="763" y="1249"/>
                  </a:lnTo>
                  <a:lnTo>
                    <a:pt x="783" y="1249"/>
                  </a:lnTo>
                  <a:lnTo>
                    <a:pt x="803" y="1249"/>
                  </a:lnTo>
                  <a:lnTo>
                    <a:pt x="828" y="1254"/>
                  </a:lnTo>
                  <a:lnTo>
                    <a:pt x="848" y="1254"/>
                  </a:lnTo>
                  <a:lnTo>
                    <a:pt x="868" y="1254"/>
                  </a:lnTo>
                  <a:lnTo>
                    <a:pt x="893" y="1254"/>
                  </a:lnTo>
                  <a:lnTo>
                    <a:pt x="914" y="1259"/>
                  </a:lnTo>
                  <a:lnTo>
                    <a:pt x="934" y="1259"/>
                  </a:lnTo>
                  <a:lnTo>
                    <a:pt x="959" y="1259"/>
                  </a:lnTo>
                  <a:lnTo>
                    <a:pt x="979" y="1259"/>
                  </a:lnTo>
                  <a:lnTo>
                    <a:pt x="999" y="1259"/>
                  </a:lnTo>
                  <a:lnTo>
                    <a:pt x="1024" y="1259"/>
                  </a:lnTo>
                  <a:lnTo>
                    <a:pt x="1044" y="1259"/>
                  </a:lnTo>
                  <a:lnTo>
                    <a:pt x="1069" y="1259"/>
                  </a:lnTo>
                  <a:lnTo>
                    <a:pt x="1089" y="1259"/>
                  </a:lnTo>
                  <a:lnTo>
                    <a:pt x="1109" y="1259"/>
                  </a:lnTo>
                  <a:lnTo>
                    <a:pt x="1134" y="1259"/>
                  </a:lnTo>
                  <a:lnTo>
                    <a:pt x="1155" y="1259"/>
                  </a:lnTo>
                  <a:lnTo>
                    <a:pt x="1175" y="1259"/>
                  </a:lnTo>
                  <a:lnTo>
                    <a:pt x="1200" y="1259"/>
                  </a:lnTo>
                  <a:lnTo>
                    <a:pt x="1220" y="1259"/>
                  </a:lnTo>
                  <a:lnTo>
                    <a:pt x="1240" y="1254"/>
                  </a:lnTo>
                  <a:lnTo>
                    <a:pt x="1265" y="1254"/>
                  </a:lnTo>
                  <a:lnTo>
                    <a:pt x="1285" y="1254"/>
                  </a:lnTo>
                  <a:lnTo>
                    <a:pt x="1305" y="1254"/>
                  </a:lnTo>
                  <a:lnTo>
                    <a:pt x="1330" y="1249"/>
                  </a:lnTo>
                  <a:lnTo>
                    <a:pt x="1350" y="1249"/>
                  </a:lnTo>
                  <a:lnTo>
                    <a:pt x="1371" y="1249"/>
                  </a:lnTo>
                  <a:lnTo>
                    <a:pt x="1396" y="1244"/>
                  </a:lnTo>
                  <a:lnTo>
                    <a:pt x="1416" y="1244"/>
                  </a:lnTo>
                  <a:lnTo>
                    <a:pt x="1436" y="1239"/>
                  </a:lnTo>
                  <a:lnTo>
                    <a:pt x="1461" y="1239"/>
                  </a:lnTo>
                  <a:lnTo>
                    <a:pt x="1481" y="1234"/>
                  </a:lnTo>
                  <a:lnTo>
                    <a:pt x="1501" y="1234"/>
                  </a:lnTo>
                  <a:lnTo>
                    <a:pt x="1526" y="1229"/>
                  </a:lnTo>
                  <a:lnTo>
                    <a:pt x="1546" y="1224"/>
                  </a:lnTo>
                  <a:lnTo>
                    <a:pt x="1566" y="1219"/>
                  </a:lnTo>
                  <a:lnTo>
                    <a:pt x="1591" y="1219"/>
                  </a:lnTo>
                  <a:lnTo>
                    <a:pt x="1612" y="1214"/>
                  </a:lnTo>
                  <a:lnTo>
                    <a:pt x="1632" y="1209"/>
                  </a:lnTo>
                  <a:lnTo>
                    <a:pt x="1657" y="1204"/>
                  </a:lnTo>
                  <a:lnTo>
                    <a:pt x="1677" y="1194"/>
                  </a:lnTo>
                  <a:lnTo>
                    <a:pt x="1697" y="1189"/>
                  </a:lnTo>
                  <a:lnTo>
                    <a:pt x="1722" y="1184"/>
                  </a:lnTo>
                  <a:lnTo>
                    <a:pt x="1742" y="1174"/>
                  </a:lnTo>
                  <a:lnTo>
                    <a:pt x="1762" y="1168"/>
                  </a:lnTo>
                  <a:lnTo>
                    <a:pt x="1787" y="1158"/>
                  </a:lnTo>
                  <a:lnTo>
                    <a:pt x="1807" y="1148"/>
                  </a:lnTo>
                  <a:lnTo>
                    <a:pt x="1827" y="1133"/>
                  </a:lnTo>
                  <a:lnTo>
                    <a:pt x="1853" y="1123"/>
                  </a:lnTo>
                  <a:lnTo>
                    <a:pt x="1873" y="1108"/>
                  </a:lnTo>
                  <a:lnTo>
                    <a:pt x="1893" y="1093"/>
                  </a:lnTo>
                  <a:lnTo>
                    <a:pt x="1918" y="1073"/>
                  </a:lnTo>
                  <a:lnTo>
                    <a:pt x="1938" y="1053"/>
                  </a:lnTo>
                  <a:lnTo>
                    <a:pt x="1958" y="1027"/>
                  </a:lnTo>
                  <a:lnTo>
                    <a:pt x="1983" y="997"/>
                  </a:lnTo>
                  <a:lnTo>
                    <a:pt x="2003" y="962"/>
                  </a:lnTo>
                  <a:lnTo>
                    <a:pt x="2023" y="917"/>
                  </a:lnTo>
                  <a:lnTo>
                    <a:pt x="2048" y="856"/>
                  </a:lnTo>
                  <a:lnTo>
                    <a:pt x="2068" y="776"/>
                  </a:lnTo>
                  <a:lnTo>
                    <a:pt x="2089" y="655"/>
                  </a:lnTo>
                  <a:lnTo>
                    <a:pt x="2114" y="453"/>
                  </a:lnTo>
                  <a:lnTo>
                    <a:pt x="2134" y="0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86120" y="3339720"/>
              <a:ext cx="3459240" cy="1925280"/>
            </a:xfrm>
            <a:custGeom>
              <a:avLst/>
              <a:gdLst/>
              <a:ahLst/>
              <a:rect l="l" t="t" r="r" b="b"/>
              <a:pathLst>
                <a:path w="2179" h="1213">
                  <a:moveTo>
                    <a:pt x="0" y="1213"/>
                  </a:moveTo>
                  <a:lnTo>
                    <a:pt x="20" y="1067"/>
                  </a:lnTo>
                  <a:lnTo>
                    <a:pt x="40" y="936"/>
                  </a:lnTo>
                  <a:lnTo>
                    <a:pt x="65" y="821"/>
                  </a:lnTo>
                  <a:lnTo>
                    <a:pt x="85" y="710"/>
                  </a:lnTo>
                  <a:lnTo>
                    <a:pt x="105" y="609"/>
                  </a:lnTo>
                  <a:lnTo>
                    <a:pt x="130" y="518"/>
                  </a:lnTo>
                  <a:lnTo>
                    <a:pt x="150" y="438"/>
                  </a:lnTo>
                  <a:lnTo>
                    <a:pt x="170" y="362"/>
                  </a:lnTo>
                  <a:lnTo>
                    <a:pt x="195" y="302"/>
                  </a:lnTo>
                  <a:lnTo>
                    <a:pt x="215" y="241"/>
                  </a:lnTo>
                  <a:lnTo>
                    <a:pt x="236" y="191"/>
                  </a:lnTo>
                  <a:lnTo>
                    <a:pt x="261" y="151"/>
                  </a:lnTo>
                  <a:lnTo>
                    <a:pt x="281" y="111"/>
                  </a:lnTo>
                  <a:lnTo>
                    <a:pt x="301" y="80"/>
                  </a:lnTo>
                  <a:lnTo>
                    <a:pt x="326" y="55"/>
                  </a:lnTo>
                  <a:lnTo>
                    <a:pt x="346" y="35"/>
                  </a:lnTo>
                  <a:lnTo>
                    <a:pt x="366" y="20"/>
                  </a:lnTo>
                  <a:lnTo>
                    <a:pt x="391" y="10"/>
                  </a:lnTo>
                  <a:lnTo>
                    <a:pt x="411" y="5"/>
                  </a:lnTo>
                  <a:lnTo>
                    <a:pt x="431" y="0"/>
                  </a:lnTo>
                  <a:lnTo>
                    <a:pt x="457" y="5"/>
                  </a:lnTo>
                  <a:lnTo>
                    <a:pt x="477" y="10"/>
                  </a:lnTo>
                  <a:lnTo>
                    <a:pt x="497" y="15"/>
                  </a:lnTo>
                  <a:lnTo>
                    <a:pt x="522" y="30"/>
                  </a:lnTo>
                  <a:lnTo>
                    <a:pt x="542" y="45"/>
                  </a:lnTo>
                  <a:lnTo>
                    <a:pt x="562" y="60"/>
                  </a:lnTo>
                  <a:lnTo>
                    <a:pt x="587" y="80"/>
                  </a:lnTo>
                  <a:lnTo>
                    <a:pt x="607" y="100"/>
                  </a:lnTo>
                  <a:lnTo>
                    <a:pt x="627" y="121"/>
                  </a:lnTo>
                  <a:lnTo>
                    <a:pt x="652" y="146"/>
                  </a:lnTo>
                  <a:lnTo>
                    <a:pt x="672" y="176"/>
                  </a:lnTo>
                  <a:lnTo>
                    <a:pt x="693" y="201"/>
                  </a:lnTo>
                  <a:lnTo>
                    <a:pt x="718" y="231"/>
                  </a:lnTo>
                  <a:lnTo>
                    <a:pt x="738" y="257"/>
                  </a:lnTo>
                  <a:lnTo>
                    <a:pt x="758" y="287"/>
                  </a:lnTo>
                  <a:lnTo>
                    <a:pt x="783" y="317"/>
                  </a:lnTo>
                  <a:lnTo>
                    <a:pt x="803" y="352"/>
                  </a:lnTo>
                  <a:lnTo>
                    <a:pt x="823" y="382"/>
                  </a:lnTo>
                  <a:lnTo>
                    <a:pt x="848" y="413"/>
                  </a:lnTo>
                  <a:lnTo>
                    <a:pt x="868" y="448"/>
                  </a:lnTo>
                  <a:lnTo>
                    <a:pt x="888" y="478"/>
                  </a:lnTo>
                  <a:lnTo>
                    <a:pt x="913" y="508"/>
                  </a:lnTo>
                  <a:lnTo>
                    <a:pt x="934" y="539"/>
                  </a:lnTo>
                  <a:lnTo>
                    <a:pt x="954" y="574"/>
                  </a:lnTo>
                  <a:lnTo>
                    <a:pt x="979" y="604"/>
                  </a:lnTo>
                  <a:lnTo>
                    <a:pt x="999" y="634"/>
                  </a:lnTo>
                  <a:lnTo>
                    <a:pt x="1019" y="664"/>
                  </a:lnTo>
                  <a:lnTo>
                    <a:pt x="1044" y="695"/>
                  </a:lnTo>
                  <a:lnTo>
                    <a:pt x="1064" y="720"/>
                  </a:lnTo>
                  <a:lnTo>
                    <a:pt x="1089" y="750"/>
                  </a:lnTo>
                  <a:lnTo>
                    <a:pt x="1109" y="775"/>
                  </a:lnTo>
                  <a:lnTo>
                    <a:pt x="1129" y="805"/>
                  </a:lnTo>
                  <a:lnTo>
                    <a:pt x="1154" y="831"/>
                  </a:lnTo>
                  <a:lnTo>
                    <a:pt x="1175" y="856"/>
                  </a:lnTo>
                  <a:lnTo>
                    <a:pt x="1195" y="876"/>
                  </a:lnTo>
                  <a:lnTo>
                    <a:pt x="1220" y="901"/>
                  </a:lnTo>
                  <a:lnTo>
                    <a:pt x="1240" y="921"/>
                  </a:lnTo>
                  <a:lnTo>
                    <a:pt x="1260" y="946"/>
                  </a:lnTo>
                  <a:lnTo>
                    <a:pt x="1285" y="967"/>
                  </a:lnTo>
                  <a:lnTo>
                    <a:pt x="1305" y="982"/>
                  </a:lnTo>
                  <a:lnTo>
                    <a:pt x="1325" y="1002"/>
                  </a:lnTo>
                  <a:lnTo>
                    <a:pt x="1350" y="1022"/>
                  </a:lnTo>
                  <a:lnTo>
                    <a:pt x="1370" y="1037"/>
                  </a:lnTo>
                  <a:lnTo>
                    <a:pt x="1391" y="1052"/>
                  </a:lnTo>
                  <a:lnTo>
                    <a:pt x="1416" y="1067"/>
                  </a:lnTo>
                  <a:lnTo>
                    <a:pt x="1436" y="1082"/>
                  </a:lnTo>
                  <a:lnTo>
                    <a:pt x="1456" y="1093"/>
                  </a:lnTo>
                  <a:lnTo>
                    <a:pt x="1481" y="1108"/>
                  </a:lnTo>
                  <a:lnTo>
                    <a:pt x="1501" y="1118"/>
                  </a:lnTo>
                  <a:lnTo>
                    <a:pt x="1521" y="1128"/>
                  </a:lnTo>
                  <a:lnTo>
                    <a:pt x="1546" y="1138"/>
                  </a:lnTo>
                  <a:lnTo>
                    <a:pt x="1566" y="1148"/>
                  </a:lnTo>
                  <a:lnTo>
                    <a:pt x="1586" y="1153"/>
                  </a:lnTo>
                  <a:lnTo>
                    <a:pt x="1611" y="1163"/>
                  </a:lnTo>
                  <a:lnTo>
                    <a:pt x="1632" y="1168"/>
                  </a:lnTo>
                  <a:lnTo>
                    <a:pt x="1652" y="1173"/>
                  </a:lnTo>
                  <a:lnTo>
                    <a:pt x="1677" y="1178"/>
                  </a:lnTo>
                  <a:lnTo>
                    <a:pt x="1697" y="1183"/>
                  </a:lnTo>
                  <a:lnTo>
                    <a:pt x="1717" y="1188"/>
                  </a:lnTo>
                  <a:lnTo>
                    <a:pt x="1742" y="1193"/>
                  </a:lnTo>
                  <a:lnTo>
                    <a:pt x="1762" y="1193"/>
                  </a:lnTo>
                  <a:lnTo>
                    <a:pt x="1782" y="1198"/>
                  </a:lnTo>
                  <a:lnTo>
                    <a:pt x="1807" y="1198"/>
                  </a:lnTo>
                  <a:lnTo>
                    <a:pt x="1827" y="1203"/>
                  </a:lnTo>
                  <a:lnTo>
                    <a:pt x="1847" y="1203"/>
                  </a:lnTo>
                  <a:lnTo>
                    <a:pt x="1873" y="1208"/>
                  </a:lnTo>
                  <a:lnTo>
                    <a:pt x="1893" y="1208"/>
                  </a:lnTo>
                  <a:lnTo>
                    <a:pt x="1913" y="1208"/>
                  </a:lnTo>
                  <a:lnTo>
                    <a:pt x="1938" y="1208"/>
                  </a:lnTo>
                  <a:lnTo>
                    <a:pt x="1958" y="1208"/>
                  </a:lnTo>
                  <a:lnTo>
                    <a:pt x="1978" y="1208"/>
                  </a:lnTo>
                  <a:lnTo>
                    <a:pt x="2003" y="1208"/>
                  </a:lnTo>
                  <a:lnTo>
                    <a:pt x="2023" y="1208"/>
                  </a:lnTo>
                  <a:lnTo>
                    <a:pt x="2043" y="1208"/>
                  </a:lnTo>
                  <a:lnTo>
                    <a:pt x="2068" y="1208"/>
                  </a:lnTo>
                  <a:lnTo>
                    <a:pt x="2088" y="1208"/>
                  </a:lnTo>
                  <a:lnTo>
                    <a:pt x="2109" y="1208"/>
                  </a:lnTo>
                  <a:lnTo>
                    <a:pt x="2134" y="1208"/>
                  </a:lnTo>
                  <a:lnTo>
                    <a:pt x="2154" y="1208"/>
                  </a:lnTo>
                  <a:lnTo>
                    <a:pt x="2179" y="1213"/>
                  </a:lnTo>
                </a:path>
              </a:pathLst>
            </a:custGeom>
            <a:noFill/>
            <a:ln w="22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86120" y="3339720"/>
              <a:ext cx="3459240" cy="1925280"/>
            </a:xfrm>
            <a:custGeom>
              <a:avLst/>
              <a:gdLst/>
              <a:ahLst/>
              <a:rect l="l" t="t" r="r" b="b"/>
              <a:pathLst>
                <a:path w="2179" h="1213">
                  <a:moveTo>
                    <a:pt x="0" y="1213"/>
                  </a:moveTo>
                  <a:lnTo>
                    <a:pt x="20" y="1208"/>
                  </a:lnTo>
                  <a:lnTo>
                    <a:pt x="40" y="1208"/>
                  </a:lnTo>
                  <a:lnTo>
                    <a:pt x="65" y="1208"/>
                  </a:lnTo>
                  <a:lnTo>
                    <a:pt x="85" y="1208"/>
                  </a:lnTo>
                  <a:lnTo>
                    <a:pt x="105" y="1208"/>
                  </a:lnTo>
                  <a:lnTo>
                    <a:pt x="130" y="1208"/>
                  </a:lnTo>
                  <a:lnTo>
                    <a:pt x="150" y="1208"/>
                  </a:lnTo>
                  <a:lnTo>
                    <a:pt x="170" y="1208"/>
                  </a:lnTo>
                  <a:lnTo>
                    <a:pt x="195" y="1208"/>
                  </a:lnTo>
                  <a:lnTo>
                    <a:pt x="215" y="1208"/>
                  </a:lnTo>
                  <a:lnTo>
                    <a:pt x="236" y="1208"/>
                  </a:lnTo>
                  <a:lnTo>
                    <a:pt x="261" y="1208"/>
                  </a:lnTo>
                  <a:lnTo>
                    <a:pt x="281" y="1208"/>
                  </a:lnTo>
                  <a:lnTo>
                    <a:pt x="301" y="1208"/>
                  </a:lnTo>
                  <a:lnTo>
                    <a:pt x="326" y="1203"/>
                  </a:lnTo>
                  <a:lnTo>
                    <a:pt x="346" y="1203"/>
                  </a:lnTo>
                  <a:lnTo>
                    <a:pt x="366" y="1198"/>
                  </a:lnTo>
                  <a:lnTo>
                    <a:pt x="391" y="1198"/>
                  </a:lnTo>
                  <a:lnTo>
                    <a:pt x="411" y="1193"/>
                  </a:lnTo>
                  <a:lnTo>
                    <a:pt x="431" y="1193"/>
                  </a:lnTo>
                  <a:lnTo>
                    <a:pt x="457" y="1188"/>
                  </a:lnTo>
                  <a:lnTo>
                    <a:pt x="477" y="1183"/>
                  </a:lnTo>
                  <a:lnTo>
                    <a:pt x="497" y="1178"/>
                  </a:lnTo>
                  <a:lnTo>
                    <a:pt x="522" y="1173"/>
                  </a:lnTo>
                  <a:lnTo>
                    <a:pt x="542" y="1168"/>
                  </a:lnTo>
                  <a:lnTo>
                    <a:pt x="562" y="1163"/>
                  </a:lnTo>
                  <a:lnTo>
                    <a:pt x="587" y="1153"/>
                  </a:lnTo>
                  <a:lnTo>
                    <a:pt x="607" y="1148"/>
                  </a:lnTo>
                  <a:lnTo>
                    <a:pt x="627" y="1138"/>
                  </a:lnTo>
                  <a:lnTo>
                    <a:pt x="652" y="1128"/>
                  </a:lnTo>
                  <a:lnTo>
                    <a:pt x="672" y="1118"/>
                  </a:lnTo>
                  <a:lnTo>
                    <a:pt x="693" y="1108"/>
                  </a:lnTo>
                  <a:lnTo>
                    <a:pt x="718" y="1093"/>
                  </a:lnTo>
                  <a:lnTo>
                    <a:pt x="738" y="1082"/>
                  </a:lnTo>
                  <a:lnTo>
                    <a:pt x="758" y="1067"/>
                  </a:lnTo>
                  <a:lnTo>
                    <a:pt x="783" y="1052"/>
                  </a:lnTo>
                  <a:lnTo>
                    <a:pt x="803" y="1037"/>
                  </a:lnTo>
                  <a:lnTo>
                    <a:pt x="823" y="1022"/>
                  </a:lnTo>
                  <a:lnTo>
                    <a:pt x="848" y="1002"/>
                  </a:lnTo>
                  <a:lnTo>
                    <a:pt x="868" y="982"/>
                  </a:lnTo>
                  <a:lnTo>
                    <a:pt x="888" y="967"/>
                  </a:lnTo>
                  <a:lnTo>
                    <a:pt x="913" y="946"/>
                  </a:lnTo>
                  <a:lnTo>
                    <a:pt x="934" y="921"/>
                  </a:lnTo>
                  <a:lnTo>
                    <a:pt x="954" y="901"/>
                  </a:lnTo>
                  <a:lnTo>
                    <a:pt x="979" y="876"/>
                  </a:lnTo>
                  <a:lnTo>
                    <a:pt x="999" y="856"/>
                  </a:lnTo>
                  <a:lnTo>
                    <a:pt x="1019" y="831"/>
                  </a:lnTo>
                  <a:lnTo>
                    <a:pt x="1044" y="805"/>
                  </a:lnTo>
                  <a:lnTo>
                    <a:pt x="1064" y="775"/>
                  </a:lnTo>
                  <a:lnTo>
                    <a:pt x="1089" y="750"/>
                  </a:lnTo>
                  <a:lnTo>
                    <a:pt x="1109" y="720"/>
                  </a:lnTo>
                  <a:lnTo>
                    <a:pt x="1129" y="695"/>
                  </a:lnTo>
                  <a:lnTo>
                    <a:pt x="1154" y="664"/>
                  </a:lnTo>
                  <a:lnTo>
                    <a:pt x="1175" y="634"/>
                  </a:lnTo>
                  <a:lnTo>
                    <a:pt x="1195" y="604"/>
                  </a:lnTo>
                  <a:lnTo>
                    <a:pt x="1220" y="574"/>
                  </a:lnTo>
                  <a:lnTo>
                    <a:pt x="1240" y="539"/>
                  </a:lnTo>
                  <a:lnTo>
                    <a:pt x="1260" y="508"/>
                  </a:lnTo>
                  <a:lnTo>
                    <a:pt x="1285" y="478"/>
                  </a:lnTo>
                  <a:lnTo>
                    <a:pt x="1305" y="448"/>
                  </a:lnTo>
                  <a:lnTo>
                    <a:pt x="1325" y="413"/>
                  </a:lnTo>
                  <a:lnTo>
                    <a:pt x="1350" y="382"/>
                  </a:lnTo>
                  <a:lnTo>
                    <a:pt x="1370" y="352"/>
                  </a:lnTo>
                  <a:lnTo>
                    <a:pt x="1391" y="317"/>
                  </a:lnTo>
                  <a:lnTo>
                    <a:pt x="1416" y="287"/>
                  </a:lnTo>
                  <a:lnTo>
                    <a:pt x="1436" y="257"/>
                  </a:lnTo>
                  <a:lnTo>
                    <a:pt x="1456" y="231"/>
                  </a:lnTo>
                  <a:lnTo>
                    <a:pt x="1481" y="201"/>
                  </a:lnTo>
                  <a:lnTo>
                    <a:pt x="1501" y="176"/>
                  </a:lnTo>
                  <a:lnTo>
                    <a:pt x="1521" y="146"/>
                  </a:lnTo>
                  <a:lnTo>
                    <a:pt x="1546" y="121"/>
                  </a:lnTo>
                  <a:lnTo>
                    <a:pt x="1566" y="100"/>
                  </a:lnTo>
                  <a:lnTo>
                    <a:pt x="1586" y="80"/>
                  </a:lnTo>
                  <a:lnTo>
                    <a:pt x="1611" y="60"/>
                  </a:lnTo>
                  <a:lnTo>
                    <a:pt x="1632" y="45"/>
                  </a:lnTo>
                  <a:lnTo>
                    <a:pt x="1652" y="30"/>
                  </a:lnTo>
                  <a:lnTo>
                    <a:pt x="1677" y="15"/>
                  </a:lnTo>
                  <a:lnTo>
                    <a:pt x="1697" y="10"/>
                  </a:lnTo>
                  <a:lnTo>
                    <a:pt x="1717" y="5"/>
                  </a:lnTo>
                  <a:lnTo>
                    <a:pt x="1742" y="0"/>
                  </a:lnTo>
                  <a:lnTo>
                    <a:pt x="1762" y="5"/>
                  </a:lnTo>
                  <a:lnTo>
                    <a:pt x="1782" y="10"/>
                  </a:lnTo>
                  <a:lnTo>
                    <a:pt x="1807" y="20"/>
                  </a:lnTo>
                  <a:lnTo>
                    <a:pt x="1827" y="35"/>
                  </a:lnTo>
                  <a:lnTo>
                    <a:pt x="1847" y="55"/>
                  </a:lnTo>
                  <a:lnTo>
                    <a:pt x="1873" y="80"/>
                  </a:lnTo>
                  <a:lnTo>
                    <a:pt x="1893" y="111"/>
                  </a:lnTo>
                  <a:lnTo>
                    <a:pt x="1913" y="151"/>
                  </a:lnTo>
                  <a:lnTo>
                    <a:pt x="1938" y="191"/>
                  </a:lnTo>
                  <a:lnTo>
                    <a:pt x="1958" y="241"/>
                  </a:lnTo>
                  <a:lnTo>
                    <a:pt x="1978" y="302"/>
                  </a:lnTo>
                  <a:lnTo>
                    <a:pt x="2003" y="362"/>
                  </a:lnTo>
                  <a:lnTo>
                    <a:pt x="2023" y="438"/>
                  </a:lnTo>
                  <a:lnTo>
                    <a:pt x="2043" y="518"/>
                  </a:lnTo>
                  <a:lnTo>
                    <a:pt x="2068" y="609"/>
                  </a:lnTo>
                  <a:lnTo>
                    <a:pt x="2088" y="710"/>
                  </a:lnTo>
                  <a:lnTo>
                    <a:pt x="2109" y="821"/>
                  </a:lnTo>
                  <a:lnTo>
                    <a:pt x="2134" y="936"/>
                  </a:lnTo>
                  <a:lnTo>
                    <a:pt x="2154" y="1067"/>
                  </a:lnTo>
                  <a:lnTo>
                    <a:pt x="2179" y="1213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45040" y="2644560"/>
              <a:ext cx="941400" cy="55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45040" y="2644560"/>
              <a:ext cx="941400" cy="550440"/>
            </a:xfrm>
            <a:prstGeom prst="rect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45040" y="2644560"/>
              <a:ext cx="94140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45040" y="2644560"/>
              <a:ext cx="941400" cy="5504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0" y="69"/>
                  </a:moveTo>
                  <a:lnTo>
                    <a:pt x="118" y="69"/>
                  </a:lnTo>
                  <a:lnTo>
                    <a:pt x="118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745040" y="2644200"/>
              <a:ext cx="1800" cy="550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45040" y="3195360"/>
              <a:ext cx="9414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45040" y="2644560"/>
              <a:ext cx="941400" cy="5504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0" y="6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45040" y="2644560"/>
              <a:ext cx="941400" cy="5504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0" y="69"/>
                  </a:moveTo>
                  <a:lnTo>
                    <a:pt x="118" y="69"/>
                  </a:lnTo>
                  <a:lnTo>
                    <a:pt x="118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745040" y="2644200"/>
              <a:ext cx="1800" cy="550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48520" y="266040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=2,b=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48880" y="278748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=0.5,b=0.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48520" y="291600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=2,b=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48520" y="304308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=5,b=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02280" y="2724120"/>
              <a:ext cx="182520" cy="1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2280" y="2852640"/>
              <a:ext cx="182520" cy="10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02280" y="2987640"/>
              <a:ext cx="182520" cy="108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02280" y="3116160"/>
              <a:ext cx="18252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例子：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人打靶，打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枪，枪枪中靶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：此人枪法如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人打靶，打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枪，枪枪中靶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：此人枪法如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典方法：极大似然估计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几个学派（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典学派：频率学派，抽样学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头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ears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ey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点：概率就是频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数就是参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联合分布密度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(x1,x2,..xn ;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几个学派（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ayesia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派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头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ayes,Laplace,Jeffreys,Robb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点：频率不只是概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存在主观概率，和实体概率可转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数作为随机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件分布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(x1,x2,..xn |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几个学派（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信念学派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头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点：概率是频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观不是概率，而是信念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数不是随机变量，仅是普通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似然函数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(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| x1,x2,..xn)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批评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：置信区间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置信区间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释：区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[u1,u2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覆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概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于区间的概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缺点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是变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批评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：评价方法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假设检验、参数估计等都是多次重复的结果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知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次实验发生的可能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</a:rPr>
              <a:t>Bayesian</a:t>
            </a:r>
            <a:r>
              <a:rPr b="0" lang="zh-CN" sz="4400" spc="-1" strike="noStrike">
                <a:solidFill>
                  <a:srgbClr val="800000"/>
                </a:solidFill>
                <a:latin typeface="Arial"/>
              </a:rPr>
              <a:t>方法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Bayesian</a:t>
            </a: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公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验分布密度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(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条件分布密度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(x|y)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似然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验分布密度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(y|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验综合先验与样本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340000" y="1916280"/>
                <a:ext cx="4248000" cy="12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0:52:52Z</dcterms:created>
  <dc:creator>Lenovo User</dc:creator>
  <dc:description/>
  <dc:language>en-US</dc:language>
  <cp:lastModifiedBy>雨林木风</cp:lastModifiedBy>
  <dcterms:modified xsi:type="dcterms:W3CDTF">2009-03-28T12:53:24Z</dcterms:modified>
  <cp:revision>93</cp:revision>
  <dc:subject/>
  <dc:title>幻灯片 1</dc:title>
</cp:coreProperties>
</file>