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wmf" ContentType="image/x-wmf"/>
  <Override PartName="/ppt/media/image4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8DD-B6A7-443E-9886-ED0DD844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DC0-0AF3-4DBF-BAA2-5ED8CB9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8EF09-0041-472D-8224-25EE303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7A700-73C7-44A1-BD20-DCAA21B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A54E6-D686-4B20-8955-3A85AB0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AC1E-907F-4175-8CCE-F9DB77D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EAD34-84CB-4BD1-97B9-17E7273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56A55-F6C9-41D1-99BD-D38A329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4E848-C309-4277-ABC9-A52F01DF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73B55-535A-427E-BC1E-83AFC85E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542C9-91F2-4A72-B0E2-413194BA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91742-9809-4C96-8029-00D4570F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921-1262-42B8-901F-F6171032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73D32-450E-408B-AEE6-B5F59B9F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E0E1C-C332-45C5-913C-D7AB26C8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03F2B-B8E4-4A6B-943A-C3009D8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834B-E1A9-4C4E-9117-BD644F3A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C0F6F-EA80-401B-A691-432F180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161E8-574B-478F-8693-6DB6F1A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11FD6-B727-4A53-AA8C-562B0FC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95A24-5636-4A2E-B86D-ED77585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181A-A3A4-4972-AB00-38293AA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36079-8C1E-435B-9E6D-F6D8F731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EB5-8DBC-4729-ABC4-C76EC1E9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8D1F5-0BFA-47DD-894D-8321749D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42FEF-BEA7-4484-92AD-70A8C2FE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21F8-800E-4305-AFED-E2C7FE23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2CAD-0C4D-4832-B726-85EB781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825D5-7A01-4E29-BC11-9184906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F839-60AC-494B-9190-B7CF99C4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B444-D613-43BD-B2F8-B5FE8639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8A570-E1E6-433D-A890-0803160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ED46-0B7D-4303-B5B0-2892899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7DA92-AEFF-4763-8711-57148F7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C1B-1B31-4511-97BA-8D9E471B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1EE25-FAF6-4B7A-A089-C02F06D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070A4-80E4-4FC0-B130-383D21A8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B926E-B90D-466A-B0C4-066D246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2CB20-2F1B-4140-B4DC-2837AF5E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7F85C-4AD8-47E9-BBC2-8FEDBA62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D8542-FD00-4807-A70C-51744246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AA2A8-3327-407C-9EFF-545F9FDC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416D2-818B-4C77-A149-F9B0EE44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73C15-4EA3-45C2-A89E-6754634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76D4-2BFD-412D-984D-B5F1FF9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DB6-AC5B-486E-89B7-8827383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C9CBB-B3F9-4AA2-A402-14792F5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8BBB6-B05E-4DC9-A2EF-5A027D0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E6C59-E337-4DE2-937E-C46E5DB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10E44-40FB-4B07-8501-9CFE8764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CCE57-F53E-4E92-9B4D-0676ED10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92242-D6EE-40BB-BE66-DC716C86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D3E04-164F-4D1F-A82C-D288822D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2AB59-26E1-47A4-9088-6BB703D6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00050-73B4-4D2F-83E3-8D27805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3D4C2-38E6-4D6E-8586-5D326D2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E61-B985-49ED-BDD6-0FD1305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1DF95-1B85-4E2F-BA23-19771D5F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C4EF9-8434-46C0-AD8A-4C384EF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FEC17-139D-4096-91CA-E04E390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D3498-9E4A-4CBA-97E3-FB479A1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56C84-A742-4646-8CB2-1D50CB8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8EA55-0949-4C80-86A8-481ACAF8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4529B-AA0C-4EC6-A26D-2E47E78C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D97D5-4366-4674-AA57-BADF4601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E4F1D-144E-4662-8E21-3D45E11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C392D-9536-42A5-A3AA-6A42D33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C78-5190-4003-9511-B2C3D78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83956-ECBC-4148-9E14-0E83357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67465-7786-47E9-B56A-60C1773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156F2-C32E-4F65-B17F-0BE66335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9F476-D939-4AFA-A0B8-3B69B80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8AAFD-9DBE-4B69-861C-2A8C7AF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62416-8AF4-4AA6-80FD-6CA05CDC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C8B86-DE1C-4C87-8342-80E90F6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60932-7B65-43D9-A347-4635C229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21D36-866F-46CA-9A41-D26BD7B1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EEFF8-4496-40B1-9BBD-B4FB7521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904D-6AD3-42C1-A9CC-AB84E58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1F3B9-0C93-468E-B3CA-0F09B6A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7A94E-3E06-40E7-8467-53EF572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E810A-5B5F-4181-8527-88FC502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2FFC8-6868-48E9-B7D1-15535E2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320CE-7396-4494-9BEE-627A4BB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C4B4B-413C-45DC-8C49-DCF79B0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C3F2D-D8C7-4358-8A03-8A97FBB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7812E-49D0-47C5-8CCF-3EBA6DA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4E15E-8A1C-4092-8C5A-7D1FB757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CA95C-6900-40DB-8497-89450F93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4C8B-345E-4110-9F22-058A59A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8C75D-7B02-4983-AEF1-4EE186D0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C26EC-8285-43CD-A1A7-2E9C82B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93E1A-7395-44FB-8F76-F60F83C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C683A-83A4-4431-A20C-0840860B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FE782-74C1-43FB-8038-D234010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88BF1-9312-45D8-B0D7-5652DCC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4ECC0-9EB8-4483-B5E5-4CF79F1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DA19B-5ED6-42A3-98D0-44833C9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5F529-5330-47D1-95D6-CAB0BB1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693E5-936F-482F-B979-CAE3BFE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AC64-FC63-4342-99F6-FA623B2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A21D5-D7BE-4AFD-AD94-D557E9A9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79D61-841A-4DBE-83AF-2A0A210F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6288A-C1EB-4361-A896-0027F8E7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B74B6-7992-4B1E-8506-A1FCA0D9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AB087-1CED-478F-8D10-DADFE1C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24947-7352-447B-B14A-A5522D11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06AF0-7C9C-4A82-8C6F-C8A3022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FB30C-16A8-4950-8E6E-5F16F2D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DDE1E-3A72-4E2B-84A9-8331B5DF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7BD94-DE7E-4753-8E0E-558B5B4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0F8-2707-485A-A9D9-217C114F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C95F-7B14-4186-AA6E-19751470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B12C6-A508-4A45-9A31-C99229E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5864E-5BC4-4003-8B12-C128C1E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D5DD1-D1FA-48BB-84E5-B2D4289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FA849-667F-4CA0-99C7-E8169482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1006A-DE9C-49AA-AF1B-CE318ED9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E4F-5B87-422D-A33E-C6DE4BB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8317-29A2-4D52-B1BF-9D32305B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C6A8-9939-4616-9A46-44B9CD65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5A9-BC7D-4FF4-B506-0B996EB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4A56-D6A6-4DA6-9A3B-AA17FB61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4DFC-0186-496D-A099-0F23D77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CE1F-9635-4DB2-B5A0-4FD6568B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730B-940A-4DD7-BDF0-4501B9D0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BBDD-F33D-4DDD-9EB7-22DAA71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C3C-578E-4840-A2FC-7F2C370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5B0F-8041-4F52-9708-D860C2F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1544-4858-460D-BD4B-DCA671E0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91FE-AD26-44EF-8BBE-2206774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4ECE-18BF-4BC0-9587-3377D4A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3EE7-63E7-414A-925C-D3A46EC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48BC-13B8-4981-8F14-92FEFC5C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DEEB-0D9E-4C94-A6A6-71E49A86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8800-88EC-45E6-A245-6335E07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1409-8B06-44FF-B34E-8F860CA5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713F-7398-4D8B-8A52-F18E503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28E-297A-45B0-9D6B-76C2F60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60FC-E7A7-469C-B09D-FFCFFCF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9B26-9827-44E9-8B79-FF83569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12C77-D961-4224-A8F6-0A35D49A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1AC0-5E96-49D2-898B-452BE09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E915-1953-4E93-984E-B017C7D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E707-AF35-4A0B-ABEB-B1A24F1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3149-0C45-404B-BE84-21D3833D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3177-103C-40FD-9AFE-172F4E1E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0F8F-9322-4C35-A39D-52CC75F8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DF9C-5921-4BB2-85D3-EA6DB666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178-398A-45D3-9CEC-5BA1DB3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15C8-F1E9-4979-8BC5-2E079ED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372C-4B7E-4943-A874-EB2E8F9B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0E80-CADA-4C9C-BF2C-E3B4155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7AD4-BFD8-4DF2-B7C6-EECCF18C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8AC2-E462-4A5E-AB1C-2BBED01A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29A1-E150-49D0-B5F5-5CB7136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B165-4CFF-4FC9-ADD8-B924C20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FD3B-6BBB-4C42-AA64-8930EDA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B7CD-15DF-4FD2-8B07-1C97360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7EA9-6018-419A-987B-61D21A2B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E9A-EC7F-4B6D-A778-512D37E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7A43-9618-4C6C-A7F3-206742F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6F33-7731-4307-B02F-07567028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9407-59CF-4547-99F8-A6F3BF7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F3E8B-7C94-421B-B9B9-BA2916C3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49E9-2FEB-4060-A704-24F74FB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78A0-29B6-40BE-8C1F-B4E2929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3DC58-A746-4FB9-99C5-9A75229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C66F7-99E4-4C81-B97F-388BE9C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9F73-F3B4-4916-B807-B0EC268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CD70-779B-4EA5-BD52-0ED1C96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C9A-FDC9-4BED-80FD-E1E4360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7329-AF9A-4ECB-BA9D-2417ABC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151F-85B0-40E3-A0CF-FD08BB65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C3DE-DC06-4BDF-ADD8-27421257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5072-47EE-4A50-A274-A13C252B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6A4D-5300-4534-A6B3-615FC6D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7C7D-4F3F-4A5A-92D0-3355038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2948-BA80-4020-B3AC-F527301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7B46-95A5-4B1C-AD45-098DCB2B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78F2-900F-4058-878C-3DBA96A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D5242-AF8F-4983-9ECE-49D8EC9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083-A86C-423F-B006-3102C55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C261-CEB5-46E6-9EB0-C1BFCA3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CEC5-AF79-4520-AD0D-ECCED01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C30E9-08DA-4A4A-A263-9B5BC80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FE847-ABD0-40AE-B54F-94E3EBFF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53B8-1C11-4BF4-A67A-7ECB41A0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59B2-F9FF-45B1-92DF-D08812B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55058-82EF-4DA2-BB79-A9D0D1B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A37A-8639-41AB-871B-884B5C6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E696C-3C3F-4FD3-99BF-98773F88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F6726-6B20-4927-AE69-3D38C44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A64-CE3A-4B5C-A33B-78C17CD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4C26-D282-4312-BF1F-D4D3588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5E98E-2EFB-4E4C-9778-932A26A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7AAA3-B318-4ECB-B774-6F44991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7EEF-6B4B-4912-A02D-873585D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FBA2-1680-4D36-B20F-300B4DC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0B17-0B87-48C6-A943-CFB97F6D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D6647-1A20-4421-96A8-479F4D49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CF13-E73B-4C44-8E2B-F1F4C70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C6B5C-0B96-44CF-AF55-DB199C4A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C72E-14BE-4EEA-AF7E-07258200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F63-4B84-4513-99E7-97D882BB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260280"/>
            <a:ext cx="13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d293"/>
                </a:solidFill>
                <a:latin typeface="Arial"/>
              </a:rPr>
              <a:t>方差分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9EA-A7C8-42DE-9E6A-2B2C5BB4F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507C-9CFA-4090-939D-113D82A5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D16-D782-4379-A751-F9FEC59E2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5CEE-1604-4064-AD45-2643E931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508-FD85-4BA9-AEAB-243FCFB1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E82-A8FE-4F5C-8DF3-B89EF6A8B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4B46-DCF5-4F54-B8E7-5E82E085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15F-9C1E-41B7-87FB-E624F3E59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4C26-6EE3-4F3D-B8C9-211D7A72B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40C0-5BB7-47B0-9413-19E35B074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1723-1E4D-4627-8482-2C1D2A38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C48-0224-45BE-8F22-7F0A93B2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5CD-8944-4BC3-B2E7-86510F223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164-73AC-455E-9020-DC3027AC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D70-8A40-41C6-9C85-8A863554E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FF34-CA22-4EFB-9736-84E36C66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57280" y="2130120"/>
            <a:ext cx="489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章 方差分析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V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of Varianc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571840" y="4652640"/>
            <a:ext cx="4751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数理统计课题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7" name="Picture 3" descr=""/>
          <p:cNvPicPr/>
          <p:nvPr/>
        </p:nvPicPr>
        <p:blipFill>
          <a:blip r:embed="rId1"/>
          <a:srcRect l="0" t="0" r="3717" b="-175"/>
          <a:stretch/>
        </p:blipFill>
        <p:spPr>
          <a:xfrm>
            <a:off x="714240" y="2000160"/>
            <a:ext cx="7848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5"/>
              <p:cNvSpPr txBox="1"/>
              <p:nvPr/>
            </p:nvSpPr>
            <p:spPr>
              <a:xfrm>
                <a:off x="1949400" y="2852640"/>
                <a:ext cx="5607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0" name="Rectangle 6"/>
          <p:cNvSpPr/>
          <p:nvPr/>
        </p:nvSpPr>
        <p:spPr>
          <a:xfrm>
            <a:off x="324000" y="1773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各处理的样本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全相等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7"/>
              <p:cNvSpPr txBox="1"/>
              <p:nvPr/>
            </p:nvSpPr>
            <p:spPr>
              <a:xfrm>
                <a:off x="2001960" y="4745160"/>
                <a:ext cx="1539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8"/>
              <p:cNvSpPr txBox="1"/>
              <p:nvPr/>
            </p:nvSpPr>
            <p:spPr>
              <a:xfrm>
                <a:off x="3851280" y="4724280"/>
                <a:ext cx="31129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9"/>
              <p:cNvSpPr txBox="1"/>
              <p:nvPr/>
            </p:nvSpPr>
            <p:spPr>
              <a:xfrm>
                <a:off x="2627280" y="3933720"/>
                <a:ext cx="2376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4" name="Rectangle 11"/>
          <p:cNvSpPr/>
          <p:nvPr/>
        </p:nvSpPr>
        <p:spPr>
          <a:xfrm>
            <a:off x="539640" y="227664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684360" y="486900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3"/>
              <p:cNvSpPr txBox="1"/>
              <p:nvPr/>
            </p:nvSpPr>
            <p:spPr>
              <a:xfrm>
                <a:off x="2771640" y="1773360"/>
                <a:ext cx="34560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619280" y="3357720"/>
                <a:ext cx="36003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619280" y="2641680"/>
                <a:ext cx="30240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0" name="Rectangle 6"/>
          <p:cNvSpPr/>
          <p:nvPr/>
        </p:nvSpPr>
        <p:spPr>
          <a:xfrm>
            <a:off x="755640" y="198900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7"/>
              <p:cNvSpPr txBox="1"/>
              <p:nvPr/>
            </p:nvSpPr>
            <p:spPr>
              <a:xfrm>
                <a:off x="1692360" y="4869000"/>
                <a:ext cx="3281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8"/>
              <p:cNvSpPr txBox="1"/>
              <p:nvPr/>
            </p:nvSpPr>
            <p:spPr>
              <a:xfrm>
                <a:off x="1222200" y="5445000"/>
                <a:ext cx="4540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AutoShape 9"/>
          <p:cNvSpPr/>
          <p:nvPr/>
        </p:nvSpPr>
        <p:spPr>
          <a:xfrm>
            <a:off x="250920" y="4365720"/>
            <a:ext cx="1295280" cy="1008000"/>
          </a:xfrm>
          <a:prstGeom prst="wedgeRoundRectCallout">
            <a:avLst>
              <a:gd name="adj1" fmla="val 116666"/>
              <a:gd name="adj2" fmla="val -3220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Multiple  Comparisons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66243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1  LSD 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7"/>
              <p:cNvSpPr txBox="1"/>
              <p:nvPr/>
            </p:nvSpPr>
            <p:spPr>
              <a:xfrm>
                <a:off x="1403280" y="2708280"/>
                <a:ext cx="6624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S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9"/>
              <p:cNvSpPr txBox="1"/>
              <p:nvPr/>
            </p:nvSpPr>
            <p:spPr>
              <a:xfrm>
                <a:off x="971640" y="3716280"/>
                <a:ext cx="2376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SD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0" name="Rectangle 6"/>
          <p:cNvSpPr/>
          <p:nvPr/>
        </p:nvSpPr>
        <p:spPr>
          <a:xfrm>
            <a:off x="179280" y="1844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出的最小显著差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ast Significance Difference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，简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3492360" y="3789360"/>
            <a:ext cx="49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14"/>
              <p:cNvSpPr txBox="1"/>
              <p:nvPr/>
            </p:nvSpPr>
            <p:spPr>
              <a:xfrm>
                <a:off x="1403280" y="4292640"/>
                <a:ext cx="4680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06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1  LSD 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64" name="Picture 11" descr=""/>
          <p:cNvPicPr/>
          <p:nvPr/>
        </p:nvPicPr>
        <p:blipFill>
          <a:blip r:embed="rId1"/>
          <a:srcRect l="0" t="0" r="4329" b="72003"/>
          <a:stretch/>
        </p:blipFill>
        <p:spPr>
          <a:xfrm>
            <a:off x="684360" y="1700280"/>
            <a:ext cx="75610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2  Tukey’s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9"/>
              <p:cNvSpPr txBox="1"/>
              <p:nvPr/>
            </p:nvSpPr>
            <p:spPr>
              <a:xfrm>
                <a:off x="6443640" y="3284640"/>
                <a:ext cx="1511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5"/>
              <p:cNvSpPr txBox="1"/>
              <p:nvPr/>
            </p:nvSpPr>
            <p:spPr>
              <a:xfrm>
                <a:off x="2124000" y="1628640"/>
                <a:ext cx="41054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称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768" name="Text Box 8"/>
          <p:cNvSpPr/>
          <p:nvPr/>
        </p:nvSpPr>
        <p:spPr>
          <a:xfrm>
            <a:off x="395280" y="2852640"/>
            <a:ext cx="7850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从参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学生化极差分布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ized range  distribu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上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位数记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1"/>
              <p:cNvSpPr txBox="1"/>
              <p:nvPr/>
            </p:nvSpPr>
            <p:spPr>
              <a:xfrm>
                <a:off x="1979640" y="3716280"/>
                <a:ext cx="3817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J</m:t>
                                    </m:r>
                                  </m:e>
                                </m:rad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0" name="Text Box 13"/>
          <p:cNvSpPr/>
          <p:nvPr/>
        </p:nvSpPr>
        <p:spPr>
          <a:xfrm>
            <a:off x="1042920" y="4797360"/>
            <a:ext cx="49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8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2  Tukey’s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6"/>
              <p:cNvSpPr txBox="1"/>
              <p:nvPr/>
            </p:nvSpPr>
            <p:spPr>
              <a:xfrm>
                <a:off x="684360" y="1773360"/>
                <a:ext cx="7488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J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4" name="Picture 11" descr=""/>
          <p:cNvPicPr/>
          <p:nvPr/>
        </p:nvPicPr>
        <p:blipFill>
          <a:blip r:embed="rId1"/>
          <a:srcRect l="0" t="303" r="2175" b="86303"/>
          <a:stretch/>
        </p:blipFill>
        <p:spPr>
          <a:xfrm>
            <a:off x="684360" y="2708280"/>
            <a:ext cx="81356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1403280" y="3429000"/>
                <a:ext cx="35305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J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7" name="Rectangle 5"/>
          <p:cNvSpPr/>
          <p:nvPr/>
        </p:nvSpPr>
        <p:spPr>
          <a:xfrm>
            <a:off x="762840" y="1778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两比较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900000" y="4581360"/>
            <a:ext cx="48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认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平有显著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9"/>
              <p:cNvSpPr txBox="1"/>
              <p:nvPr/>
            </p:nvSpPr>
            <p:spPr>
              <a:xfrm>
                <a:off x="2700360" y="1773360"/>
                <a:ext cx="230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个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Rectangle 11"/>
          <p:cNvSpPr/>
          <p:nvPr/>
        </p:nvSpPr>
        <p:spPr>
          <a:xfrm>
            <a:off x="395280" y="2565360"/>
            <a:ext cx="7921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显著性水平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取每个两两比较的显著性水平为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两比较合计犯弃真错误的概率不超过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3"/>
              <p:cNvSpPr txBox="1"/>
              <p:nvPr/>
            </p:nvSpPr>
            <p:spPr>
              <a:xfrm>
                <a:off x="1332000" y="1916280"/>
                <a:ext cx="2735280" cy="22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5"/>
              <p:cNvSpPr txBox="1"/>
              <p:nvPr/>
            </p:nvSpPr>
            <p:spPr>
              <a:xfrm>
                <a:off x="971640" y="4365720"/>
                <a:ext cx="5184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06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293"/>
                </a:solidFill>
                <a:latin typeface="Arial"/>
              </a:rPr>
              <a:t>本章大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619280" y="2492280"/>
            <a:ext cx="6408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1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单因素方差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2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多重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3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双因素方差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6.4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非参数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"/>
          <p:cNvSpPr/>
          <p:nvPr/>
        </p:nvSpPr>
        <p:spPr>
          <a:xfrm>
            <a:off x="1332000" y="1628640"/>
            <a:ext cx="633564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2 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多重比较</a:t>
            </a:r>
            <a:br>
              <a:rPr sz="44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3  Bonferroni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85" name="Picture 1024" descr=""/>
          <p:cNvPicPr/>
          <p:nvPr/>
        </p:nvPicPr>
        <p:blipFill>
          <a:blip r:embed="rId1"/>
          <a:srcRect l="0" t="0" r="2623" b="71713"/>
          <a:stretch/>
        </p:blipFill>
        <p:spPr>
          <a:xfrm>
            <a:off x="395280" y="1700280"/>
            <a:ext cx="83534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Two-Way ANOVA 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187280" y="2565360"/>
            <a:ext cx="5185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3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交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3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交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826920" y="1700280"/>
            <a:ext cx="568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电烤箱烧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菜肴， 考察用电量（千瓦小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16000" y="2924280"/>
          <a:ext cx="6553080" cy="2090520"/>
        </p:xfrm>
        <a:graphic>
          <a:graphicData uri="http://schemas.openxmlformats.org/drawingml/2006/table">
            <a:tbl>
              <a:tblPr/>
              <a:tblGrid>
                <a:gridCol w="1639800"/>
                <a:gridCol w="1646280"/>
                <a:gridCol w="1639800"/>
                <a:gridCol w="16272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u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菜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烤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3"/>
              <p:cNvSpPr txBox="1"/>
              <p:nvPr/>
            </p:nvSpPr>
            <p:spPr>
              <a:xfrm>
                <a:off x="2700360" y="2421000"/>
                <a:ext cx="2879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3780000" y="3573360"/>
                <a:ext cx="1152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6" name="Rectangle 6"/>
          <p:cNvSpPr/>
          <p:nvPr/>
        </p:nvSpPr>
        <p:spPr>
          <a:xfrm>
            <a:off x="468360" y="177336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加模型（无交互作用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10"/>
          <p:cNvSpPr/>
          <p:nvPr/>
        </p:nvSpPr>
        <p:spPr>
          <a:xfrm>
            <a:off x="468360" y="3068640"/>
            <a:ext cx="568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13"/>
          <p:cNvSpPr/>
          <p:nvPr/>
        </p:nvSpPr>
        <p:spPr>
          <a:xfrm>
            <a:off x="539640" y="450864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4"/>
              <p:cNvSpPr txBox="1"/>
              <p:nvPr/>
            </p:nvSpPr>
            <p:spPr>
              <a:xfrm>
                <a:off x="3780000" y="5013360"/>
                <a:ext cx="1079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5"/>
              <p:cNvSpPr txBox="1"/>
              <p:nvPr/>
            </p:nvSpPr>
            <p:spPr>
              <a:xfrm>
                <a:off x="539640" y="2422440"/>
                <a:ext cx="8137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r>
                          <m:t xml:space="preserve">J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J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J</m:t>
                                            </m:r>
                                          </m:sup>
                                          <m:e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  <m:r>
                                                  <m:t xml:space="preserve">⋅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¯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j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+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¯"/>
                                                      </m:accPr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⋅</m:t>
                                                    </m:r>
                                                    <m:sSup>
                                                      <m:e>
                                                        <m:r>
                                                          <m:t xml:space="preserve">)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1835280" y="4365720"/>
                <a:ext cx="1512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5796000" y="4437000"/>
                <a:ext cx="18730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9"/>
              <p:cNvSpPr txBox="1"/>
              <p:nvPr/>
            </p:nvSpPr>
            <p:spPr>
              <a:xfrm>
                <a:off x="2050920" y="3573360"/>
                <a:ext cx="3529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5" name="Rectangle 11"/>
          <p:cNvSpPr/>
          <p:nvPr/>
        </p:nvSpPr>
        <p:spPr>
          <a:xfrm>
            <a:off x="468360" y="1844640"/>
            <a:ext cx="23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539640" y="429264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15"/>
              <p:cNvSpPr txBox="1"/>
              <p:nvPr/>
            </p:nvSpPr>
            <p:spPr>
              <a:xfrm>
                <a:off x="3995640" y="4437000"/>
                <a:ext cx="1440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3"/>
              <p:cNvSpPr txBox="1"/>
              <p:nvPr/>
            </p:nvSpPr>
            <p:spPr>
              <a:xfrm>
                <a:off x="1403280" y="2349360"/>
                <a:ext cx="64087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4"/>
              <p:cNvSpPr txBox="1"/>
              <p:nvPr/>
            </p:nvSpPr>
            <p:spPr>
              <a:xfrm>
                <a:off x="1487520" y="4365720"/>
                <a:ext cx="285588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5"/>
              <p:cNvSpPr txBox="1"/>
              <p:nvPr/>
            </p:nvSpPr>
            <p:spPr>
              <a:xfrm>
                <a:off x="1332000" y="3357720"/>
                <a:ext cx="6840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2" name="Rectangle 6"/>
          <p:cNvSpPr/>
          <p:nvPr/>
        </p:nvSpPr>
        <p:spPr>
          <a:xfrm>
            <a:off x="250920" y="184464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9"/>
          <p:cNvSpPr/>
          <p:nvPr/>
        </p:nvSpPr>
        <p:spPr>
          <a:xfrm>
            <a:off x="4643280" y="5300640"/>
            <a:ext cx="3097440" cy="432000"/>
          </a:xfrm>
          <a:prstGeom prst="wedgeRoundRectCallout">
            <a:avLst>
              <a:gd name="adj1" fmla="val -62662"/>
              <a:gd name="adj2" fmla="val -4779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7"/>
              <p:cNvSpPr txBox="1"/>
              <p:nvPr/>
            </p:nvSpPr>
            <p:spPr>
              <a:xfrm>
                <a:off x="1042920" y="2060640"/>
                <a:ext cx="3281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8"/>
              <p:cNvSpPr txBox="1"/>
              <p:nvPr/>
            </p:nvSpPr>
            <p:spPr>
              <a:xfrm>
                <a:off x="1042920" y="2781360"/>
                <a:ext cx="4470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0"/>
              <p:cNvSpPr txBox="1"/>
              <p:nvPr/>
            </p:nvSpPr>
            <p:spPr>
              <a:xfrm>
                <a:off x="1116000" y="3645000"/>
                <a:ext cx="343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1258920" y="4437000"/>
                <a:ext cx="4424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54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3841920"/>
          </a:xfrm>
          <a:prstGeom prst="rect">
            <a:avLst/>
          </a:prstGeom>
          <a:ln w="0">
            <a:noFill/>
          </a:ln>
        </p:spPr>
      </p:pic>
      <p:sp>
        <p:nvSpPr>
          <p:cNvPr id="822" name="AutoShape 24"/>
          <p:cNvSpPr/>
          <p:nvPr/>
        </p:nvSpPr>
        <p:spPr>
          <a:xfrm>
            <a:off x="6227640" y="1700280"/>
            <a:ext cx="2519640" cy="431640"/>
          </a:xfrm>
          <a:prstGeom prst="wedgeRoundRectCallout">
            <a:avLst>
              <a:gd name="adj1" fmla="val -54662"/>
              <a:gd name="adj2" fmla="val 143013"/>
              <a:gd name="adj3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分析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54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无交互作用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-75708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6840720" cy="508968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24"/>
          <p:cNvSpPr/>
          <p:nvPr/>
        </p:nvSpPr>
        <p:spPr>
          <a:xfrm>
            <a:off x="6948360" y="1700280"/>
            <a:ext cx="1873440" cy="936720"/>
          </a:xfrm>
          <a:prstGeom prst="wedgeRoundRectCallout">
            <a:avLst>
              <a:gd name="adj1" fmla="val -85509"/>
              <a:gd name="adj2" fmla="val 150675"/>
              <a:gd name="adj3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差分析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468360" y="1989000"/>
            <a:ext cx="8280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当两因素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间存在交互作用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(interactions)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为了考察交互作用就要做重复实验，如果每个处理的实验次数</a:t>
            </a:r>
            <a:r>
              <a:rPr b="0" i="1" lang="en-US" sz="2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都是相等的则称为平衡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(balanced)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实验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611280" y="1773360"/>
            <a:ext cx="8137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扑尔敏（氯苯吡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phenira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药片的剂量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药厂生产的扑尔敏药片中，各抽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片做检验，测量出每片中含有氯苯吡胺的剂量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120"/>
          <p:cNvSpPr/>
          <p:nvPr/>
        </p:nvSpPr>
        <p:spPr>
          <a:xfrm>
            <a:off x="468360" y="3284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指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定量变量，本例为药片的剂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验因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ctor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定性变量，本例为单因素，只有药厂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实验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素水平：实验因素的不同取值，本例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也称为处理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611280" y="1700280"/>
          <a:ext cx="4824360" cy="497340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8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9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Rectangle 29"/>
          <p:cNvSpPr/>
          <p:nvPr/>
        </p:nvSpPr>
        <p:spPr>
          <a:xfrm>
            <a:off x="5651640" y="1844640"/>
            <a:ext cx="3097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考察两种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剂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ag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的保存百分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4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81644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5"/>
          <p:cNvSpPr/>
          <p:nvPr/>
        </p:nvSpPr>
        <p:spPr>
          <a:xfrm>
            <a:off x="539640" y="2997360"/>
            <a:ext cx="10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对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变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3"/>
              <p:cNvSpPr txBox="1"/>
              <p:nvPr/>
            </p:nvSpPr>
            <p:spPr>
              <a:xfrm>
                <a:off x="2340000" y="2349360"/>
                <a:ext cx="3240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4"/>
              <p:cNvSpPr txBox="1"/>
              <p:nvPr/>
            </p:nvSpPr>
            <p:spPr>
              <a:xfrm>
                <a:off x="5867280" y="2852640"/>
                <a:ext cx="1082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9" name="Rectangle 5"/>
          <p:cNvSpPr/>
          <p:nvPr/>
        </p:nvSpPr>
        <p:spPr>
          <a:xfrm>
            <a:off x="468360" y="177336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交互作用模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468360" y="2997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539640" y="4005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8"/>
              <p:cNvSpPr txBox="1"/>
              <p:nvPr/>
            </p:nvSpPr>
            <p:spPr>
              <a:xfrm>
                <a:off x="5796000" y="3789360"/>
                <a:ext cx="1079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3" name="Rectangle 9"/>
          <p:cNvSpPr/>
          <p:nvPr/>
        </p:nvSpPr>
        <p:spPr>
          <a:xfrm>
            <a:off x="611280" y="4797360"/>
            <a:ext cx="78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素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交互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Object 10"/>
              <p:cNvSpPr txBox="1"/>
              <p:nvPr/>
            </p:nvSpPr>
            <p:spPr>
              <a:xfrm>
                <a:off x="2700360" y="5373720"/>
                <a:ext cx="2303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3"/>
              <p:cNvSpPr txBox="1"/>
              <p:nvPr/>
            </p:nvSpPr>
            <p:spPr>
              <a:xfrm>
                <a:off x="324000" y="1773360"/>
                <a:ext cx="85690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J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⋅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I</m:t>
                                            </m:r>
                                          </m:sup>
                                          <m:e>
                                            <m:nary>
                                              <m:naryPr>
                                                <m:chr m:val="∑"/>
                                              </m:naryPr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  <m:r>
                                                  <m:t xml:space="preserve">=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J</m:t>
                                                </m:r>
                                              </m:sup>
                                              <m:e>
                                                <m:nary>
                                                  <m:naryPr>
                                                    <m:chr m:val="∑"/>
                                                  </m:naryPr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  <m:r>
                                                      <m:t xml:space="preserve">=</m:t>
                                                    </m:r>
                                                    <m:r>
                                                      <m:t xml:space="preserve">1</m:t>
                                                    </m:r>
                                                  </m:sub>
                                                  <m:sup>
                                                    <m:r>
                                                      <m:t xml:space="preserve">K</m:t>
                                                    </m:r>
                                                  </m:sup>
                                                  <m:e>
                                                    <m:r>
                                                      <m:t xml:space="preserve">(</m:t>
                                                    </m:r>
                                                    <m:sSub>
                                                      <m:e>
                                                        <m:r>
                                                          <m:t xml:space="preserve">Y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rPr>
                                                            <m:lit/>
                                                            <m:nor/>
                                                          </m:rPr>
                                                          <m:t xml:space="preserve">ijk</m:t>
                                                        </m:r>
                                                      </m:sub>
                                                    </m:sSub>
                                                    <m:r>
                                                      <m:t xml:space="preserve">−</m:t>
                                                    </m:r>
                                                    <m:sSub>
                                                      <m:e>
                                                        <m:acc>
                                                          <m:accPr>
                                                            <m:chr m:val="¯"/>
                                                          </m:accPr>
                                                          <m:e>
                                                            <m:r>
                                                              <m:t xml:space="preserve">Y</m:t>
                                                            </m:r>
                                                          </m:e>
                                                        </m:acc>
                                                      </m:e>
                                                      <m:sub>
                                                        <m:r>
                                                          <m:t xml:space="preserve">⋅</m:t>
                                                        </m:r>
                                                      </m:sub>
                                                    </m:sSub>
                                                    <m:sSup>
                                                      <m:e>
                                                        <m:r>
                                                          <m:t xml:space="preserve">)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e>
                                                </m:nary>
                                              </m:e>
                                            </m:nary>
                                          </m:e>
                                        </m:nary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4"/>
              <p:cNvSpPr txBox="1"/>
              <p:nvPr/>
            </p:nvSpPr>
            <p:spPr>
              <a:xfrm>
                <a:off x="1258920" y="4437000"/>
                <a:ext cx="1944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6012000" y="4365720"/>
                <a:ext cx="2252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ct 6"/>
              <p:cNvSpPr txBox="1"/>
              <p:nvPr/>
            </p:nvSpPr>
            <p:spPr>
              <a:xfrm>
                <a:off x="1763640" y="3284640"/>
                <a:ext cx="452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0" name="Rectangle 7"/>
          <p:cNvSpPr/>
          <p:nvPr/>
        </p:nvSpPr>
        <p:spPr>
          <a:xfrm>
            <a:off x="468360" y="184464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324000" y="3933720"/>
            <a:ext cx="115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9"/>
              <p:cNvSpPr txBox="1"/>
              <p:nvPr/>
            </p:nvSpPr>
            <p:spPr>
              <a:xfrm>
                <a:off x="3718080" y="4437000"/>
                <a:ext cx="1996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6"/>
              <p:cNvSpPr txBox="1"/>
              <p:nvPr/>
            </p:nvSpPr>
            <p:spPr>
              <a:xfrm>
                <a:off x="1476360" y="2781360"/>
                <a:ext cx="6696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6" name="Text Box 5"/>
          <p:cNvSpPr/>
          <p:nvPr/>
        </p:nvSpPr>
        <p:spPr>
          <a:xfrm>
            <a:off x="468360" y="177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在正态假设下对参数做极大似然估计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对数似然函数为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684360" y="378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得参数估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9"/>
              <p:cNvSpPr txBox="1"/>
              <p:nvPr/>
            </p:nvSpPr>
            <p:spPr>
              <a:xfrm>
                <a:off x="3276720" y="3933720"/>
                <a:ext cx="248904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δ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⋅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3"/>
              <p:cNvSpPr txBox="1"/>
              <p:nvPr/>
            </p:nvSpPr>
            <p:spPr>
              <a:xfrm>
                <a:off x="826920" y="2205000"/>
                <a:ext cx="2671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Object 4"/>
              <p:cNvSpPr txBox="1"/>
              <p:nvPr/>
            </p:nvSpPr>
            <p:spPr>
              <a:xfrm>
                <a:off x="755640" y="5373720"/>
                <a:ext cx="64087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"/>
              <p:cNvSpPr txBox="1"/>
              <p:nvPr/>
            </p:nvSpPr>
            <p:spPr>
              <a:xfrm>
                <a:off x="4284720" y="2205000"/>
                <a:ext cx="3370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3" name="Rectangle 6"/>
          <p:cNvSpPr/>
          <p:nvPr/>
        </p:nvSpPr>
        <p:spPr>
          <a:xfrm>
            <a:off x="250920" y="1700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Object 8"/>
              <p:cNvSpPr txBox="1"/>
              <p:nvPr/>
            </p:nvSpPr>
            <p:spPr>
              <a:xfrm>
                <a:off x="4356000" y="3284640"/>
                <a:ext cx="3456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900000" y="3213000"/>
                <a:ext cx="2681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11"/>
              <p:cNvSpPr txBox="1"/>
              <p:nvPr/>
            </p:nvSpPr>
            <p:spPr>
              <a:xfrm>
                <a:off x="539640" y="4365720"/>
                <a:ext cx="3283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2"/>
              <p:cNvSpPr txBox="1"/>
              <p:nvPr/>
            </p:nvSpPr>
            <p:spPr>
              <a:xfrm>
                <a:off x="4067280" y="4292640"/>
                <a:ext cx="46400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3"/>
              <p:cNvSpPr txBox="1"/>
              <p:nvPr/>
            </p:nvSpPr>
            <p:spPr>
              <a:xfrm>
                <a:off x="1258920" y="1700280"/>
                <a:ext cx="4249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7"/>
              <p:cNvSpPr txBox="1"/>
              <p:nvPr/>
            </p:nvSpPr>
            <p:spPr>
              <a:xfrm>
                <a:off x="1116000" y="3068640"/>
                <a:ext cx="3673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Object 4"/>
              <p:cNvSpPr txBox="1"/>
              <p:nvPr/>
            </p:nvSpPr>
            <p:spPr>
              <a:xfrm>
                <a:off x="1187280" y="2349360"/>
                <a:ext cx="547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5"/>
              <p:cNvSpPr txBox="1"/>
              <p:nvPr/>
            </p:nvSpPr>
            <p:spPr>
              <a:xfrm>
                <a:off x="1116000" y="4581360"/>
                <a:ext cx="48038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Object 6"/>
              <p:cNvSpPr txBox="1"/>
              <p:nvPr/>
            </p:nvSpPr>
            <p:spPr>
              <a:xfrm>
                <a:off x="1055520" y="3789360"/>
                <a:ext cx="5240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9"/>
              <p:cNvSpPr txBox="1"/>
              <p:nvPr/>
            </p:nvSpPr>
            <p:spPr>
              <a:xfrm>
                <a:off x="1187280" y="5300640"/>
                <a:ext cx="619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496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82" name="Picture 5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81800" cy="22449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6" descr=""/>
          <p:cNvPicPr/>
          <p:nvPr/>
        </p:nvPicPr>
        <p:blipFill>
          <a:blip r:embed="rId2"/>
          <a:stretch/>
        </p:blipFill>
        <p:spPr>
          <a:xfrm>
            <a:off x="1476360" y="3645000"/>
            <a:ext cx="640872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755640" y="155736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826920" y="2276640"/>
          <a:ext cx="6778800" cy="419256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959040"/>
                <a:gridCol w="977760"/>
                <a:gridCol w="968400"/>
                <a:gridCol w="96840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有交互作用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4" descr=""/>
          <p:cNvPicPr/>
          <p:nvPr/>
        </p:nvPicPr>
        <p:blipFill>
          <a:blip r:embed="rId1"/>
          <a:srcRect l="0" t="6071" r="9284" b="0"/>
          <a:stretch/>
        </p:blipFill>
        <p:spPr>
          <a:xfrm>
            <a:off x="324000" y="1628640"/>
            <a:ext cx="6048360" cy="5010120"/>
          </a:xfrm>
          <a:prstGeom prst="rect">
            <a:avLst/>
          </a:prstGeom>
          <a:ln w="0">
            <a:noFill/>
          </a:ln>
        </p:spPr>
      </p:pic>
      <p:sp>
        <p:nvSpPr>
          <p:cNvPr id="890" name="AutoShape 5"/>
          <p:cNvSpPr/>
          <p:nvPr/>
        </p:nvSpPr>
        <p:spPr>
          <a:xfrm>
            <a:off x="6300720" y="2997360"/>
            <a:ext cx="2519280" cy="2016000"/>
          </a:xfrm>
          <a:prstGeom prst="wedgeRoundRectCallout">
            <a:avLst>
              <a:gd name="adj1" fmla="val -136263"/>
              <a:gd name="adj2" fmla="val -18898"/>
              <a:gd name="adj3" fmla="val 16667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两条线段平行时无交互作用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两条线段不平行时有交互作用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468360" y="1773360"/>
            <a:ext cx="8064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人为划分的时间、空间、设备等实验条件称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区组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block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区组因素也是影响实验指标的因素，但并不是实验者所要考察的因素，也称为非处理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    </a:t>
            </a:r>
            <a:r>
              <a:rPr b="1" lang="zh-CN" sz="2400" spc="-1" strike="noStrike">
                <a:solidFill>
                  <a:srgbClr val="292929"/>
                </a:solidFill>
                <a:latin typeface="SimSun"/>
              </a:rPr>
              <a:t>任何实验都是在一定的时间、空间范围内并使用一定的设备进行的，把这些实验条件都保持一致是最理想的，但是这在很多场合是办不到的。解决的办法是把这些区组因素也纳入实验中，在对实验做设计和数据分析中也都作为实验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468360" y="177336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随机化区组设计是指实验中含有一个实验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一个区组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对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的每一种水平搭配，以概率均等的原则，随机地选择实验单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随机化区组设计可以是重复实验，也可以是无重复实验。如果要考查实验因素和区组因素的交互作用就必须做重复实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742760" y="1988640"/>
            <a:ext cx="5708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68360" y="1773360"/>
            <a:ext cx="806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7.3     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研究药物减轻皮肤瘙痒的作用，实验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是药物种类，共有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种药物，同时还有不用药的空白水平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o Drug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），和使用安慰剂（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lacebo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）的安慰对照水平，共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个水平。区组因素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是受试个体。使用药物种类的顺序是随机的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1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3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双因素方差分析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6.3.3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随机区组设计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3571920"/>
          </a:xfrm>
          <a:prstGeom prst="rect">
            <a:avLst/>
          </a:prstGeom>
          <a:ln w="0">
            <a:noFill/>
          </a:ln>
        </p:spPr>
      </p:pic>
      <p:sp>
        <p:nvSpPr>
          <p:cNvPr id="904" name="AutoShape 5"/>
          <p:cNvSpPr/>
          <p:nvPr/>
        </p:nvSpPr>
        <p:spPr>
          <a:xfrm>
            <a:off x="1258920" y="5373720"/>
            <a:ext cx="309708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31" y="3117"/>
                </a:moveTo>
                <a:lnTo>
                  <a:pt x="-6167" y="3117"/>
                </a:lnTo>
                <a:lnTo>
                  <a:pt x="-6167" y="-23461"/>
                </a:lnTo>
                <a:lnTo>
                  <a:pt x="-565" y="-35711"/>
                </a:ln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没有重复实验，把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teraction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</a:rPr>
              <a:t>作为误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.4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3"/>
              <p:cNvSpPr txBox="1"/>
              <p:nvPr/>
            </p:nvSpPr>
            <p:spPr>
              <a:xfrm>
                <a:off x="1042920" y="2637000"/>
                <a:ext cx="2087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4"/>
              <p:cNvSpPr txBox="1"/>
              <p:nvPr/>
            </p:nvSpPr>
            <p:spPr>
              <a:xfrm>
                <a:off x="1332000" y="3213000"/>
                <a:ext cx="54007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8" name="Text Box 5"/>
          <p:cNvSpPr/>
          <p:nvPr/>
        </p:nvSpPr>
        <p:spPr>
          <a:xfrm>
            <a:off x="539640" y="1557360"/>
            <a:ext cx="835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单因素方差分析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onparametric Method- The Kruskal-Walli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3635280" y="263700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7"/>
              <p:cNvSpPr txBox="1"/>
              <p:nvPr/>
            </p:nvSpPr>
            <p:spPr>
              <a:xfrm>
                <a:off x="1835280" y="4221000"/>
                <a:ext cx="3887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1" name="Text Box 8"/>
          <p:cNvSpPr/>
          <p:nvPr/>
        </p:nvSpPr>
        <p:spPr>
          <a:xfrm>
            <a:off x="611280" y="5300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当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成立时近似有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.4 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400"/>
            </a:b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176720" cy="324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4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38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6.4   </a:t>
            </a: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非参数方法 </a:t>
            </a:r>
            <a:br>
              <a:rPr sz="4800"/>
            </a:b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nparametric Method)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4"/>
              <p:cNvSpPr txBox="1"/>
              <p:nvPr/>
            </p:nvSpPr>
            <p:spPr>
              <a:xfrm>
                <a:off x="2297160" y="3213000"/>
                <a:ext cx="3470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7" name="Text Box 5"/>
          <p:cNvSpPr/>
          <p:nvPr/>
        </p:nvSpPr>
        <p:spPr>
          <a:xfrm>
            <a:off x="539640" y="1557360"/>
            <a:ext cx="8353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随机区组设计（双因素方差分析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onparametric Method- Friedman’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6"/>
          <p:cNvSpPr/>
          <p:nvPr/>
        </p:nvSpPr>
        <p:spPr>
          <a:xfrm>
            <a:off x="900000" y="2708280"/>
            <a:ext cx="64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Times New Roman"/>
              </a:rPr>
              <a:t>对第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292929"/>
                </a:solidFill>
                <a:latin typeface="Times New Roman"/>
              </a:rPr>
              <a:t>个区组，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是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个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292929"/>
                </a:solidFill>
                <a:latin typeface="Times New Roman"/>
              </a:rPr>
              <a:t>ij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的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7"/>
              <p:cNvSpPr txBox="1"/>
              <p:nvPr/>
            </p:nvSpPr>
            <p:spPr>
              <a:xfrm>
                <a:off x="2054160" y="4221000"/>
                <a:ext cx="34498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20" name="Text Box 8"/>
          <p:cNvSpPr/>
          <p:nvPr/>
        </p:nvSpPr>
        <p:spPr>
          <a:xfrm>
            <a:off x="611280" y="5300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当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成立时近似有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~</a:t>
            </a:r>
            <a:r>
              <a:rPr b="0" i="1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835280" y="1700280"/>
            <a:ext cx="20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547640" y="2349360"/>
          <a:ext cx="5040360" cy="3249720"/>
        </p:xfrm>
        <a:graphic>
          <a:graphicData uri="http://schemas.openxmlformats.org/drawingml/2006/table">
            <a:tbl>
              <a:tblPr/>
              <a:tblGrid>
                <a:gridCol w="968400"/>
                <a:gridCol w="968400"/>
                <a:gridCol w="968400"/>
                <a:gridCol w="1344600"/>
                <a:gridCol w="7905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处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观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…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…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6948360" y="2492280"/>
            <a:ext cx="1800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箱线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pl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31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64087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5"/>
              <p:cNvSpPr txBox="1"/>
              <p:nvPr/>
            </p:nvSpPr>
            <p:spPr>
              <a:xfrm>
                <a:off x="2050920" y="1773360"/>
                <a:ext cx="20163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7"/>
              <p:cNvSpPr txBox="1"/>
              <p:nvPr/>
            </p:nvSpPr>
            <p:spPr>
              <a:xfrm>
                <a:off x="5148360" y="2192400"/>
                <a:ext cx="1152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9"/>
              <p:cNvSpPr txBox="1"/>
              <p:nvPr/>
            </p:nvSpPr>
            <p:spPr>
              <a:xfrm>
                <a:off x="2050920" y="3230640"/>
                <a:ext cx="5689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9" name="Rectangle 3"/>
          <p:cNvSpPr/>
          <p:nvPr/>
        </p:nvSpPr>
        <p:spPr>
          <a:xfrm>
            <a:off x="324000" y="177336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统计模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1"/>
              <p:cNvSpPr txBox="1"/>
              <p:nvPr/>
            </p:nvSpPr>
            <p:spPr>
              <a:xfrm>
                <a:off x="1979640" y="4724280"/>
                <a:ext cx="1584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13"/>
              <p:cNvSpPr txBox="1"/>
              <p:nvPr/>
            </p:nvSpPr>
            <p:spPr>
              <a:xfrm>
                <a:off x="4140360" y="4724280"/>
                <a:ext cx="2016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14"/>
              <p:cNvSpPr txBox="1"/>
              <p:nvPr/>
            </p:nvSpPr>
            <p:spPr>
              <a:xfrm>
                <a:off x="2627280" y="4149720"/>
                <a:ext cx="2376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3" name="Rectangle 15"/>
          <p:cNvSpPr/>
          <p:nvPr/>
        </p:nvSpPr>
        <p:spPr>
          <a:xfrm>
            <a:off x="395280" y="234936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水平的效应，满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68360" y="2852640"/>
            <a:ext cx="23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和分解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684360" y="4869000"/>
            <a:ext cx="11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5"/>
              <p:cNvSpPr txBox="1"/>
              <p:nvPr/>
            </p:nvSpPr>
            <p:spPr>
              <a:xfrm>
                <a:off x="2771640" y="1773360"/>
                <a:ext cx="21607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"/>
              <p:cNvSpPr txBox="1"/>
              <p:nvPr/>
            </p:nvSpPr>
            <p:spPr>
              <a:xfrm>
                <a:off x="1763640" y="3500280"/>
                <a:ext cx="2448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9"/>
              <p:cNvSpPr txBox="1"/>
              <p:nvPr/>
            </p:nvSpPr>
            <p:spPr>
              <a:xfrm>
                <a:off x="1619280" y="2637000"/>
                <a:ext cx="3024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0" name="Rectangle 3"/>
          <p:cNvSpPr/>
          <p:nvPr/>
        </p:nvSpPr>
        <p:spPr>
          <a:xfrm>
            <a:off x="755640" y="198900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统计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11"/>
              <p:cNvSpPr txBox="1"/>
              <p:nvPr/>
            </p:nvSpPr>
            <p:spPr>
              <a:xfrm>
                <a:off x="1692360" y="4869000"/>
                <a:ext cx="3281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3"/>
              <p:cNvSpPr txBox="1"/>
              <p:nvPr/>
            </p:nvSpPr>
            <p:spPr>
              <a:xfrm>
                <a:off x="1619280" y="5445000"/>
                <a:ext cx="3744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成立时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AutoShape 14"/>
          <p:cNvSpPr/>
          <p:nvPr/>
        </p:nvSpPr>
        <p:spPr>
          <a:xfrm>
            <a:off x="250920" y="4365720"/>
            <a:ext cx="1295280" cy="1008000"/>
          </a:xfrm>
          <a:prstGeom prst="wedgeRoundRectCallout">
            <a:avLst>
              <a:gd name="adj1" fmla="val 116666"/>
              <a:gd name="adj2" fmla="val -3220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ed sampl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6.1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因素方差分析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One-Way ANOVA)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35" name="Picture 6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984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0:52:52Z</dcterms:created>
  <dc:creator>Lenovo User</dc:creator>
  <dc:description/>
  <dc:language>en-US</dc:language>
  <cp:lastModifiedBy>Administrators</cp:lastModifiedBy>
  <dcterms:modified xsi:type="dcterms:W3CDTF">2009-03-22T01:23:01Z</dcterms:modified>
  <cp:revision>97</cp:revision>
  <dc:subject/>
  <dc:title>幻灯片 1</dc:title>
</cp:coreProperties>
</file>