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4.jpeg" ContentType="image/jpeg"/>
  <Override PartName="/ppt/media/image13.png" ContentType="image/png"/>
  <Override PartName="/ppt/media/image37.jpeg" ContentType="image/jpeg"/>
  <Override PartName="/ppt/media/image11.png" ContentType="image/png"/>
  <Override PartName="/ppt/media/image30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12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175D-795D-49E4-9B83-C9FABB15EC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假设是个犯罪网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早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有人提出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,q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增加可以使网络的连接复杂度降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不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视化作图的系统还不够复杂，因为可视化算法太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复杂系统的内在关联比较模糊，难以定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先要了解复杂系统的特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一个古老的实验，现在生物学中，基因的作用要复杂的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560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向量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587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条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基因的数量 百万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现了吗，他们的联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虽然看到大家都在很努力的工作，但是有太多的重复劳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像层出不穷的那些没有用的小网站，让局面混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的甘肃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统计说白了就是用数字或者给予数字的图来描述世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高维空间的最大特点就是距离的重新定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个标签一个维度，每个维度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8E6-C3B8-47CC-9740-01BAF792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9E6-841F-4A83-A363-8D4EC197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BF2-22BC-4A56-BE44-184CC18C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3DD-D6AF-40BB-92B3-C540CD36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0A2-D54A-428A-B4AA-F794AC9E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AC5-9BD2-4186-892C-A56F96D3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9BC-2A1D-4933-8479-12530A42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726-7B1A-4228-981C-9EA41AE7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955-7E5B-45D9-A97D-0FA8B060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D16-C7B9-4E3F-9EF7-D297CCA3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63C-FEB7-47D1-893B-FF076E38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CDE-BA8C-4AD0-85CF-E3B594F2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CD29-F55B-4857-9E0E-0400782723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hudong.com/wiki/&#23075;&#38155;&#30666;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ochemlab.cn/pictures/Biology/2007-12-17/Biochemistry_DNA766.html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52photoshop.cn/pic14915.html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hudong.com/wiki/&#28699;&#29111;&#30153;&#32468;&#23341;&#20818;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6609" t="9049" r="15563" b="9901"/>
          <a:stretch/>
        </p:blipFill>
        <p:spPr>
          <a:xfrm>
            <a:off x="2438280" y="1982880"/>
            <a:ext cx="4724640" cy="346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6840" y="83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张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77120" y="4038480"/>
            <a:ext cx="2133360" cy="1828800"/>
            <a:chOff x="6477120" y="4038480"/>
            <a:chExt cx="2133360" cy="1828800"/>
          </a:xfrm>
        </p:grpSpPr>
        <p:sp>
          <p:nvSpPr>
            <p:cNvPr id="51" name=""/>
            <p:cNvSpPr/>
            <p:nvPr/>
          </p:nvSpPr>
          <p:spPr>
            <a:xfrm>
              <a:off x="6477120" y="4038480"/>
              <a:ext cx="2133360" cy="1828800"/>
            </a:xfrm>
            <a:prstGeom prst="wedgeEllipseCallout">
              <a:avLst>
                <a:gd name="adj1" fmla="val -69347"/>
                <a:gd name="adj2" fmla="val -283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6553080" y="4191120"/>
              <a:ext cx="1599840" cy="1363320"/>
              <a:chOff x="6553080" y="4191120"/>
              <a:chExt cx="1599840" cy="1363320"/>
            </a:xfrm>
          </p:grpSpPr>
          <p:sp>
            <p:nvSpPr>
              <p:cNvPr id="53" name="Gear"/>
              <p:cNvSpPr/>
              <p:nvPr/>
            </p:nvSpPr>
            <p:spPr>
              <a:xfrm>
                <a:off x="7440120" y="4191120"/>
                <a:ext cx="712800" cy="6253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553080" y="4448520"/>
                <a:ext cx="852480" cy="7473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06040" y="4724280"/>
                <a:ext cx="947520" cy="8301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371600" y="914400"/>
            <a:ext cx="1676520" cy="2438280"/>
            <a:chOff x="1371600" y="914400"/>
            <a:chExt cx="1676520" cy="2438280"/>
          </a:xfrm>
        </p:grpSpPr>
        <p:sp>
          <p:nvSpPr>
            <p:cNvPr id="57" name=""/>
            <p:cNvSpPr/>
            <p:nvPr/>
          </p:nvSpPr>
          <p:spPr>
            <a:xfrm>
              <a:off x="1371600" y="914400"/>
              <a:ext cx="1676520" cy="2438280"/>
            </a:xfrm>
            <a:prstGeom prst="wedgeEllipseCallout">
              <a:avLst>
                <a:gd name="adj1" fmla="val 79638"/>
                <a:gd name="adj2" fmla="val 262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tebulb"/>
            <p:cNvSpPr/>
            <p:nvPr/>
          </p:nvSpPr>
          <p:spPr>
            <a:xfrm>
              <a:off x="1600200" y="1271520"/>
              <a:ext cx="1182600" cy="1776600"/>
            </a:xfrm>
            <a:prstGeom prst="pie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52280" y="4495680"/>
            <a:ext cx="2895840" cy="1905120"/>
            <a:chOff x="152280" y="4495680"/>
            <a:chExt cx="2895840" cy="1905120"/>
          </a:xfrm>
        </p:grpSpPr>
        <p:sp>
          <p:nvSpPr>
            <p:cNvPr id="60" name=""/>
            <p:cNvSpPr/>
            <p:nvPr/>
          </p:nvSpPr>
          <p:spPr>
            <a:xfrm>
              <a:off x="152280" y="4495680"/>
              <a:ext cx="2895840" cy="1905120"/>
            </a:xfrm>
            <a:prstGeom prst="wedgeRectCallout">
              <a:avLst>
                <a:gd name="adj1" fmla="val 62500"/>
                <a:gd name="adj2" fmla="val -527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304920" y="4572000"/>
              <a:ext cx="2565360" cy="1703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1240" y="609480"/>
            <a:ext cx="26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2680" y="419040"/>
            <a:ext cx="50292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895120" y="3352320"/>
            <a:ext cx="3125160" cy="1753560"/>
            <a:chOff x="2895120" y="3352320"/>
            <a:chExt cx="3125160" cy="1753560"/>
          </a:xfrm>
        </p:grpSpPr>
        <p:cxnSp>
          <p:nvCxnSpPr>
            <p:cNvPr id="96" name=""/>
            <p:cNvCxnSpPr/>
            <p:nvPr/>
          </p:nvCxnSpPr>
          <p:spPr>
            <a:xfrm>
              <a:off x="4495680" y="3352680"/>
              <a:ext cx="534240" cy="915120"/>
            </a:xfrm>
            <a:prstGeom prst="straightConnector1">
              <a:avLst/>
            </a:prstGeom>
            <a:ln w="349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 flipH="1">
              <a:off x="3809160" y="3352680"/>
              <a:ext cx="686520" cy="9914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4647960" y="4266720"/>
              <a:ext cx="381600" cy="839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5028840" y="3352680"/>
              <a:ext cx="457920" cy="915120"/>
            </a:xfrm>
            <a:prstGeom prst="straightConnector1">
              <a:avLst/>
            </a:prstGeom>
            <a:ln w="349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>
              <a:off x="5028840" y="4266720"/>
              <a:ext cx="610200" cy="839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>
              <a:off x="4647960" y="5105160"/>
              <a:ext cx="991080" cy="1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>
              <a:off x="3809520" y="4343040"/>
              <a:ext cx="839160" cy="7628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5637960" y="4266720"/>
              <a:ext cx="381960" cy="839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486400" y="3352680"/>
              <a:ext cx="534240" cy="91512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>
              <a:off x="4495680" y="3352320"/>
              <a:ext cx="991440" cy="1080"/>
            </a:xfrm>
            <a:prstGeom prst="straightConnector1">
              <a:avLst/>
            </a:prstGeom>
            <a:ln w="349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6" name=""/>
            <p:cNvCxnSpPr/>
            <p:nvPr/>
          </p:nvCxnSpPr>
          <p:spPr>
            <a:xfrm>
              <a:off x="2895480" y="3809880"/>
              <a:ext cx="915120" cy="5342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7" name=""/>
            <p:cNvCxnSpPr/>
            <p:nvPr/>
          </p:nvCxnSpPr>
          <p:spPr>
            <a:xfrm flipH="1">
              <a:off x="2895120" y="4343400"/>
              <a:ext cx="915120" cy="45792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8" name=""/>
            <p:cNvCxnSpPr/>
            <p:nvPr/>
          </p:nvCxnSpPr>
          <p:spPr>
            <a:xfrm>
              <a:off x="2895120" y="3809880"/>
              <a:ext cx="1080" cy="9914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9" name=""/>
            <p:cNvCxnSpPr/>
            <p:nvPr/>
          </p:nvCxnSpPr>
          <p:spPr>
            <a:xfrm>
              <a:off x="5029200" y="4266720"/>
              <a:ext cx="991440" cy="1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0" name=""/>
            <p:cNvCxnSpPr/>
            <p:nvPr/>
          </p:nvCxnSpPr>
          <p:spPr>
            <a:xfrm flipV="1">
              <a:off x="3809520" y="4268160"/>
              <a:ext cx="1220040" cy="752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11" name=""/>
          <p:cNvSpPr/>
          <p:nvPr/>
        </p:nvSpPr>
        <p:spPr>
          <a:xfrm>
            <a:off x="1295280" y="2743200"/>
            <a:ext cx="2133720" cy="609480"/>
          </a:xfrm>
          <a:prstGeom prst="wedgeEllipseCallout">
            <a:avLst>
              <a:gd name="adj1" fmla="val 40027"/>
              <a:gd name="adj2" fmla="val 10312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1752480"/>
            <a:ext cx="2286000" cy="685800"/>
          </a:xfrm>
          <a:prstGeom prst="wedgeEllipseCallout">
            <a:avLst>
              <a:gd name="adj1" fmla="val 36944"/>
              <a:gd name="adj2" fmla="val 24120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895480"/>
            <a:ext cx="1524240" cy="15242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438280"/>
            <a:ext cx="2361960" cy="609840"/>
          </a:xfrm>
          <a:prstGeom prst="wedgeEllipseCallout">
            <a:avLst>
              <a:gd name="adj1" fmla="val -62500"/>
              <a:gd name="adj2" fmla="val 11171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b patter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762120"/>
            <a:ext cx="3886200" cy="3047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h finder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10520" cy="362916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3354480" y="4267080"/>
            <a:ext cx="2555280" cy="2075040"/>
            <a:chOff x="3354480" y="4267080"/>
            <a:chExt cx="2555280" cy="2075040"/>
          </a:xfrm>
        </p:grpSpPr>
        <p:sp>
          <p:nvSpPr>
            <p:cNvPr id="118" name=""/>
            <p:cNvSpPr/>
            <p:nvPr/>
          </p:nvSpPr>
          <p:spPr>
            <a:xfrm>
              <a:off x="4800600" y="4724280"/>
              <a:ext cx="685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962520" y="5943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809880" y="4724280"/>
              <a:ext cx="533520" cy="9144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89480" y="4267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4480" y="5729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64520" y="5715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9400" y="48988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560" y="4876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3440" y="6095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eralised similarity analysis and pathfinder network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oMei Chen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2076480"/>
            <a:ext cx="3400200" cy="2800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38480" y="2076480"/>
            <a:ext cx="4686480" cy="287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96360" y="8380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86640" y="7621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eralised similarity analysis and pathfinder network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oMei Chen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15280" cy="3638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eralised similarity analysis and pathfinder network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oMei Chen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Image:Bio.jpg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577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eralised similarity analysis and pathfinder network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oMei Chen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206000">
            <a:off x="5257800" y="3200400"/>
            <a:ext cx="2286000" cy="838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3162240" y="571680"/>
            <a:ext cx="1828800" cy="1295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886200"/>
            <a:ext cx="2362320" cy="16765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86000"/>
            <a:ext cx="2743200" cy="2666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3962520"/>
            <a:ext cx="8305920" cy="1600200"/>
          </a:xfrm>
          <a:prstGeom prst="roundRect">
            <a:avLst>
              <a:gd name="adj" fmla="val 16667"/>
            </a:avLst>
          </a:prstGeom>
          <a:solidFill>
            <a:srgbClr val="ffcc99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362320"/>
            <a:ext cx="8305920" cy="1600200"/>
          </a:xfrm>
          <a:prstGeom prst="roundRect">
            <a:avLst>
              <a:gd name="adj" fmla="val 16667"/>
            </a:avLst>
          </a:prstGeom>
          <a:solidFill>
            <a:srgbClr val="99cc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1360" y="506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做图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美学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48920" y="18288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ctic 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3880" y="182880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tual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32320" y="18288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sthetic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360" y="25909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3560" y="25909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5"/>
            <a:endCxn id="149" idx="1"/>
          </p:cNvCxnSpPr>
          <p:nvPr/>
        </p:nvCxnSpPr>
        <p:spPr>
          <a:xfrm>
            <a:off x="2333160" y="2735280"/>
            <a:ext cx="585000" cy="5500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87160" y="27115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0160" y="4464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42670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0292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5"/>
            <a:endCxn id="155" idx="1"/>
          </p:cNvCxnSpPr>
          <p:nvPr/>
        </p:nvCxnSpPr>
        <p:spPr>
          <a:xfrm>
            <a:off x="1958760" y="4411440"/>
            <a:ext cx="578520" cy="62604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4648320" y="25146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6576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4"/>
            <a:endCxn id="158" idx="0"/>
          </p:cNvCxnSpPr>
          <p:nvPr/>
        </p:nvCxnSpPr>
        <p:spPr>
          <a:xfrm>
            <a:off x="4723920" y="2681280"/>
            <a:ext cx="1080" cy="96264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4038480" y="26668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327672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33526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6668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0" idx="4"/>
            <a:endCxn id="161" idx="0"/>
          </p:cNvCxnSpPr>
          <p:nvPr/>
        </p:nvCxnSpPr>
        <p:spPr>
          <a:xfrm>
            <a:off x="4114440" y="2833200"/>
            <a:ext cx="1080" cy="4294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161" idx="5"/>
            <a:endCxn id="158" idx="2"/>
          </p:cNvCxnSpPr>
          <p:nvPr/>
        </p:nvCxnSpPr>
        <p:spPr>
          <a:xfrm>
            <a:off x="4168800" y="3420720"/>
            <a:ext cx="465840" cy="31356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8" idx="6"/>
            <a:endCxn id="162" idx="3"/>
          </p:cNvCxnSpPr>
          <p:nvPr/>
        </p:nvCxnSpPr>
        <p:spPr>
          <a:xfrm flipV="1">
            <a:off x="4815000" y="3496680"/>
            <a:ext cx="389520" cy="23724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2" idx="0"/>
            <a:endCxn id="163" idx="4"/>
          </p:cNvCxnSpPr>
          <p:nvPr/>
        </p:nvCxnSpPr>
        <p:spPr>
          <a:xfrm flipV="1">
            <a:off x="5257440" y="2832840"/>
            <a:ext cx="1080" cy="5058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4605480" y="42102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53341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8" idx="4"/>
            <a:endCxn id="169" idx="0"/>
          </p:cNvCxnSpPr>
          <p:nvPr/>
        </p:nvCxnSpPr>
        <p:spPr>
          <a:xfrm>
            <a:off x="4681080" y="4376520"/>
            <a:ext cx="43560" cy="94356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4038480" y="42670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87692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51814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64832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1" idx="4"/>
            <a:endCxn id="172" idx="0"/>
          </p:cNvCxnSpPr>
          <p:nvPr/>
        </p:nvCxnSpPr>
        <p:spPr>
          <a:xfrm>
            <a:off x="4114440" y="4433400"/>
            <a:ext cx="1080" cy="4294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72" idx="5"/>
            <a:endCxn id="169" idx="2"/>
          </p:cNvCxnSpPr>
          <p:nvPr/>
        </p:nvCxnSpPr>
        <p:spPr>
          <a:xfrm>
            <a:off x="4168800" y="5021280"/>
            <a:ext cx="465840" cy="38952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69" idx="6"/>
            <a:endCxn id="173" idx="2"/>
          </p:cNvCxnSpPr>
          <p:nvPr/>
        </p:nvCxnSpPr>
        <p:spPr>
          <a:xfrm flipV="1">
            <a:off x="4815000" y="5257080"/>
            <a:ext cx="429120" cy="1530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3" idx="0"/>
            <a:endCxn id="174" idx="4"/>
          </p:cNvCxnSpPr>
          <p:nvPr/>
        </p:nvCxnSpPr>
        <p:spPr>
          <a:xfrm flipH="1" flipV="1">
            <a:off x="5257800" y="4814280"/>
            <a:ext cx="76680" cy="35316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6843600" y="42670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0" y="502920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58000" y="502920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58000" y="42670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9" idx="4"/>
            <a:endCxn id="180" idx="0"/>
          </p:cNvCxnSpPr>
          <p:nvPr/>
        </p:nvCxnSpPr>
        <p:spPr>
          <a:xfrm>
            <a:off x="6919560" y="4433760"/>
            <a:ext cx="1080" cy="5814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80" idx="7"/>
            <a:endCxn id="182" idx="3"/>
          </p:cNvCxnSpPr>
          <p:nvPr/>
        </p:nvCxnSpPr>
        <p:spPr>
          <a:xfrm flipV="1">
            <a:off x="6973920" y="4411080"/>
            <a:ext cx="807120" cy="62604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9" idx="5"/>
            <a:endCxn id="181" idx="1"/>
          </p:cNvCxnSpPr>
          <p:nvPr/>
        </p:nvCxnSpPr>
        <p:spPr>
          <a:xfrm>
            <a:off x="6973920" y="4411440"/>
            <a:ext cx="807120" cy="62604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1" idx="0"/>
            <a:endCxn id="182" idx="4"/>
          </p:cNvCxnSpPr>
          <p:nvPr/>
        </p:nvCxnSpPr>
        <p:spPr>
          <a:xfrm flipV="1">
            <a:off x="7833960" y="4433760"/>
            <a:ext cx="1080" cy="5814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9" idx="6"/>
            <a:endCxn id="182" idx="2"/>
          </p:cNvCxnSpPr>
          <p:nvPr/>
        </p:nvCxnSpPr>
        <p:spPr>
          <a:xfrm>
            <a:off x="7010280" y="4343040"/>
            <a:ext cx="73440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0" idx="6"/>
            <a:endCxn id="181" idx="2"/>
          </p:cNvCxnSpPr>
          <p:nvPr/>
        </p:nvCxnSpPr>
        <p:spPr>
          <a:xfrm>
            <a:off x="7010280" y="5105160"/>
            <a:ext cx="73440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7224840" y="25146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67640" y="35053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34320" y="350532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24840" y="31240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3"/>
            <a:endCxn id="190" idx="0"/>
          </p:cNvCxnSpPr>
          <p:nvPr/>
        </p:nvCxnSpPr>
        <p:spPr>
          <a:xfrm flipH="1">
            <a:off x="6843240" y="2658600"/>
            <a:ext cx="403920" cy="8326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90" idx="7"/>
            <a:endCxn id="192" idx="3"/>
          </p:cNvCxnSpPr>
          <p:nvPr/>
        </p:nvCxnSpPr>
        <p:spPr>
          <a:xfrm flipV="1">
            <a:off x="6897600" y="3268440"/>
            <a:ext cx="349920" cy="2448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5"/>
            <a:endCxn id="191" idx="0"/>
          </p:cNvCxnSpPr>
          <p:nvPr/>
        </p:nvCxnSpPr>
        <p:spPr>
          <a:xfrm>
            <a:off x="7354800" y="2658600"/>
            <a:ext cx="556560" cy="8326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91" idx="1"/>
            <a:endCxn id="192" idx="5"/>
          </p:cNvCxnSpPr>
          <p:nvPr/>
        </p:nvCxnSpPr>
        <p:spPr>
          <a:xfrm flipH="1" flipV="1">
            <a:off x="7354440" y="3268440"/>
            <a:ext cx="502560" cy="24480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9" idx="4"/>
            <a:endCxn id="192" idx="0"/>
          </p:cNvCxnSpPr>
          <p:nvPr/>
        </p:nvCxnSpPr>
        <p:spPr>
          <a:xfrm>
            <a:off x="7300440" y="2680920"/>
            <a:ext cx="1080" cy="4294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0" idx="6"/>
            <a:endCxn id="191" idx="2"/>
          </p:cNvCxnSpPr>
          <p:nvPr/>
        </p:nvCxnSpPr>
        <p:spPr>
          <a:xfrm>
            <a:off x="6934320" y="3580920"/>
            <a:ext cx="88632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7238880" y="64008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94 IEEE Kos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08560" y="7351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做图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力学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2286000" cy="2138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64160" y="1905120"/>
            <a:ext cx="37134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小势能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宇宙的四种基本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强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弱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电磁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万有引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嵌弦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Spring-embedde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484848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isualizing network with spring Embe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thar Krempel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00800" cy="5860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95880" y="6095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isualizing network with spring Embe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thar Krempel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14400" y="41911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复杂系统的可视化与分析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182736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17680" y="425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复杂系统的功能性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576520"/>
            <a:ext cx="12952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90720" y="2881440"/>
            <a:ext cx="1162080" cy="799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0556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神经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05560" y="2649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基因算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61240" y="3643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基于可视化的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738440"/>
            <a:ext cx="1066680" cy="243828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4267080"/>
            <a:ext cx="8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5105520"/>
            <a:ext cx="2057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现有作图算法效率低，绘制的系统还不够复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5105520"/>
            <a:ext cx="1828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复杂系统的网络难以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220760" y="457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微观与宏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828800"/>
            <a:ext cx="47624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82520"/>
            <a:ext cx="91440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43720" y="4572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复杂系统是稳定的（混沌边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48760" y="1371600"/>
            <a:ext cx="3807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复杂系统有其相对稳定的几个网络形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以基因为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每个基因都有他的上游和下游基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基因状态（显性）的改变，会触发上下游基因的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改变一个基因的显性，触发一系列连锁反应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基因链会达到新的稳定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609588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uffman 1963-19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on Complexity P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30600" y="4114800"/>
            <a:ext cx="29239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个实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个基因组成的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每个基因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两种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任意初始状态下，随着基因间的相互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整个系统出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个稳定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00016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981080"/>
            <a:ext cx="3353040" cy="2378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907000" y="1066680"/>
            <a:ext cx="32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s = Cell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609588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uffman 1963-19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on Complexity P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77960" y="609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复杂系统的自组织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601992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olecules computing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lf-assembled nanostructures, molecular automata, and chemical reaction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loveichik, David 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038840" cy="3519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19920" y="2219400"/>
            <a:ext cx="25527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48520" cy="4334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095880" y="594360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 Fast Multi-Scale Method for Drawing Larg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avid Harel and Yehuda Koren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raw of 15606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49560" y="457200"/>
            <a:ext cx="43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图形算法的进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56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节点的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200400"/>
            <a:ext cx="2162160" cy="2562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800600" y="533520"/>
            <a:ext cx="3429000" cy="2379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2552760" cy="2200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838080" y="68580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29080" y="738360"/>
            <a:ext cx="444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科学界是深度联系的复杂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今天试图做的，就是找出其中的内在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对大家有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uzzle3"/>
          <p:cNvSpPr/>
          <p:nvPr/>
        </p:nvSpPr>
        <p:spPr>
          <a:xfrm rot="1672800">
            <a:off x="5181120" y="1980720"/>
            <a:ext cx="1587600" cy="191304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uzzle2"/>
          <p:cNvSpPr/>
          <p:nvPr/>
        </p:nvSpPr>
        <p:spPr>
          <a:xfrm>
            <a:off x="3638520" y="3908520"/>
            <a:ext cx="2533680" cy="174312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uzzle4"/>
          <p:cNvSpPr/>
          <p:nvPr/>
        </p:nvSpPr>
        <p:spPr>
          <a:xfrm>
            <a:off x="2657520" y="3887640"/>
            <a:ext cx="1528560" cy="2227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uzzle1"/>
          <p:cNvSpPr/>
          <p:nvPr/>
        </p:nvSpPr>
        <p:spPr>
          <a:xfrm>
            <a:off x="2133720" y="3094200"/>
            <a:ext cx="2565360" cy="132696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87720" y="914400"/>
            <a:ext cx="1955880" cy="2971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92240" y="914400"/>
            <a:ext cx="1928880" cy="2971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053800" y="4800600"/>
            <a:ext cx="35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杂系统的演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发现可视化网络中的子网络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406400">
            <a:off x="3962160" y="3885840"/>
            <a:ext cx="89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4781520" cy="33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4419360" cy="4322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76520" y="2971800"/>
            <a:ext cx="5238720" cy="258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848720" y="63244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30 – 5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5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19941000">
            <a:off x="3962880" y="533160"/>
            <a:ext cx="89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52280"/>
            <a:ext cx="3353040" cy="1219320"/>
          </a:xfrm>
          <a:prstGeom prst="wedgeEllipseCallout">
            <a:avLst>
              <a:gd name="adj1" fmla="val -20361"/>
              <a:gd name="adj2" fmla="val 80990"/>
            </a:avLst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集体探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Joint 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868560" cy="502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59400" y="762120"/>
            <a:ext cx="222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维度的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D = ln N / ln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286000"/>
            <a:ext cx="685800" cy="380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97440" y="33526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两点间的距离有多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66480" y="31240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维基百科的维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0520" y="609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人际网络的维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2952720" cy="3686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324480" y="2895480"/>
            <a:ext cx="2210040" cy="1067040"/>
          </a:xfrm>
          <a:prstGeom prst="wedgeEllipseCallout">
            <a:avLst>
              <a:gd name="adj1" fmla="val -86277"/>
              <a:gd name="adj2" fmla="val -25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上最远的距离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4572000"/>
            <a:ext cx="2971800" cy="1371600"/>
          </a:xfrm>
          <a:prstGeom prst="wedgeEllipseCallout">
            <a:avLst>
              <a:gd name="adj1" fmla="val -46365"/>
              <a:gd name="adj2" fmla="val -865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理纬度和情感维度是两个独立的维度，不能混为一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5720" y="1424160"/>
            <a:ext cx="23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一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最多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个人的转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可以认识世界上任何一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7520" y="3994200"/>
            <a:ext cx="310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一个维基百科词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平均可以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4.57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次链接跳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到达百科中的另一个任意词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实际上，除去那些生僻词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一般的单词都可以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次以内到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717480"/>
            <a:ext cx="5867640" cy="4006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95280" y="4768920"/>
            <a:ext cx="5867640" cy="1631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01280" y="1555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etsoc.tcd.ie/%7Emu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371600" y="1600200"/>
            <a:ext cx="5715000" cy="2751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371600" y="1600200"/>
            <a:ext cx="5715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498840" cy="3610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64320" y="27702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4133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25800" y="5078520"/>
            <a:ext cx="31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二叉树，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-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维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4800" y="5764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文件夹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a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友邻链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008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51360" y="507348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网络系统形式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签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张翔</dc:creator>
  <dc:description/>
  <dc:language>en-US</dc:language>
  <cp:lastModifiedBy>Yihui Xie</cp:lastModifiedBy>
  <dcterms:modified xsi:type="dcterms:W3CDTF">2008-12-17T12:05:27Z</dcterms:modified>
  <cp:revision>104</cp:revision>
  <dc:subject/>
  <dc:title>复杂系统的可视化与分析方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