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gif" ContentType="image/gif"/>
  <Override PartName="/ppt/media/image5.wmf" ContentType="image/x-wmf"/>
  <Override PartName="/ppt/media/image7.jpeg" ContentType="image/jpeg"/>
  <Override PartName="/ppt/media/image3.jpeg" ContentType="image/jpeg"/>
  <Override PartName="/ppt/media/image6.jpeg" ContentType="image/jpeg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3C2B9-FD46-4C25-BEDD-5A70CB9226C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a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a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DF83-8049-4CC8-A76A-0370A1B14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EE86-692F-4D7C-B9DF-8D5367A7A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2853-BD0A-4523-A1D6-DD1470E2A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9B11-E586-4B70-9A35-F7880FCD7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39C5A-4767-495F-BE23-C0BE21426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E5845-70D3-40D7-84F4-519446876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AB499-787D-4F15-80DB-AF3E54DE7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AE9EF-10A0-4D58-90CE-FAC6868FD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961E8-9DFC-430A-A939-BF40B4EDD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65E20-8420-4B46-A109-4A5929753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C3E99-BFA8-4E99-B6B3-87D59D72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AF01-C9B6-4C7A-A005-1F428B91A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588A3-9A7F-4C34-8E6A-6898500B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B7197-4CC7-4E65-9B57-8BBD3649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C98C3-CF6E-49D8-8345-9EF3CBE23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E81D4-70C5-4AF0-8F38-A54F833EC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65120-4E21-4E11-9784-229C34B0C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13CB5-CD84-44A2-A6AF-417FD1F47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981BE-ABCE-456F-A8ED-67EB1D963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102CA-08AE-43D3-AACE-4C333248E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63C84-8B19-4F95-BA75-477B22F5C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9A459-9231-45B9-B8D8-3210DBECF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5040-5BC2-47DF-8361-6E4163B38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46583-9AA9-4453-9665-5AA9876C4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9DEB7-4B25-4131-9593-B42F4EE43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DD35C-5568-4FD1-A564-7D8B2751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81E28-1009-4BF6-A7A0-33C921DD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E3368-6DB3-429C-9B1F-9BDFA538A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B21F1-A558-4DF2-96C4-3378B19F7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4AEE2-B16F-4593-8E2E-4E86E228C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C4CF-81BD-44A3-B09F-922AD1C20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443E-7132-428A-943C-AEABA747E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E55B-C195-439F-BE5B-13753B1FE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7131-6B0E-4203-97C2-854B32BEC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0FA7-6D23-416F-B22D-9CCB93EA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7877-BDBF-4B6A-A0C0-C391558A9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B0D5D-4466-49D9-8701-5225C9DD00C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52" name="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58" name="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75C1F-DCA5-4A31-AE4B-A026914DD2EB}" type="slidenum"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111" name="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117" name="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41668-52B3-4515-9BCF-49B2E2A7DD08}" type="slidenum"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images.google.cn/imgres?imgurl=http://www.stat.auckland.ac.nz/images/people/rossihaka.jpg&amp;imgrefurl=http://www.stat.auckland.ac.nz/showperson.php%3Ffirstname%3DRoss%26surname%3DIhaka&amp;usg=__Zbf_MfZHzAuwyjBI9QBwvV5o5DU=&amp;h=160&amp;w=121&amp;sz=5&amp;hl=zh-CN&amp;start=3&amp;um=1&amp;tbnid=76ob8a_h9uusUM:&amp;tbnh=98&amp;tbnw=74&amp;prev=/images%3Fq%3DRoss%2BIhaka%26um%3D1%26hl%3Dzh-CN%26newwindow%3D1%26sa%3DN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r-project.org/" TargetMode="External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762120" y="304920"/>
            <a:ext cx="8119800" cy="914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33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50800" y="404640"/>
            <a:ext cx="826920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欢迎走入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R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语言世界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0920" y="4897440"/>
            <a:ext cx="5905440" cy="20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谢益辉、郑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2987640" y="2205000"/>
            <a:ext cx="3051360" cy="12445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315200" y="6400800"/>
            <a:ext cx="1828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2008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1295640" cy="1123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5400000">
            <a:off x="1285920" y="2143080"/>
            <a:ext cx="504720" cy="486000"/>
          </a:xfrm>
          <a:custGeom>
            <a:avLst/>
            <a:gdLst>
              <a:gd name="textAreaLeft" fmla="*/ 78840 w 504720"/>
              <a:gd name="textAreaRight" fmla="*/ 441720 w 5047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00"/>
          </a:solidFill>
          <a:ln cap="sq" w="12600">
            <a:solidFill>
              <a:srgbClr val="ffffcc"/>
            </a:solidFill>
            <a:miter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52280" y="3505320"/>
            <a:ext cx="2590920" cy="6094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语言的背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52280" y="2590920"/>
            <a:ext cx="2590920" cy="64764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语言的概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52280" y="4343400"/>
            <a:ext cx="2590920" cy="76212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语言的发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52280" y="5257800"/>
            <a:ext cx="2590920" cy="76212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语言的运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581280" y="1143000"/>
            <a:ext cx="36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Arial"/>
              </a:rPr>
              <a:t>自由的</a:t>
            </a:r>
            <a:r>
              <a:rPr b="0" lang="zh-CN" sz="4800" spc="-1" strike="noStrike">
                <a:solidFill>
                  <a:srgbClr val="ffff00"/>
                </a:solidFill>
                <a:latin typeface="Arial"/>
              </a:rPr>
              <a:t>GN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971800" y="2666880"/>
            <a:ext cx="56386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对统计的意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避免了像商业软件在固定的分析过程中存在的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①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无法得到取截尾均值作为统计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②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统计分析方法的归类不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1295640" cy="11239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rot="5400000">
            <a:off x="1285920" y="2143080"/>
            <a:ext cx="504720" cy="486000"/>
          </a:xfrm>
          <a:custGeom>
            <a:avLst/>
            <a:gdLst>
              <a:gd name="textAreaLeft" fmla="*/ 78840 w 504720"/>
              <a:gd name="textAreaRight" fmla="*/ 441720 w 5047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00"/>
          </a:solidFill>
          <a:ln cap="sq" w="12600">
            <a:solidFill>
              <a:srgbClr val="ffffcc"/>
            </a:solidFill>
            <a:miter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52280" y="3505320"/>
            <a:ext cx="2590920" cy="6094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语言的背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52280" y="2590920"/>
            <a:ext cx="2590920" cy="64764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语言的概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52280" y="4343400"/>
            <a:ext cx="2590920" cy="76212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语言的发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52280" y="5257800"/>
            <a:ext cx="2590920" cy="76212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语言的运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581280" y="1143000"/>
            <a:ext cx="36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Arial"/>
              </a:rPr>
              <a:t>自由的</a:t>
            </a:r>
            <a:r>
              <a:rPr b="0" lang="zh-CN" sz="4800" spc="-1" strike="noStrike">
                <a:solidFill>
                  <a:srgbClr val="ffff00"/>
                </a:solidFill>
                <a:latin typeface="Arial"/>
              </a:rPr>
              <a:t>GN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819520" y="2286000"/>
            <a:ext cx="5943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对统计的意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避免了像商业软件一样源代码不被公开，其中的具体程序过程只有内部人员清楚，用户对此毫不知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用户可以得知其中的计算会暗含着何种漏洞或错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Excel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为例，有时能计算出负的方差，有时能产生有严重缺陷的随机数等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1295640" cy="11239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 rot="5400000">
            <a:off x="1285920" y="2143080"/>
            <a:ext cx="504720" cy="486000"/>
          </a:xfrm>
          <a:custGeom>
            <a:avLst/>
            <a:gdLst>
              <a:gd name="textAreaLeft" fmla="*/ 78840 w 504720"/>
              <a:gd name="textAreaRight" fmla="*/ 441720 w 5047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00"/>
          </a:solidFill>
          <a:ln cap="sq" w="12600">
            <a:solidFill>
              <a:srgbClr val="ffffcc"/>
            </a:solidFill>
            <a:miter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52280" y="3505320"/>
            <a:ext cx="2590920" cy="6094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语言的背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52280" y="2590920"/>
            <a:ext cx="2590920" cy="64764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语言的概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52280" y="4343400"/>
            <a:ext cx="2590920" cy="76212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语言的发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280" y="5257800"/>
            <a:ext cx="2590920" cy="76212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语言的运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581280" y="1143000"/>
            <a:ext cx="36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Arial"/>
              </a:rPr>
              <a:t>自由的</a:t>
            </a:r>
            <a:r>
              <a:rPr b="0" lang="zh-CN" sz="4800" spc="-1" strike="noStrike">
                <a:solidFill>
                  <a:srgbClr val="ffff00"/>
                </a:solidFill>
                <a:latin typeface="Arial"/>
              </a:rPr>
              <a:t>GN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819520" y="2286000"/>
            <a:ext cx="5943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总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一是可自由计算任何想计算的统计量（包括图形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二是保证用户能够使用正确的计算机程序，或换句话说，保证用户清楚他们利用计算机究竟在做什么。如果用户被剥夺了这种自由，那么统计分析工作的效率和信度都将大打折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1295640" cy="11239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 rot="5400000">
            <a:off x="1285920" y="2143080"/>
            <a:ext cx="504720" cy="486000"/>
          </a:xfrm>
          <a:custGeom>
            <a:avLst/>
            <a:gdLst>
              <a:gd name="textAreaLeft" fmla="*/ 78840 w 504720"/>
              <a:gd name="textAreaRight" fmla="*/ 441720 w 5047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00"/>
          </a:solidFill>
          <a:ln cap="sq" w="12600">
            <a:solidFill>
              <a:srgbClr val="ffffcc"/>
            </a:solidFill>
            <a:miter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04920" y="3505320"/>
            <a:ext cx="2514600" cy="6094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语言的背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28600" y="2666880"/>
            <a:ext cx="2590920" cy="6480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语言的概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04920" y="4343400"/>
            <a:ext cx="259056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语言的发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04920" y="5181480"/>
            <a:ext cx="2590560" cy="76212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语言的运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048120" y="1066680"/>
            <a:ext cx="367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zh-CN" sz="4800" spc="-1" strike="noStrike">
                <a:solidFill>
                  <a:srgbClr val="ffff00"/>
                </a:solidFill>
                <a:latin typeface="Arial"/>
              </a:rPr>
              <a:t>语言的荣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971800" y="2514600"/>
            <a:ext cx="5486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S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语言是一门用于数据分析和图示的高层语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1998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年美国计算机学会（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ACM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）授予了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S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语言的主要设计者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John M. Chambers~“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软件系统奖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//www.acm.org/announcements/ss99.html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，用以表彰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S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取得的成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086600" y="838080"/>
            <a:ext cx="2057400" cy="685800"/>
          </a:xfrm>
          <a:prstGeom prst="wedgeRoundRectCallout">
            <a:avLst>
              <a:gd name="adj1" fmla="val -78393"/>
              <a:gd name="adj2" fmla="val 52546"/>
              <a:gd name="adj3" fmla="val 16667"/>
            </a:avLst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R’  fa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1295640" cy="112392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 rot="5400000">
            <a:off x="1285920" y="2143080"/>
            <a:ext cx="504720" cy="486000"/>
          </a:xfrm>
          <a:custGeom>
            <a:avLst/>
            <a:gdLst>
              <a:gd name="textAreaLeft" fmla="*/ 78840 w 504720"/>
              <a:gd name="textAreaRight" fmla="*/ 441720 w 5047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00"/>
          </a:solidFill>
          <a:ln cap="sq" w="12600">
            <a:solidFill>
              <a:srgbClr val="ffffcc"/>
            </a:solidFill>
            <a:miter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4920" y="3505320"/>
            <a:ext cx="2514600" cy="6094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语言的背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" y="2666880"/>
            <a:ext cx="2590920" cy="6480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语言的概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4920" y="4343400"/>
            <a:ext cx="259056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语言的发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4920" y="5181480"/>
            <a:ext cx="2590560" cy="76212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语言的运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048120" y="1066680"/>
            <a:ext cx="367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zh-CN" sz="4800" spc="-1" strike="noStrike">
                <a:solidFill>
                  <a:srgbClr val="ffff00"/>
                </a:solidFill>
                <a:latin typeface="Arial"/>
              </a:rPr>
              <a:t>语言的荣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971800" y="2514600"/>
            <a:ext cx="5943600" cy="46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cc"/>
                </a:solidFill>
                <a:latin typeface="Arial"/>
              </a:rPr>
              <a:t>棕皮书：</a:t>
            </a:r>
            <a:r>
              <a:rPr b="0" lang="zh-CN" sz="1800" spc="-1" strike="noStrike">
                <a:solidFill>
                  <a:srgbClr val="ffffcc"/>
                </a:solidFill>
                <a:latin typeface="Arial"/>
              </a:rPr>
              <a:t>Richard A. Becker and John M. Chambers (1984),S. An Interactive Environment for Data Analysis and Graphics,'' Monterey: Wadsworth and Brooks/Co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cc"/>
                </a:solidFill>
                <a:latin typeface="Arial"/>
              </a:rPr>
              <a:t>蓝皮书：</a:t>
            </a:r>
            <a:r>
              <a:rPr b="0" lang="zh-CN" sz="1800" spc="-1" strike="noStrike">
                <a:solidFill>
                  <a:srgbClr val="ffffcc"/>
                </a:solidFill>
                <a:latin typeface="Arial"/>
              </a:rPr>
              <a:t>Richard A. Becker, John M. Chambers and Allan R. Wilks (1988), ``The New S Language'' London: Chapman  Ha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cc"/>
                </a:solidFill>
                <a:latin typeface="Arial"/>
              </a:rPr>
              <a:t>白皮书：</a:t>
            </a:r>
            <a:r>
              <a:rPr b="0" lang="zh-CN" sz="1800" spc="-1" strike="noStrike">
                <a:solidFill>
                  <a:srgbClr val="ffffcc"/>
                </a:solidFill>
                <a:latin typeface="Arial"/>
              </a:rPr>
              <a:t>John M. Chambers and Trevor J. Hastie (1992), ``Statistical Models in S'' London: Chapman \&amp; Hall. </a:t>
            </a:r>
            <a:r>
              <a:rPr b="0" lang="zh-CN" sz="1800" spc="-1" strike="noStrike">
                <a:solidFill>
                  <a:srgbClr val="ffffcc"/>
                </a:solidFill>
                <a:latin typeface="Arial"/>
              </a:rPr>
              <a:t>这本书中开始介绍</a:t>
            </a:r>
            <a:r>
              <a:rPr b="0" lang="zh-CN" sz="1800" spc="-1" strike="noStrike">
                <a:solidFill>
                  <a:srgbClr val="ffffcc"/>
                </a:solidFill>
                <a:latin typeface="Arial"/>
              </a:rPr>
              <a:t>S3</a:t>
            </a:r>
            <a:r>
              <a:rPr b="0" lang="zh-CN" sz="1800" spc="-1" strike="noStrike">
                <a:solidFill>
                  <a:srgbClr val="ffffcc"/>
                </a:solidFill>
                <a:latin typeface="Arial"/>
              </a:rPr>
              <a:t>，即第</a:t>
            </a:r>
            <a:r>
              <a:rPr b="0" lang="zh-CN" sz="1800" spc="-1" strike="noStrike">
                <a:solidFill>
                  <a:srgbClr val="ffffcc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ffffcc"/>
                </a:solidFill>
                <a:latin typeface="Arial"/>
              </a:rPr>
              <a:t>代</a:t>
            </a:r>
            <a:r>
              <a:rPr b="0" lang="zh-CN" sz="1800" spc="-1" strike="noStrike">
                <a:solidFill>
                  <a:srgbClr val="ffffcc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cc"/>
                </a:solidFill>
                <a:latin typeface="Arial"/>
              </a:rPr>
              <a:t>绿皮书：</a:t>
            </a:r>
            <a:r>
              <a:rPr b="0" lang="zh-CN" sz="1800" spc="-1" strike="noStrike">
                <a:solidFill>
                  <a:srgbClr val="ffffcc"/>
                </a:solidFill>
                <a:latin typeface="Arial"/>
              </a:rPr>
              <a:t>John M. Chambers (1998), ``Programming with Data,'' New York: Springer, ISBN 0-387-98503-4 </a:t>
            </a:r>
            <a:r>
              <a:rPr b="0" lang="zh-CN" sz="1800" spc="-1" strike="noStrike">
                <a:solidFill>
                  <a:srgbClr val="ffffcc"/>
                </a:solidFill>
                <a:latin typeface="Arial"/>
              </a:rPr>
              <a:t>这本书介绍了</a:t>
            </a:r>
            <a:r>
              <a:rPr b="0" lang="zh-CN" sz="1800" spc="-1" strike="noStrike">
                <a:solidFill>
                  <a:srgbClr val="ffffcc"/>
                </a:solidFill>
                <a:latin typeface="Arial"/>
              </a:rPr>
              <a:t>S4</a:t>
            </a:r>
            <a:r>
              <a:rPr b="0" lang="zh-CN" sz="1800" spc="-1" strike="noStrike">
                <a:solidFill>
                  <a:srgbClr val="ffffcc"/>
                </a:solidFill>
                <a:latin typeface="Arial"/>
              </a:rPr>
              <a:t>，即第</a:t>
            </a:r>
            <a:r>
              <a:rPr b="0" lang="zh-CN" sz="1800" spc="-1" strike="noStrike">
                <a:solidFill>
                  <a:srgbClr val="ffffcc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ffffcc"/>
                </a:solidFill>
                <a:latin typeface="Arial"/>
              </a:rPr>
              <a:t>代</a:t>
            </a:r>
            <a:r>
              <a:rPr b="0" lang="zh-CN" sz="1800" spc="-1" strike="noStrike">
                <a:solidFill>
                  <a:srgbClr val="ffffcc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086600" y="838080"/>
            <a:ext cx="2057400" cy="685800"/>
          </a:xfrm>
          <a:prstGeom prst="wedgeRoundRectCallout">
            <a:avLst>
              <a:gd name="adj1" fmla="val -78393"/>
              <a:gd name="adj2" fmla="val 52546"/>
              <a:gd name="adj3" fmla="val 16667"/>
            </a:avLst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R’  fa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1295640" cy="11239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 rot="5400000">
            <a:off x="1285920" y="2143080"/>
            <a:ext cx="504720" cy="486000"/>
          </a:xfrm>
          <a:custGeom>
            <a:avLst/>
            <a:gdLst>
              <a:gd name="textAreaLeft" fmla="*/ 78840 w 504720"/>
              <a:gd name="textAreaRight" fmla="*/ 441720 w 5047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00"/>
          </a:solidFill>
          <a:ln cap="sq" w="12600">
            <a:solidFill>
              <a:srgbClr val="ffffcc"/>
            </a:solidFill>
            <a:miter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52280" y="3505320"/>
            <a:ext cx="2667240" cy="6094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语言的背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52280" y="2590920"/>
            <a:ext cx="2590920" cy="64764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语言的概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52280" y="4343400"/>
            <a:ext cx="2743200" cy="76212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语言的发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52280" y="5257800"/>
            <a:ext cx="2743200" cy="76212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语言的运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38280" y="914400"/>
            <a:ext cx="571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Arial"/>
              </a:rPr>
              <a:t>Scheme</a:t>
            </a:r>
            <a:r>
              <a:rPr b="0" lang="zh-CN" sz="4800" spc="-1" strike="noStrike">
                <a:solidFill>
                  <a:srgbClr val="ffff00"/>
                </a:solidFill>
                <a:latin typeface="Arial"/>
              </a:rPr>
              <a:t>语言的荣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124080" y="1905120"/>
            <a:ext cx="57913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Scheme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语言是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LISP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语言的一个方言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或说成变种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，与其他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lisp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不同的是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scheme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是可以编译成机器码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它诞生于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1975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年的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MIT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，对于这个有近三十年历史的编程语言来说，在国外广泛运用，就像国内的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C++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，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Java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，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C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那样受到商业领域的青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086600" y="1676520"/>
            <a:ext cx="2057400" cy="685800"/>
          </a:xfrm>
          <a:prstGeom prst="wedgeRoundRectCallout">
            <a:avLst>
              <a:gd name="adj1" fmla="val -82560"/>
              <a:gd name="adj2" fmla="val -66435"/>
              <a:gd name="adj3" fmla="val 16667"/>
            </a:avLst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R’  m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1295640" cy="112392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 rot="5400000">
            <a:off x="1285920" y="2143080"/>
            <a:ext cx="504720" cy="486000"/>
          </a:xfrm>
          <a:custGeom>
            <a:avLst/>
            <a:gdLst>
              <a:gd name="textAreaLeft" fmla="*/ 78840 w 504720"/>
              <a:gd name="textAreaRight" fmla="*/ 441720 w 5047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00"/>
          </a:solidFill>
          <a:ln cap="sq" w="12600">
            <a:solidFill>
              <a:srgbClr val="ffffcc"/>
            </a:solidFill>
            <a:miter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2280" y="3505320"/>
            <a:ext cx="2667240" cy="6094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语言的背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52280" y="2590920"/>
            <a:ext cx="2590920" cy="64764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语言的概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52280" y="4343400"/>
            <a:ext cx="2743200" cy="76212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语言的发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52280" y="5257800"/>
            <a:ext cx="2743200" cy="76212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语言的运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914400"/>
            <a:ext cx="571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Arial"/>
              </a:rPr>
              <a:t>Scheme</a:t>
            </a:r>
            <a:r>
              <a:rPr b="0" lang="zh-CN" sz="4800" spc="-1" strike="noStrike">
                <a:solidFill>
                  <a:srgbClr val="ffff00"/>
                </a:solidFill>
                <a:latin typeface="Arial"/>
              </a:rPr>
              <a:t>语言的荣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971800" y="2209680"/>
            <a:ext cx="5791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Scheme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的一个主要特性是可以像操作数据一样操作函数调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Scheme 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其的主要目的是训练人的机器化思维。以其简洁的语言环境和大量的脑力思考而著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主要的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Scheme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环境有：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MIT Scheme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DrSche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086600" y="1676520"/>
            <a:ext cx="2057400" cy="685800"/>
          </a:xfrm>
          <a:prstGeom prst="wedgeRoundRectCallout">
            <a:avLst>
              <a:gd name="adj1" fmla="val -82560"/>
              <a:gd name="adj2" fmla="val -66435"/>
              <a:gd name="adj3" fmla="val 16667"/>
            </a:avLst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R’  m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1295640" cy="112392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 rot="5400000">
            <a:off x="1285920" y="2143080"/>
            <a:ext cx="504720" cy="486000"/>
          </a:xfrm>
          <a:custGeom>
            <a:avLst/>
            <a:gdLst>
              <a:gd name="textAreaLeft" fmla="*/ 78840 w 504720"/>
              <a:gd name="textAreaRight" fmla="*/ 441720 w 5047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00"/>
          </a:solidFill>
          <a:ln cap="sq" w="12600">
            <a:solidFill>
              <a:srgbClr val="ffffcc"/>
            </a:solidFill>
            <a:miter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52280" y="4419720"/>
            <a:ext cx="2590920" cy="6094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语言的发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52280" y="2666880"/>
            <a:ext cx="2590920" cy="57168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语言的概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28600" y="3429000"/>
            <a:ext cx="2514600" cy="76212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语言的背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52280" y="5257800"/>
            <a:ext cx="2590920" cy="76212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语言的运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2898720" y="990720"/>
            <a:ext cx="6087960" cy="5673600"/>
            <a:chOff x="2898720" y="990720"/>
            <a:chExt cx="6087960" cy="5673600"/>
          </a:xfrm>
        </p:grpSpPr>
        <p:grpSp>
          <p:nvGrpSpPr>
            <p:cNvPr id="303" name=""/>
            <p:cNvGrpSpPr/>
            <p:nvPr/>
          </p:nvGrpSpPr>
          <p:grpSpPr>
            <a:xfrm>
              <a:off x="2898720" y="1331280"/>
              <a:ext cx="6087960" cy="5333040"/>
              <a:chOff x="2898720" y="1331280"/>
              <a:chExt cx="6087960" cy="5333040"/>
            </a:xfrm>
          </p:grpSpPr>
          <p:grpSp>
            <p:nvGrpSpPr>
              <p:cNvPr id="304" name=""/>
              <p:cNvGrpSpPr/>
              <p:nvPr/>
            </p:nvGrpSpPr>
            <p:grpSpPr>
              <a:xfrm>
                <a:off x="2898720" y="1331280"/>
                <a:ext cx="6087960" cy="5333040"/>
                <a:chOff x="2898720" y="1331280"/>
                <a:chExt cx="6087960" cy="5333040"/>
              </a:xfrm>
            </p:grpSpPr>
            <p:grpSp>
              <p:nvGrpSpPr>
                <p:cNvPr id="305" name=""/>
                <p:cNvGrpSpPr/>
                <p:nvPr/>
              </p:nvGrpSpPr>
              <p:grpSpPr>
                <a:xfrm>
                  <a:off x="2898720" y="1884960"/>
                  <a:ext cx="6087960" cy="4178160"/>
                  <a:chOff x="2898720" y="1884960"/>
                  <a:chExt cx="6087960" cy="4178160"/>
                </a:xfrm>
              </p:grpSpPr>
              <p:grpSp>
                <p:nvGrpSpPr>
                  <p:cNvPr id="306" name=""/>
                  <p:cNvGrpSpPr/>
                  <p:nvPr/>
                </p:nvGrpSpPr>
                <p:grpSpPr>
                  <a:xfrm>
                    <a:off x="2999880" y="2314800"/>
                    <a:ext cx="5820120" cy="3202560"/>
                    <a:chOff x="2999880" y="2314800"/>
                    <a:chExt cx="5820120" cy="3202560"/>
                  </a:xfrm>
                </p:grpSpPr>
                <p:sp>
                  <p:nvSpPr>
                    <p:cNvPr id="307" name=""/>
                    <p:cNvSpPr/>
                    <p:nvPr/>
                  </p:nvSpPr>
                  <p:spPr>
                    <a:xfrm>
                      <a:off x="2999880" y="5517360"/>
                      <a:ext cx="5820120" cy="0"/>
                    </a:xfrm>
                    <a:prstGeom prst="line">
                      <a:avLst/>
                    </a:prstGeom>
                    <a:ln cap="sq" w="76320">
                      <a:solidFill>
                        <a:srgbClr val="ffcc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" name=""/>
                    <p:cNvSpPr/>
                    <p:nvPr/>
                  </p:nvSpPr>
                  <p:spPr>
                    <a:xfrm flipV="1">
                      <a:off x="2999880" y="2314800"/>
                      <a:ext cx="0" cy="3141000"/>
                    </a:xfrm>
                    <a:prstGeom prst="line">
                      <a:avLst/>
                    </a:prstGeom>
                    <a:ln cap="sq" w="76320">
                      <a:solidFill>
                        <a:srgbClr val="ffcc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aphicFrame>
                <p:nvGraphicFramePr>
                  <p:cNvPr id="309" name=""/>
                  <p:cNvGraphicFramePr/>
                  <p:nvPr/>
                </p:nvGraphicFramePr>
                <p:xfrm>
                  <a:off x="2898720" y="1884960"/>
                  <a:ext cx="1265040" cy="457200"/>
                </p:xfrm>
                <a:graphic>
                  <a:graphicData uri="http://schemas.openxmlformats.org/presentationml/2006/ole">
                    <p:oleObj r:id="rId2" spid="">
                      <p:embed/>
                      <p:pic>
                        <p:nvPicPr>
                          <p:cNvPr id="310" name="" descr=""/>
                          <p:cNvPicPr/>
                          <p:nvPr/>
                        </p:nvPicPr>
                        <p:blipFill>
                          <a:blip r:embed="rId3"/>
                          <a:stretch/>
                        </p:blipFill>
                        <p:spPr>
                          <a:xfrm>
                            <a:off x="2898720" y="1884960"/>
                            <a:ext cx="1265040" cy="45720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graphicFrame>
                <p:nvGraphicFramePr>
                  <p:cNvPr id="311" name=""/>
                  <p:cNvGraphicFramePr/>
                  <p:nvPr/>
                </p:nvGraphicFramePr>
                <p:xfrm>
                  <a:off x="8213400" y="5641200"/>
                  <a:ext cx="773280" cy="421920"/>
                </p:xfrm>
                <a:graphic>
                  <a:graphicData uri="http://schemas.openxmlformats.org/presentationml/2006/ole">
                    <p:oleObj r:id="rId4" spid="">
                      <p:embed/>
                      <p:pic>
                        <p:nvPicPr>
                          <p:cNvPr id="312" name="" descr=""/>
                          <p:cNvPicPr/>
                          <p:nvPr/>
                        </p:nvPicPr>
                        <p:blipFill>
                          <a:blip r:embed="rId5"/>
                          <a:stretch/>
                        </p:blipFill>
                        <p:spPr>
                          <a:xfrm>
                            <a:off x="8213400" y="5641200"/>
                            <a:ext cx="773280" cy="4219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  <p:grpSp>
              <p:nvGrpSpPr>
                <p:cNvPr id="313" name=""/>
                <p:cNvGrpSpPr/>
                <p:nvPr/>
              </p:nvGrpSpPr>
              <p:grpSpPr>
                <a:xfrm>
                  <a:off x="2972520" y="1884960"/>
                  <a:ext cx="5945400" cy="4779360"/>
                  <a:chOff x="2972520" y="1884960"/>
                  <a:chExt cx="5945400" cy="4779360"/>
                </a:xfrm>
              </p:grpSpPr>
              <p:grpSp>
                <p:nvGrpSpPr>
                  <p:cNvPr id="314" name=""/>
                  <p:cNvGrpSpPr/>
                  <p:nvPr/>
                </p:nvGrpSpPr>
                <p:grpSpPr>
                  <a:xfrm>
                    <a:off x="3996360" y="4225320"/>
                    <a:ext cx="458280" cy="2219040"/>
                    <a:chOff x="3996360" y="4225320"/>
                    <a:chExt cx="458280" cy="2219040"/>
                  </a:xfrm>
                </p:grpSpPr>
                <p:sp>
                  <p:nvSpPr>
                    <p:cNvPr id="315" name=""/>
                    <p:cNvSpPr/>
                    <p:nvPr/>
                  </p:nvSpPr>
                  <p:spPr>
                    <a:xfrm>
                      <a:off x="3996360" y="5125320"/>
                      <a:ext cx="458280" cy="1319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 vert="eaVer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6" name=""/>
                    <p:cNvSpPr/>
                    <p:nvPr/>
                  </p:nvSpPr>
                  <p:spPr>
                    <a:xfrm>
                      <a:off x="4140000" y="4225320"/>
                      <a:ext cx="267480" cy="642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萌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7" name=""/>
                  <p:cNvGrpSpPr/>
                  <p:nvPr/>
                </p:nvGrpSpPr>
                <p:grpSpPr>
                  <a:xfrm>
                    <a:off x="6771240" y="2476800"/>
                    <a:ext cx="429120" cy="4187520"/>
                    <a:chOff x="6771240" y="2476800"/>
                    <a:chExt cx="429120" cy="4187520"/>
                  </a:xfrm>
                </p:grpSpPr>
                <p:sp>
                  <p:nvSpPr>
                    <p:cNvPr id="318" name=""/>
                    <p:cNvSpPr/>
                    <p:nvPr/>
                  </p:nvSpPr>
                  <p:spPr>
                    <a:xfrm>
                      <a:off x="6771240" y="5515920"/>
                      <a:ext cx="429120" cy="11484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 vert="eaVer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9" name=""/>
                    <p:cNvSpPr/>
                    <p:nvPr/>
                  </p:nvSpPr>
                  <p:spPr>
                    <a:xfrm>
                      <a:off x="6896880" y="2476800"/>
                      <a:ext cx="269640" cy="1465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诞生婴儿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0" name=""/>
                  <p:cNvGrpSpPr/>
                  <p:nvPr/>
                </p:nvGrpSpPr>
                <p:grpSpPr>
                  <a:xfrm>
                    <a:off x="7806960" y="1947240"/>
                    <a:ext cx="442440" cy="4577760"/>
                    <a:chOff x="7806960" y="1947240"/>
                    <a:chExt cx="442440" cy="4577760"/>
                  </a:xfrm>
                </p:grpSpPr>
                <p:sp>
                  <p:nvSpPr>
                    <p:cNvPr id="321" name=""/>
                    <p:cNvSpPr/>
                    <p:nvPr/>
                  </p:nvSpPr>
                  <p:spPr>
                    <a:xfrm>
                      <a:off x="7806960" y="5547600"/>
                      <a:ext cx="428400" cy="9774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 vert="eaVer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2" name=""/>
                    <p:cNvSpPr/>
                    <p:nvPr/>
                  </p:nvSpPr>
                  <p:spPr>
                    <a:xfrm>
                      <a:off x="7929360" y="1947240"/>
                      <a:ext cx="320040" cy="1465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成长发展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3" name=""/>
                  <p:cNvGrpSpPr/>
                  <p:nvPr/>
                </p:nvGrpSpPr>
                <p:grpSpPr>
                  <a:xfrm>
                    <a:off x="8488440" y="1884960"/>
                    <a:ext cx="429480" cy="4657320"/>
                    <a:chOff x="8488440" y="1884960"/>
                    <a:chExt cx="429480" cy="4657320"/>
                  </a:xfrm>
                </p:grpSpPr>
                <p:sp>
                  <p:nvSpPr>
                    <p:cNvPr id="324" name=""/>
                    <p:cNvSpPr/>
                    <p:nvPr/>
                  </p:nvSpPr>
                  <p:spPr>
                    <a:xfrm>
                      <a:off x="8488440" y="6072840"/>
                      <a:ext cx="429480" cy="4694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 vert="eaVer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5" name=""/>
                    <p:cNvSpPr/>
                    <p:nvPr/>
                  </p:nvSpPr>
                  <p:spPr>
                    <a:xfrm>
                      <a:off x="8517240" y="1884960"/>
                      <a:ext cx="320040" cy="642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现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6" name=""/>
                  <p:cNvGrpSpPr/>
                  <p:nvPr/>
                </p:nvGrpSpPr>
                <p:grpSpPr>
                  <a:xfrm>
                    <a:off x="2972520" y="4164120"/>
                    <a:ext cx="454680" cy="2216520"/>
                    <a:chOff x="2972520" y="4164120"/>
                    <a:chExt cx="454680" cy="2216520"/>
                  </a:xfrm>
                </p:grpSpPr>
                <p:sp>
                  <p:nvSpPr>
                    <p:cNvPr id="327" name=""/>
                    <p:cNvSpPr/>
                    <p:nvPr/>
                  </p:nvSpPr>
                  <p:spPr>
                    <a:xfrm>
                      <a:off x="2972520" y="5063040"/>
                      <a:ext cx="454680" cy="1317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 vert="eaVer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8" name=""/>
                    <p:cNvSpPr/>
                    <p:nvPr/>
                  </p:nvSpPr>
                  <p:spPr>
                    <a:xfrm>
                      <a:off x="3112560" y="4164120"/>
                      <a:ext cx="268560" cy="1191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思想火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9" name=""/>
                  <p:cNvGrpSpPr/>
                  <p:nvPr/>
                </p:nvGrpSpPr>
                <p:grpSpPr>
                  <a:xfrm>
                    <a:off x="5378760" y="3055320"/>
                    <a:ext cx="493560" cy="3421800"/>
                    <a:chOff x="5378760" y="3055320"/>
                    <a:chExt cx="493560" cy="3421800"/>
                  </a:xfrm>
                </p:grpSpPr>
                <p:sp>
                  <p:nvSpPr>
                    <p:cNvPr id="330" name=""/>
                    <p:cNvSpPr/>
                    <p:nvPr/>
                  </p:nvSpPr>
                  <p:spPr>
                    <a:xfrm>
                      <a:off x="5378760" y="5580360"/>
                      <a:ext cx="459720" cy="896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 vert="eaVer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1" name=""/>
                    <p:cNvSpPr/>
                    <p:nvPr/>
                  </p:nvSpPr>
                  <p:spPr>
                    <a:xfrm flipH="1">
                      <a:off x="5519520" y="3055320"/>
                      <a:ext cx="352440" cy="1191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胚胎时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999880" y="1331280"/>
                  <a:ext cx="5972040" cy="2840760"/>
                  <a:chOff x="2999880" y="1331280"/>
                  <a:chExt cx="5972040" cy="2840760"/>
                </a:xfrm>
              </p:grpSpPr>
              <p:grpSp>
                <p:nvGrpSpPr>
                  <p:cNvPr id="333" name=""/>
                  <p:cNvGrpSpPr/>
                  <p:nvPr/>
                </p:nvGrpSpPr>
                <p:grpSpPr>
                  <a:xfrm>
                    <a:off x="2999880" y="1762560"/>
                    <a:ext cx="5972040" cy="2401200"/>
                    <a:chOff x="2999880" y="1762560"/>
                    <a:chExt cx="5972040" cy="2401200"/>
                  </a:xfrm>
                </p:grpSpPr>
                <p:sp>
                  <p:nvSpPr>
                    <p:cNvPr id="334" name=""/>
                    <p:cNvSpPr/>
                    <p:nvPr/>
                  </p:nvSpPr>
                  <p:spPr>
                    <a:xfrm>
                      <a:off x="2999880" y="4163760"/>
                      <a:ext cx="657000" cy="0"/>
                    </a:xfrm>
                    <a:prstGeom prst="line">
                      <a:avLst/>
                    </a:prstGeom>
                    <a:ln w="76320">
                      <a:solidFill>
                        <a:srgbClr val="ffffcc"/>
                      </a:solidFill>
                      <a:prstDash val="sysDot"/>
                      <a:miter/>
                      <a:tailEnd len="med" type="arrow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5" name=""/>
                    <p:cNvSpPr/>
                    <p:nvPr/>
                  </p:nvSpPr>
                  <p:spPr>
                    <a:xfrm>
                      <a:off x="3708360" y="3794400"/>
                      <a:ext cx="1467360" cy="0"/>
                    </a:xfrm>
                    <a:prstGeom prst="line">
                      <a:avLst/>
                    </a:prstGeom>
                    <a:ln cap="rnd" w="76320">
                      <a:solidFill>
                        <a:srgbClr val="ffffcc"/>
                      </a:solidFill>
                      <a:custDash>
                        <a:ds d="100000" sp="1000"/>
                      </a:custDash>
                      <a:miter/>
                      <a:tailEnd len="med" type="arrow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6" name=""/>
                    <p:cNvSpPr/>
                    <p:nvPr/>
                  </p:nvSpPr>
                  <p:spPr>
                    <a:xfrm>
                      <a:off x="5175720" y="3055680"/>
                      <a:ext cx="1265040" cy="0"/>
                    </a:xfrm>
                    <a:prstGeom prst="line">
                      <a:avLst/>
                    </a:prstGeom>
                    <a:ln w="76320">
                      <a:solidFill>
                        <a:srgbClr val="ffffcc"/>
                      </a:solidFill>
                      <a:miter/>
                      <a:headEnd len="med" type="oval" w="med"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7" name=""/>
                    <p:cNvSpPr/>
                    <p:nvPr/>
                  </p:nvSpPr>
                  <p:spPr>
                    <a:xfrm>
                      <a:off x="3656880" y="3794400"/>
                      <a:ext cx="0" cy="369360"/>
                    </a:xfrm>
                    <a:prstGeom prst="line">
                      <a:avLst/>
                    </a:prstGeom>
                    <a:ln cap="sq" w="12600">
                      <a:solidFill>
                        <a:srgbClr val="ff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8" name=""/>
                    <p:cNvSpPr/>
                    <p:nvPr/>
                  </p:nvSpPr>
                  <p:spPr>
                    <a:xfrm flipV="1">
                      <a:off x="5175720" y="3055320"/>
                      <a:ext cx="0" cy="738360"/>
                    </a:xfrm>
                    <a:prstGeom prst="line">
                      <a:avLst/>
                    </a:prstGeom>
                    <a:ln cap="sq" w="12600">
                      <a:solidFill>
                        <a:srgbClr val="ff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>
                      <a:off x="6440760" y="2439720"/>
                      <a:ext cx="0" cy="614880"/>
                    </a:xfrm>
                    <a:prstGeom prst="line">
                      <a:avLst/>
                    </a:prstGeom>
                    <a:ln cap="sq" w="12600">
                      <a:solidFill>
                        <a:srgbClr val="ff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0" name=""/>
                    <p:cNvSpPr/>
                    <p:nvPr/>
                  </p:nvSpPr>
                  <p:spPr>
                    <a:xfrm>
                      <a:off x="6440760" y="2439720"/>
                      <a:ext cx="1265400" cy="0"/>
                    </a:xfrm>
                    <a:prstGeom prst="line">
                      <a:avLst/>
                    </a:prstGeom>
                    <a:ln w="76320">
                      <a:solidFill>
                        <a:srgbClr val="ffff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1" name=""/>
                    <p:cNvSpPr/>
                    <p:nvPr/>
                  </p:nvSpPr>
                  <p:spPr>
                    <a:xfrm>
                      <a:off x="7706520" y="1762560"/>
                      <a:ext cx="1265400" cy="0"/>
                    </a:xfrm>
                    <a:prstGeom prst="line">
                      <a:avLst/>
                    </a:prstGeom>
                    <a:ln w="76320">
                      <a:solidFill>
                        <a:srgbClr val="ffff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>
                      <a:off x="7706520" y="1823400"/>
                      <a:ext cx="0" cy="614880"/>
                    </a:xfrm>
                    <a:prstGeom prst="line">
                      <a:avLst/>
                    </a:prstGeom>
                    <a:ln cap="sq" w="12600">
                      <a:solidFill>
                        <a:srgbClr val="ff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43" name=""/>
                  <p:cNvSpPr/>
                  <p:nvPr/>
                </p:nvSpPr>
                <p:spPr>
                  <a:xfrm>
                    <a:off x="3141000" y="3712320"/>
                    <a:ext cx="4122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ffffcc"/>
                        </a:solidFill>
                        <a:latin typeface="Times New Roman"/>
                      </a:rPr>
                      <a:t>①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4199760" y="3363480"/>
                    <a:ext cx="4122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ffffcc"/>
                        </a:solidFill>
                        <a:latin typeface="Times New Roman"/>
                      </a:rPr>
                      <a:t>②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5566320" y="2626200"/>
                    <a:ext cx="4122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ffffcc"/>
                        </a:solidFill>
                        <a:latin typeface="Times New Roman"/>
                      </a:rPr>
                      <a:t>③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6885720" y="2009880"/>
                    <a:ext cx="4122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ffffcc"/>
                        </a:solidFill>
                        <a:latin typeface="Times New Roman"/>
                      </a:rPr>
                      <a:t>④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7857000" y="1331280"/>
                    <a:ext cx="3438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ffffcc"/>
                        </a:solidFill>
                        <a:latin typeface="Times New Roman"/>
                      </a:rPr>
                      <a:t>⑤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8505720" y="1331280"/>
                    <a:ext cx="4122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ffffcc"/>
                        </a:solidFill>
                        <a:latin typeface="Times New Roman"/>
                      </a:rPr>
                      <a:t>⑥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49" name=""/>
              <p:cNvGrpSpPr/>
              <p:nvPr/>
            </p:nvGrpSpPr>
            <p:grpSpPr>
              <a:xfrm>
                <a:off x="3204720" y="2654640"/>
                <a:ext cx="5689800" cy="2836440"/>
                <a:chOff x="3204720" y="2654640"/>
                <a:chExt cx="5689800" cy="283644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7929000" y="3353400"/>
                  <a:ext cx="254160" cy="2096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8640360" y="2654640"/>
                  <a:ext cx="254160" cy="2813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755e75"/>
                    </a:gs>
                    <a:gs pos="50000">
                      <a:srgbClr val="ffccff"/>
                    </a:gs>
                    <a:gs pos="100000">
                      <a:srgbClr val="755e75"/>
                    </a:gs>
                  </a:gsLst>
                  <a:lin ang="5400000"/>
                </a:gradFill>
                <a:ln w="9360">
                  <a:solidFill>
                    <a:srgbClr val="ffffcc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3204720" y="5259600"/>
                  <a:ext cx="152280" cy="214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4220640" y="4941720"/>
                  <a:ext cx="202680" cy="485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5592600" y="4370400"/>
                  <a:ext cx="203400" cy="1120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6964560" y="4052520"/>
                  <a:ext cx="203760" cy="1438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6" name=""/>
            <p:cNvSpPr/>
            <p:nvPr/>
          </p:nvSpPr>
          <p:spPr>
            <a:xfrm>
              <a:off x="3695760" y="990720"/>
              <a:ext cx="397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021120" y="5341320"/>
              <a:ext cx="5965200" cy="251280"/>
            </a:xfrm>
            <a:prstGeom prst="rightArrow">
              <a:avLst>
                <a:gd name="adj1" fmla="val 50000"/>
                <a:gd name="adj2" fmla="val 593481"/>
              </a:avLst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1295640" cy="112392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 rot="5400000">
            <a:off x="1285920" y="2143080"/>
            <a:ext cx="504720" cy="486000"/>
          </a:xfrm>
          <a:custGeom>
            <a:avLst/>
            <a:gdLst>
              <a:gd name="textAreaLeft" fmla="*/ 78840 w 504720"/>
              <a:gd name="textAreaRight" fmla="*/ 441720 w 5047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00"/>
          </a:solidFill>
          <a:ln cap="sq" w="12600">
            <a:solidFill>
              <a:srgbClr val="ffffcc"/>
            </a:solidFill>
            <a:miter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52280" y="4419720"/>
            <a:ext cx="2590920" cy="6858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语言的发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52280" y="2590920"/>
            <a:ext cx="2590920" cy="64764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语言的概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52280" y="3429000"/>
            <a:ext cx="2667240" cy="76212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语言的背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52280" y="5257800"/>
            <a:ext cx="2667240" cy="76212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语言的运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429000" y="762120"/>
            <a:ext cx="3917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①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思想火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315200" y="380880"/>
            <a:ext cx="1333440" cy="1441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3140" y="26453"/>
                </a:moveTo>
                <a:lnTo>
                  <a:pt x="-1234" y="1713"/>
                </a:lnTo>
              </a:path>
              <a:path w="21600" h="21600">
                <a:moveTo>
                  <a:pt x="-1234" y="0"/>
                </a:moveTo>
                <a:lnTo>
                  <a:pt x="-1234" y="21600"/>
                </a:lnTo>
              </a:path>
            </a:pathLst>
          </a:custGeom>
          <a:solidFill>
            <a:srgbClr val="00cc99"/>
          </a:solidFill>
          <a:ln cap="sq" w="12600">
            <a:solidFill>
              <a:srgbClr val="00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895480" y="2057400"/>
            <a:ext cx="6248520" cy="32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最早的时候，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Ross Ihaka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从一本书了解到了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Scheme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语言，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Ross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对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Scheme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非常感兴趣；大约与此同时，他获得了一版新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S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语言（见蓝皮书）的源代码，此时他注意到了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Scheme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和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S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语言二者之间的异同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后来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Ross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开始准备用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Scheme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向别人演示词法作用域，但是由于手边没有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Scheme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的书，就用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S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来演示却失败了，这让他萌生了改进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S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语言的想法</a:t>
            </a: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315200" y="380880"/>
            <a:ext cx="12952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1295640" cy="112392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 rot="5400000">
            <a:off x="1285920" y="2143080"/>
            <a:ext cx="504720" cy="486000"/>
          </a:xfrm>
          <a:custGeom>
            <a:avLst/>
            <a:gdLst>
              <a:gd name="textAreaLeft" fmla="*/ 78840 w 504720"/>
              <a:gd name="textAreaRight" fmla="*/ 441720 w 5047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00"/>
          </a:solidFill>
          <a:ln cap="sq" w="12600">
            <a:solidFill>
              <a:srgbClr val="ffffcc"/>
            </a:solidFill>
            <a:miter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52280" y="4419720"/>
            <a:ext cx="2590920" cy="6858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语言的发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52280" y="2590920"/>
            <a:ext cx="2590920" cy="64764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语言的概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52280" y="3429000"/>
            <a:ext cx="2667240" cy="76212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语言的背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52280" y="5257800"/>
            <a:ext cx="2667240" cy="76212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语言的运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429000" y="762120"/>
            <a:ext cx="3917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②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萌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315200" y="380880"/>
            <a:ext cx="1333440" cy="1441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6437" y="33756"/>
                </a:moveTo>
                <a:lnTo>
                  <a:pt x="-1234" y="1713"/>
                </a:lnTo>
              </a:path>
              <a:path w="21600" h="21600">
                <a:moveTo>
                  <a:pt x="-1234" y="0"/>
                </a:moveTo>
                <a:lnTo>
                  <a:pt x="-1234" y="21600"/>
                </a:lnTo>
              </a:path>
            </a:pathLst>
          </a:custGeom>
          <a:solidFill>
            <a:srgbClr val="00cc99"/>
          </a:solidFill>
          <a:ln cap="sq" w="12600">
            <a:solidFill>
              <a:srgbClr val="00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057400"/>
            <a:ext cx="6248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相当长一段时间之后，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Ross Ihaka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和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Robert Gentlemen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在奥克兰大学成了同事，他们都对统计计算十分感兴趣，而且试图为他们的实验室寻找一个更好的软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因为在商业软件中找不到他们想要的，这使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Ross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想到当初改进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S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语言的想法，于是他们决定自己开发一种语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2"/>
          <a:stretch/>
        </p:blipFill>
        <p:spPr>
          <a:xfrm>
            <a:off x="7391520" y="380880"/>
            <a:ext cx="11682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826920" y="1484280"/>
            <a:ext cx="288144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24000" y="836640"/>
            <a:ext cx="3311280" cy="579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R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语言的概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403280" y="2492280"/>
            <a:ext cx="3456000" cy="628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R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语言的背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492360" y="3933720"/>
            <a:ext cx="3383280" cy="57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R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语言的发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643280" y="5229360"/>
            <a:ext cx="3816360" cy="579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R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语言的运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1295640" cy="112392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 rot="5400000">
            <a:off x="1285920" y="2143080"/>
            <a:ext cx="504720" cy="486000"/>
          </a:xfrm>
          <a:custGeom>
            <a:avLst/>
            <a:gdLst>
              <a:gd name="textAreaLeft" fmla="*/ 78840 w 504720"/>
              <a:gd name="textAreaRight" fmla="*/ 441720 w 5047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00"/>
          </a:solidFill>
          <a:ln cap="sq" w="12600">
            <a:solidFill>
              <a:srgbClr val="ffffcc"/>
            </a:solidFill>
            <a:miter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52280" y="4419720"/>
            <a:ext cx="2590920" cy="6858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语言的发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52280" y="2590920"/>
            <a:ext cx="2590920" cy="64764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语言的概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52280" y="3429000"/>
            <a:ext cx="2667240" cy="76212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语言的背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52280" y="5257800"/>
            <a:ext cx="2667240" cy="76212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语言的运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429000" y="762120"/>
            <a:ext cx="3917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③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胚胎时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895480" y="1905120"/>
            <a:ext cx="6248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1993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年，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Ross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和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Robert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将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的部分二进制文件放到了卡耐基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·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梅隆大学统计系的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Statlib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中，并在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S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语言的新闻列表上发布了一个公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随后有些人开始下载使用并给他们反馈，其中以苏黎世理工学院的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MartinM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最为突出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Martin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极力劝说两位原作者公布源代码，让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成为自由软件。于是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1995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年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月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的源代码正式发布到了自由软件协会的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FTP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1295640" cy="112392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 rot="5400000">
            <a:off x="1285920" y="2143080"/>
            <a:ext cx="504720" cy="486000"/>
          </a:xfrm>
          <a:custGeom>
            <a:avLst/>
            <a:gdLst>
              <a:gd name="textAreaLeft" fmla="*/ 78840 w 504720"/>
              <a:gd name="textAreaRight" fmla="*/ 441720 w 5047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00"/>
          </a:solidFill>
          <a:ln cap="sq" w="12600">
            <a:solidFill>
              <a:srgbClr val="ffffcc"/>
            </a:solidFill>
            <a:miter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52280" y="4419720"/>
            <a:ext cx="2590920" cy="6858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语言的发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52280" y="2590920"/>
            <a:ext cx="2590920" cy="64764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语言的概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52280" y="3429000"/>
            <a:ext cx="2667240" cy="76212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语言的背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52280" y="5257800"/>
            <a:ext cx="2667240" cy="76212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语言的运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429000" y="762120"/>
            <a:ext cx="3917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④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诞生婴儿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895480" y="2514600"/>
            <a:ext cx="6248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随着开发的进行，程序版本的归档又成为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维也纳工业大学的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Kurt Hornik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承担了这份任务，在维也纳建立了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程序的归档，使得程序版本的发布变得更加规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同时在世界各地也出现了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程序的镜像（如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Statlib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等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1295640" cy="112392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 rot="5400000">
            <a:off x="1285920" y="2143080"/>
            <a:ext cx="504720" cy="486000"/>
          </a:xfrm>
          <a:custGeom>
            <a:avLst/>
            <a:gdLst>
              <a:gd name="textAreaLeft" fmla="*/ 78840 w 504720"/>
              <a:gd name="textAreaRight" fmla="*/ 441720 w 5047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00"/>
          </a:solidFill>
          <a:ln cap="sq" w="12600">
            <a:solidFill>
              <a:srgbClr val="ffffcc"/>
            </a:solidFill>
            <a:miter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52280" y="4419720"/>
            <a:ext cx="2590920" cy="6858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语言的发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52280" y="2590920"/>
            <a:ext cx="2590920" cy="64764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语言的概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52280" y="3429000"/>
            <a:ext cx="2667240" cy="76212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语言的背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52280" y="5257800"/>
            <a:ext cx="2667240" cy="76212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语言的运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429000" y="762120"/>
            <a:ext cx="3917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⑤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成长发展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895480" y="2057400"/>
            <a:ext cx="6248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于是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1997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年中期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核心团队成立了</a:t>
            </a:r>
            <a:r>
              <a:rPr b="0" lang="zh-CN" sz="1800" spc="-1" strike="noStrike">
                <a:solidFill>
                  <a:srgbClr val="ffffcc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ffffcc"/>
                </a:solidFill>
                <a:latin typeface="Arial"/>
              </a:rPr>
              <a:t>成员包括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cc"/>
                </a:solidFill>
                <a:latin typeface="Arial"/>
              </a:rPr>
              <a:t>Douglas Bates</a:t>
            </a:r>
            <a:r>
              <a:rPr b="0" lang="zh-CN" sz="1800" spc="-1" strike="noStrike">
                <a:solidFill>
                  <a:srgbClr val="ffffcc"/>
                </a:solidFill>
                <a:latin typeface="Arial"/>
              </a:rPr>
              <a:t>美国威斯康辛大学统计系教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cc"/>
                </a:solidFill>
                <a:latin typeface="Arial"/>
              </a:rPr>
              <a:t>Peter Dalgaard</a:t>
            </a:r>
            <a:r>
              <a:rPr b="0" lang="zh-CN" sz="1800" spc="-1" strike="noStrike">
                <a:solidFill>
                  <a:srgbClr val="ffffcc"/>
                </a:solidFill>
                <a:latin typeface="Arial"/>
              </a:rPr>
              <a:t>丹麦哥本哈根大学公共卫生所副教授</a:t>
            </a:r>
            <a:r>
              <a:rPr b="0" lang="zh-CN" sz="1800" spc="-1" strike="noStrike">
                <a:solidFill>
                  <a:srgbClr val="ffffcc"/>
                </a:solidFill>
                <a:latin typeface="Arial"/>
              </a:rPr>
              <a:t>Robert Gentleman</a:t>
            </a:r>
            <a:r>
              <a:rPr b="0" lang="zh-CN" sz="1800" spc="-1" strike="noStrike">
                <a:solidFill>
                  <a:srgbClr val="ffffcc"/>
                </a:solidFill>
                <a:latin typeface="Arial"/>
              </a:rPr>
              <a:t>美国西雅图哈清森肿瘤研究中心公共卫生部计算生物学项目带头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cc"/>
                </a:solidFill>
                <a:latin typeface="Arial"/>
              </a:rPr>
              <a:t>Kurt Hornik</a:t>
            </a:r>
            <a:r>
              <a:rPr b="0" lang="zh-CN" sz="1800" spc="-1" strike="noStrike">
                <a:solidFill>
                  <a:srgbClr val="ffffcc"/>
                </a:solidFill>
                <a:latin typeface="Arial"/>
              </a:rPr>
              <a:t>奥地利维也纳工业大学统计与数学系教授、主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cc"/>
                </a:solidFill>
                <a:latin typeface="Arial"/>
              </a:rPr>
              <a:t>Ross Ihaka</a:t>
            </a:r>
            <a:r>
              <a:rPr b="0" lang="zh-CN" sz="1800" spc="-1" strike="noStrike">
                <a:solidFill>
                  <a:srgbClr val="ffffcc"/>
                </a:solidFill>
                <a:latin typeface="Arial"/>
              </a:rPr>
              <a:t>新西兰奥克兰大学统计系副教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cc"/>
                </a:solidFill>
                <a:latin typeface="Arial"/>
              </a:rPr>
              <a:t>Friedrich Leisch</a:t>
            </a:r>
            <a:r>
              <a:rPr b="0" lang="zh-CN" sz="1800" spc="-1" strike="noStrike">
                <a:solidFill>
                  <a:srgbClr val="ffffcc"/>
                </a:solidFill>
                <a:latin typeface="Arial"/>
              </a:rPr>
              <a:t>德国慕尼黑大学统计系教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cc"/>
                </a:solidFill>
                <a:latin typeface="Arial"/>
              </a:rPr>
              <a:t>Thomas Lumley</a:t>
            </a:r>
            <a:r>
              <a:rPr b="0" lang="zh-CN" sz="1800" spc="-1" strike="noStrike">
                <a:solidFill>
                  <a:srgbClr val="ffffcc"/>
                </a:solidFill>
                <a:latin typeface="Arial"/>
              </a:rPr>
              <a:t>美国华盛顿大学生物统计系副教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cc"/>
                </a:solidFill>
                <a:latin typeface="Arial"/>
              </a:rPr>
              <a:t>Martin Maechler</a:t>
            </a:r>
            <a:r>
              <a:rPr b="0" lang="zh-CN" sz="1800" spc="-1" strike="noStrike">
                <a:solidFill>
                  <a:srgbClr val="ffffcc"/>
                </a:solidFill>
                <a:latin typeface="Arial"/>
              </a:rPr>
              <a:t>苏黎世理工学院数学系高级研究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cc"/>
                </a:solidFill>
                <a:latin typeface="Arial"/>
              </a:rPr>
              <a:t>Paul Murrell</a:t>
            </a:r>
            <a:r>
              <a:rPr b="0" lang="zh-CN" sz="1800" spc="-1" strike="noStrike">
                <a:solidFill>
                  <a:srgbClr val="ffffcc"/>
                </a:solidFill>
                <a:latin typeface="Arial"/>
              </a:rPr>
              <a:t>新西兰奥克兰大学统计系高级讲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cc"/>
                </a:solidFill>
                <a:latin typeface="Arial"/>
              </a:rPr>
              <a:t>Heiner Schwarte</a:t>
            </a:r>
            <a:r>
              <a:rPr b="0" lang="zh-CN" sz="1800" spc="-1" strike="noStrike">
                <a:solidFill>
                  <a:srgbClr val="ffffcc"/>
                </a:solidFill>
                <a:latin typeface="Arial"/>
              </a:rPr>
              <a:t>原在德国杜伊斯堡</a:t>
            </a:r>
            <a:r>
              <a:rPr b="0" lang="zh-CN" sz="1800" spc="-1" strike="noStrike">
                <a:solidFill>
                  <a:srgbClr val="ffffcc"/>
                </a:solidFill>
                <a:latin typeface="Arial"/>
              </a:rPr>
              <a:t>·</a:t>
            </a:r>
            <a:r>
              <a:rPr b="0" lang="zh-CN" sz="1800" spc="-1" strike="noStrike">
                <a:solidFill>
                  <a:srgbClr val="ffffcc"/>
                </a:solidFill>
                <a:latin typeface="Arial"/>
              </a:rPr>
              <a:t>埃森大学（现已非核心成员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cc"/>
                </a:solidFill>
                <a:latin typeface="Arial"/>
              </a:rPr>
              <a:t>Luke Tierney</a:t>
            </a:r>
            <a:r>
              <a:rPr b="0" lang="zh-CN" sz="1800" spc="-1" strike="noStrike">
                <a:solidFill>
                  <a:srgbClr val="ffffcc"/>
                </a:solidFill>
                <a:latin typeface="Arial"/>
              </a:rPr>
              <a:t>爱荷华大学统计与精算系教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1295640" cy="112392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 rot="5400000">
            <a:off x="1285920" y="2143080"/>
            <a:ext cx="504720" cy="486000"/>
          </a:xfrm>
          <a:custGeom>
            <a:avLst/>
            <a:gdLst>
              <a:gd name="textAreaLeft" fmla="*/ 78840 w 504720"/>
              <a:gd name="textAreaRight" fmla="*/ 441720 w 5047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00"/>
          </a:solidFill>
          <a:ln cap="sq" w="12600">
            <a:solidFill>
              <a:srgbClr val="ffffcc"/>
            </a:solidFill>
            <a:miter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52280" y="4419720"/>
            <a:ext cx="2590920" cy="6858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语言的发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52280" y="2590920"/>
            <a:ext cx="2590920" cy="64764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语言的概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52280" y="3429000"/>
            <a:ext cx="2667240" cy="76212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语言的背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52280" y="5257800"/>
            <a:ext cx="2667240" cy="76212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语言的运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429000" y="762120"/>
            <a:ext cx="3917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⑥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现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895480" y="2057400"/>
            <a:ext cx="624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048120" y="2068560"/>
            <a:ext cx="5867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cc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zh-CN" sz="2800" spc="-1" strike="noStrike">
                <a:solidFill>
                  <a:srgbClr val="ffffcc"/>
                </a:solidFill>
                <a:latin typeface="Arial"/>
              </a:rPr>
              <a:t>源程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截止到本文写作时，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源程序已经更新了约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70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个版本，目前是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2.8.0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版，源程序大小由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1997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年的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959K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增大到了今天的大约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16M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Window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二进制安装程序文件约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30M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）；从版本更新以及文件大小来看，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的发展速度的确非常快，而且整个软件系统的体积也保持着非常小的优势，这几乎是任何一门商业软件都无法比拟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1295640" cy="112392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 rot="5400000">
            <a:off x="1285920" y="2143080"/>
            <a:ext cx="504720" cy="486000"/>
          </a:xfrm>
          <a:custGeom>
            <a:avLst/>
            <a:gdLst>
              <a:gd name="textAreaLeft" fmla="*/ 78840 w 504720"/>
              <a:gd name="textAreaRight" fmla="*/ 441720 w 5047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00"/>
          </a:solidFill>
          <a:ln cap="sq" w="12600">
            <a:solidFill>
              <a:srgbClr val="ffffcc"/>
            </a:solidFill>
            <a:miter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52280" y="4419720"/>
            <a:ext cx="2590920" cy="6858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语言的发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52280" y="2590920"/>
            <a:ext cx="2590920" cy="64764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语言的概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52280" y="3429000"/>
            <a:ext cx="2667240" cy="76212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语言的背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52280" y="5257800"/>
            <a:ext cx="2667240" cy="76212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语言的运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429000" y="762120"/>
            <a:ext cx="3917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⑥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现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895480" y="2057400"/>
            <a:ext cx="624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352680" y="2743200"/>
            <a:ext cx="5562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cc"/>
                </a:solidFill>
                <a:latin typeface="Arial"/>
              </a:rPr>
              <a:t>）邮件列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现今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的邮件列表仍然由苏黎世理工学院的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Martin Machler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提供支持，这些邮件列表分四大类：消息发布（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R-announce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）、附加包（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R-help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）、帮助（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R-help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）和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程序开发（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R-devel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1295640" cy="112392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 rot="5400000">
            <a:off x="1285920" y="2143080"/>
            <a:ext cx="504720" cy="486000"/>
          </a:xfrm>
          <a:custGeom>
            <a:avLst/>
            <a:gdLst>
              <a:gd name="textAreaLeft" fmla="*/ 78840 w 504720"/>
              <a:gd name="textAreaRight" fmla="*/ 441720 w 5047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00"/>
          </a:solidFill>
          <a:ln cap="sq" w="12600">
            <a:solidFill>
              <a:srgbClr val="ffffcc"/>
            </a:solidFill>
            <a:miter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52280" y="4419720"/>
            <a:ext cx="2590920" cy="6858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语言的发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52280" y="2590920"/>
            <a:ext cx="2590920" cy="64764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语言的概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52280" y="3429000"/>
            <a:ext cx="2667240" cy="76212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语言的背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52280" y="5257800"/>
            <a:ext cx="2667240" cy="76212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语言的运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429000" y="762120"/>
            <a:ext cx="3917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⑥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现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895480" y="2057400"/>
            <a:ext cx="624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048120" y="1828800"/>
            <a:ext cx="5715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ffcc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zh-CN" sz="2800" spc="-1" strike="noStrike">
                <a:solidFill>
                  <a:srgbClr val="ffffcc"/>
                </a:solidFill>
                <a:latin typeface="Arial"/>
              </a:rPr>
              <a:t>核心团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2008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年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核心团队成员数目增加到了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19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位，成员主要来自世界各地的大学如牛津大学、加拿大西安大略大学、意大利米兰大学等，也有来自公司企业的成员，如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AT&amp;T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实验室的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Simon Urbanek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等。由于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的扩展性非常强，因此也吸引了大量用户编写自定义的函数包供更多人使用，这些附加包都可以从世界各地的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CRAN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镜像上下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1295640" cy="112392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 rot="5400000">
            <a:off x="1285920" y="2143080"/>
            <a:ext cx="504720" cy="486000"/>
          </a:xfrm>
          <a:custGeom>
            <a:avLst/>
            <a:gdLst>
              <a:gd name="textAreaLeft" fmla="*/ 78840 w 504720"/>
              <a:gd name="textAreaRight" fmla="*/ 441720 w 5047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00"/>
          </a:solidFill>
          <a:ln cap="sq" w="12600">
            <a:solidFill>
              <a:srgbClr val="ffffcc"/>
            </a:solidFill>
            <a:miter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52280" y="4419720"/>
            <a:ext cx="2590920" cy="6858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语言的发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52280" y="2590920"/>
            <a:ext cx="2590920" cy="64764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语言的概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52280" y="3429000"/>
            <a:ext cx="2667240" cy="76212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语言的背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52280" y="5257800"/>
            <a:ext cx="2667240" cy="76212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语言的运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429000" y="762120"/>
            <a:ext cx="3917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⑥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现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895480" y="2057400"/>
            <a:ext cx="624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124080" y="2057400"/>
            <a:ext cx="56390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ffcc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zh-CN" sz="2800" spc="-1" strike="noStrike">
                <a:solidFill>
                  <a:srgbClr val="ffffcc"/>
                </a:solidFill>
                <a:latin typeface="Arial"/>
              </a:rPr>
              <a:t>刊物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也有其刊物“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R News”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，创办于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2001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年，至今已经发行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23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期，共发表论文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205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篇。该刊物主要介绍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的最新特征、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CRAN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的动态、附加包的说明短文、编程技巧、手册和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FAQ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中没有介绍的小提示以及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在数据分析中的应用示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自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2009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年起，“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R News”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将更名为“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The R Journal”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1295640" cy="112392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 rot="5400000">
            <a:off x="1285920" y="2143080"/>
            <a:ext cx="504720" cy="486000"/>
          </a:xfrm>
          <a:custGeom>
            <a:avLst/>
            <a:gdLst>
              <a:gd name="textAreaLeft" fmla="*/ 78840 w 504720"/>
              <a:gd name="textAreaRight" fmla="*/ 441720 w 5047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00"/>
          </a:solidFill>
          <a:ln cap="sq" w="12600">
            <a:solidFill>
              <a:srgbClr val="ffffcc"/>
            </a:solidFill>
            <a:miter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52280" y="4419720"/>
            <a:ext cx="2590920" cy="6858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语言的发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52280" y="2590920"/>
            <a:ext cx="2590920" cy="64764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语言的概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3429000"/>
            <a:ext cx="2667240" cy="76212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语言的背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52280" y="5257800"/>
            <a:ext cx="2667240" cy="76212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语言的运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429000" y="762120"/>
            <a:ext cx="3917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⑥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现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048120" y="2514600"/>
            <a:ext cx="563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ffffcc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zh-CN" sz="2800" spc="-1" strike="noStrike">
                <a:solidFill>
                  <a:srgbClr val="ffffcc"/>
                </a:solidFill>
                <a:latin typeface="Arial"/>
              </a:rPr>
              <a:t>书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据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官方网站不完全统计，与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语言相关的出版书籍已达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68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本，内容包括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S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语言介绍、统计编程、统计学相关领域的应用、统计模型、数据分析、统计图示和与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相关的其它软件应用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1295640" cy="112392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 rot="5400000">
            <a:off x="1285920" y="2143080"/>
            <a:ext cx="504720" cy="486000"/>
          </a:xfrm>
          <a:custGeom>
            <a:avLst/>
            <a:gdLst>
              <a:gd name="textAreaLeft" fmla="*/ 78840 w 504720"/>
              <a:gd name="textAreaRight" fmla="*/ 441720 w 5047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00"/>
          </a:solidFill>
          <a:ln cap="sq" w="12600">
            <a:solidFill>
              <a:srgbClr val="ffffcc"/>
            </a:solidFill>
            <a:miter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52280" y="4419720"/>
            <a:ext cx="2590920" cy="6858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语言的发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52280" y="2590920"/>
            <a:ext cx="2590920" cy="64764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语言的概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52280" y="3429000"/>
            <a:ext cx="2667240" cy="76212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语言的背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52280" y="5257800"/>
            <a:ext cx="2667240" cy="76212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语言的运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886200" y="762120"/>
            <a:ext cx="3917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⑥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现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895480" y="2057400"/>
            <a:ext cx="624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819520" y="1641600"/>
            <a:ext cx="6172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ffffcc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zh-CN" sz="2800" spc="-1" strike="noStrike">
                <a:solidFill>
                  <a:srgbClr val="ffffcc"/>
                </a:solidFill>
                <a:latin typeface="Arial"/>
              </a:rPr>
              <a:t>会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从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2004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年起至今（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2005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年除外），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团队每年都会举办一次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useR!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会议，过去已经在奥地利、美国和德国举办了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次会议，每年参会人数和演讲篇数都在增多，例如最近一次在德国多特蒙德大学举办的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useR!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一共有超过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400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人参加、报告多达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170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场左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此外，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团队每两年也会举办一次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DSC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会议（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Directions in Statistical Computing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），讨论以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语言为重心的统计计算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1295640" cy="112392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 rot="5400000">
            <a:off x="1285920" y="2143080"/>
            <a:ext cx="504720" cy="486000"/>
          </a:xfrm>
          <a:custGeom>
            <a:avLst/>
            <a:gdLst>
              <a:gd name="textAreaLeft" fmla="*/ 78840 w 504720"/>
              <a:gd name="textAreaRight" fmla="*/ 441720 w 5047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00"/>
          </a:solidFill>
          <a:ln cap="sq" w="12600">
            <a:solidFill>
              <a:srgbClr val="ffffcc"/>
            </a:solidFill>
            <a:miter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52280" y="4419720"/>
            <a:ext cx="2590920" cy="6858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语言的发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52280" y="2590920"/>
            <a:ext cx="2590920" cy="64764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语言的概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52280" y="3429000"/>
            <a:ext cx="2667240" cy="76212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语言的背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52280" y="5257800"/>
            <a:ext cx="2667240" cy="76212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语言的运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895480" y="2057400"/>
            <a:ext cx="624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743200" y="128916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虽说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语言诞生于新西兰，但后来服务器架设到了奥地利，而现在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Windows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主程序的维护者在加拿大、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Windows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附加包的维护者在德国、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Mac OS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版程序的维护者在美国、邮件列表维护者在瑞士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这样一个形式松散却有着共同目标的群体，十年来以志愿者的身份坚持不懈推动着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语言的发展；众多统计学或者相关领域的程序员也纷纷贡献自己的力量，将大量统计方法以附加包的形式发布出来，使其他不擅长编程的用户也可以以最快的速度用上最新的统计方法，而封闭源代码的商业软件则很难拥有如此强劲的推动力量：现有的统计软件可能没有哪一种能够拥有超过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1500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个附加程序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1295640" cy="11239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 rot="5400000">
            <a:off x="1285920" y="2143080"/>
            <a:ext cx="504720" cy="486000"/>
          </a:xfrm>
          <a:custGeom>
            <a:avLst/>
            <a:gdLst>
              <a:gd name="textAreaLeft" fmla="*/ 78840 w 504720"/>
              <a:gd name="textAreaRight" fmla="*/ 441720 w 5047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00"/>
          </a:solidFill>
          <a:ln cap="sq" w="12600">
            <a:solidFill>
              <a:srgbClr val="ffffcc"/>
            </a:solidFill>
            <a:miter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52280" y="2666880"/>
            <a:ext cx="2590920" cy="648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语言的概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2280" y="3505320"/>
            <a:ext cx="2590920" cy="64764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语言的背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52280" y="4343400"/>
            <a:ext cx="2590920" cy="64764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语言的发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52280" y="5181480"/>
            <a:ext cx="2590920" cy="6480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语言的运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581280" y="1143000"/>
            <a:ext cx="36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0" lang="zh-CN" sz="4800" spc="-1" strike="noStrike">
                <a:solidFill>
                  <a:srgbClr val="ffff00"/>
                </a:solidFill>
                <a:latin typeface="Arial"/>
              </a:rPr>
              <a:t>语言的概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124080" y="2743200"/>
            <a:ext cx="5257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是一门用于统计计算和作图的语言，受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语言和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Scheme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语言影响发展而来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语言最初由新西兰奥克兰大学统计系的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obert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Gentleman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和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oss Ihaka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合作编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1295640" cy="112392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 rot="5400000">
            <a:off x="1285920" y="2143080"/>
            <a:ext cx="504720" cy="486000"/>
          </a:xfrm>
          <a:custGeom>
            <a:avLst/>
            <a:gdLst>
              <a:gd name="textAreaLeft" fmla="*/ 78840 w 504720"/>
              <a:gd name="textAreaRight" fmla="*/ 441720 w 5047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00"/>
          </a:solidFill>
          <a:ln cap="sq" w="12600">
            <a:solidFill>
              <a:srgbClr val="ffffcc"/>
            </a:solidFill>
            <a:miter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52280" y="5410080"/>
            <a:ext cx="2514600" cy="6098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语言的运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52280" y="2590920"/>
            <a:ext cx="2590920" cy="64764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语言的概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52280" y="3429000"/>
            <a:ext cx="2514600" cy="76212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语言的背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52280" y="4419720"/>
            <a:ext cx="2590920" cy="76176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语言的发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581280" y="1143000"/>
            <a:ext cx="36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Arial"/>
              </a:rPr>
              <a:t>小例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971800" y="2666880"/>
            <a:ext cx="5562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例如，我们用函数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t·test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对一批样本量为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、来自正态分布的样本数据作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t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检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1295640" cy="112392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 rot="5400000">
            <a:off x="1285920" y="2143080"/>
            <a:ext cx="504720" cy="486000"/>
          </a:xfrm>
          <a:custGeom>
            <a:avLst/>
            <a:gdLst>
              <a:gd name="textAreaLeft" fmla="*/ 78840 w 504720"/>
              <a:gd name="textAreaRight" fmla="*/ 441720 w 5047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00"/>
          </a:solidFill>
          <a:ln cap="sq" w="12600">
            <a:solidFill>
              <a:srgbClr val="ffffcc"/>
            </a:solidFill>
            <a:miter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52280" y="5410080"/>
            <a:ext cx="2514600" cy="6098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语言的运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52280" y="2590920"/>
            <a:ext cx="2590920" cy="64764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语言的概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52280" y="3429000"/>
            <a:ext cx="2514600" cy="76212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语言的背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52280" y="4419720"/>
            <a:ext cx="2590920" cy="76176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语言的发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581280" y="1143000"/>
            <a:ext cx="36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0" lang="zh-CN" sz="4800" spc="-1" strike="noStrike">
                <a:solidFill>
                  <a:srgbClr val="ffff00"/>
                </a:solidFill>
                <a:latin typeface="Arial"/>
              </a:rPr>
              <a:t>语言的运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124080" y="2362320"/>
            <a:ext cx="571500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继承了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S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语言关于向量化操作以及数据结构等诸多优势，加上它面向对象的特点，所以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语言在统计编程和统计图形方面显得非常灵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传统商业软件的统计模型在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中都是以对象的形式存在，我们通常看到的大篇幅统计报告输出对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来说只是对象的某种特定表现形式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1295640" cy="112392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 rot="5400000">
            <a:off x="1285920" y="2143080"/>
            <a:ext cx="504720" cy="486000"/>
          </a:xfrm>
          <a:custGeom>
            <a:avLst/>
            <a:gdLst>
              <a:gd name="textAreaLeft" fmla="*/ 78840 w 504720"/>
              <a:gd name="textAreaRight" fmla="*/ 441720 w 5047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00"/>
          </a:solidFill>
          <a:ln cap="sq" w="12600">
            <a:solidFill>
              <a:srgbClr val="ffffcc"/>
            </a:solidFill>
            <a:miter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52280" y="5410080"/>
            <a:ext cx="2514600" cy="6098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语言的运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52280" y="2590920"/>
            <a:ext cx="2590920" cy="64764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语言的概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52280" y="3429000"/>
            <a:ext cx="2514600" cy="76212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语言的背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52280" y="4419720"/>
            <a:ext cx="2590920" cy="76176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语言的发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581280" y="1143000"/>
            <a:ext cx="36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0" lang="zh-CN" sz="4800" spc="-1" strike="noStrike">
                <a:solidFill>
                  <a:srgbClr val="ffff00"/>
                </a:solidFill>
                <a:latin typeface="Arial"/>
              </a:rPr>
              <a:t>语言的运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895480" y="2057400"/>
            <a:ext cx="6248520" cy="275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正因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语言如此灵活，所以有诸多相关项目，比较有影响的有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Bioconductor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（生物信息学的应用）、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R Forge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（程序开发者的场所）和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R Graph Gallery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图库）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这些信息可以在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http://www.r-project.org/otherprojects.html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找到。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1066680" y="2362320"/>
            <a:ext cx="7086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希望通过本文的介绍，让更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中国用户了解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语言，并利用它在统计分析上的优势为自己的专业问题提供灵活的解答，而不是千篇一律陷在固定分析过程中降低数据利用效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同时我们也希望有更多擅长计算机编程的人士为这片“开源的海洋”贡献自己的力量，打造出一个多样化的统计分析世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>
            <a:off x="6781680" y="838080"/>
            <a:ext cx="1830600" cy="156528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/>
          <p:nvPr/>
        </p:nvSpPr>
        <p:spPr>
          <a:xfrm>
            <a:off x="3352680" y="990720"/>
            <a:ext cx="205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Arial"/>
              </a:rPr>
              <a:t>总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1371600" y="1295280"/>
            <a:ext cx="71629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100" spc="-1" strike="noStrike">
                <a:solidFill>
                  <a:srgbClr val="ffffcc"/>
                </a:solidFill>
                <a:latin typeface="Monotype Corsiva"/>
              </a:rPr>
              <a:t>Thank You </a:t>
            </a:r>
            <a:r>
              <a:rPr b="0" lang="zh-CN" sz="6100" spc="-1" strike="noStrike">
                <a:solidFill>
                  <a:srgbClr val="ffffcc"/>
                </a:solidFill>
                <a:latin typeface="Monotype Corsiva"/>
              </a:rPr>
              <a:t>！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1"/>
          <a:stretch/>
        </p:blipFill>
        <p:spPr>
          <a:xfrm>
            <a:off x="2971800" y="3313080"/>
            <a:ext cx="3733920" cy="24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2" dur="2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1295640" cy="1123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 rot="5400000">
            <a:off x="1285920" y="2143080"/>
            <a:ext cx="504720" cy="486000"/>
          </a:xfrm>
          <a:custGeom>
            <a:avLst/>
            <a:gdLst>
              <a:gd name="textAreaLeft" fmla="*/ 78840 w 504720"/>
              <a:gd name="textAreaRight" fmla="*/ 441720 w 5047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00"/>
          </a:solidFill>
          <a:ln cap="sq" w="12600">
            <a:solidFill>
              <a:srgbClr val="ffffcc"/>
            </a:solidFill>
            <a:miter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52280" y="2666880"/>
            <a:ext cx="2590920" cy="648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语言的概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52280" y="3505320"/>
            <a:ext cx="2590920" cy="64764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语言的背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52280" y="4343400"/>
            <a:ext cx="2590920" cy="64764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语言的发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52280" y="5181480"/>
            <a:ext cx="2590920" cy="6480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语言的运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581280" y="1143000"/>
            <a:ext cx="36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0" lang="zh-CN" sz="4800" spc="-1" strike="noStrike">
                <a:solidFill>
                  <a:srgbClr val="ffff00"/>
                </a:solidFill>
                <a:latin typeface="Arial"/>
              </a:rPr>
              <a:t>语言的概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124080" y="274320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语言具有免费、开源及统计模块齐全的特征，已被国外大量学术和科研机构采用，其应用范围涵盖了数据挖掘、机器学习、计量经济学、实证金融学、统计遗传学、自然语言处理、心理计量学和空间统计学诸多领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1295640" cy="1123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 rot="5400000">
            <a:off x="1285920" y="2143080"/>
            <a:ext cx="504720" cy="486000"/>
          </a:xfrm>
          <a:custGeom>
            <a:avLst/>
            <a:gdLst>
              <a:gd name="textAreaLeft" fmla="*/ 78840 w 504720"/>
              <a:gd name="textAreaRight" fmla="*/ 441720 w 5047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00"/>
          </a:solidFill>
          <a:ln cap="sq" w="12600">
            <a:solidFill>
              <a:srgbClr val="ffffcc"/>
            </a:solidFill>
            <a:miter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52280" y="2666880"/>
            <a:ext cx="2590920" cy="648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语言的概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52280" y="3505320"/>
            <a:ext cx="2590920" cy="64764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语言的背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52280" y="4343400"/>
            <a:ext cx="2590920" cy="64764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语言的发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52280" y="5181480"/>
            <a:ext cx="2590920" cy="6480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语言的运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581280" y="1143000"/>
            <a:ext cx="36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0" lang="zh-CN" sz="4800" spc="-1" strike="noStrike">
                <a:solidFill>
                  <a:srgbClr val="ffff00"/>
                </a:solidFill>
                <a:latin typeface="Arial"/>
              </a:rPr>
              <a:t>语言的概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971800" y="2743200"/>
            <a:ext cx="6172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r-project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·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关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·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下载镜像（中国香港有一个镜像网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·R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组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·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文档（官方文档、用户贡献文档、卡片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·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其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1295640" cy="112392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 rot="5400000">
            <a:off x="1285920" y="2143080"/>
            <a:ext cx="504720" cy="486000"/>
          </a:xfrm>
          <a:custGeom>
            <a:avLst/>
            <a:gdLst>
              <a:gd name="textAreaLeft" fmla="*/ 78840 w 504720"/>
              <a:gd name="textAreaRight" fmla="*/ 441720 w 5047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00"/>
          </a:solidFill>
          <a:ln cap="sq" w="12600">
            <a:solidFill>
              <a:srgbClr val="ffffcc"/>
            </a:solidFill>
            <a:miter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2280" y="3505320"/>
            <a:ext cx="2590920" cy="6094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语言的背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52280" y="2590920"/>
            <a:ext cx="2590920" cy="64764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语言的概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52280" y="4343400"/>
            <a:ext cx="2590920" cy="76212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语言的发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52280" y="5257800"/>
            <a:ext cx="2590920" cy="76212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语言的运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581280" y="1143000"/>
            <a:ext cx="36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Arial"/>
              </a:rPr>
              <a:t>自由的</a:t>
            </a:r>
            <a:r>
              <a:rPr b="0" lang="zh-CN" sz="4800" spc="-1" strike="noStrike">
                <a:solidFill>
                  <a:srgbClr val="ffff00"/>
                </a:solidFill>
                <a:latin typeface="Arial"/>
              </a:rPr>
              <a:t>GN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971800" y="2666880"/>
            <a:ext cx="5638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GNU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是一套完全由自由软件构成的计算机操作系统</a:t>
            </a: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.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其名称是“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GNU’s  Not  Unix’'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的递归缩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GNU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由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Richard Stallman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发起，后来在“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GNU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计划”下开发，目前已经包含大量的自由软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1295640" cy="11239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 rot="5400000">
            <a:off x="1285920" y="2143080"/>
            <a:ext cx="504720" cy="486000"/>
          </a:xfrm>
          <a:custGeom>
            <a:avLst/>
            <a:gdLst>
              <a:gd name="textAreaLeft" fmla="*/ 78840 w 504720"/>
              <a:gd name="textAreaRight" fmla="*/ 441720 w 5047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00"/>
          </a:solidFill>
          <a:ln cap="sq" w="12600">
            <a:solidFill>
              <a:srgbClr val="ffffcc"/>
            </a:solidFill>
            <a:miter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52280" y="3505320"/>
            <a:ext cx="2590920" cy="6094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语言的背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52280" y="2590920"/>
            <a:ext cx="2590920" cy="64764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语言的概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52280" y="4343400"/>
            <a:ext cx="2590920" cy="76212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语言的发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52280" y="5257800"/>
            <a:ext cx="2590920" cy="76212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语言的运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81280" y="1143000"/>
            <a:ext cx="36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Arial"/>
              </a:rPr>
              <a:t>自由的</a:t>
            </a:r>
            <a:r>
              <a:rPr b="0" lang="zh-CN" sz="4800" spc="-1" strike="noStrike">
                <a:solidFill>
                  <a:srgbClr val="ffff00"/>
                </a:solidFill>
                <a:latin typeface="Arial"/>
              </a:rPr>
              <a:t>GN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895480" y="2514600"/>
            <a:ext cx="5943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Richard Stallman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在其“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GNU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宣言”中提到了他发起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GNU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的动机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http://www.gnu.org/gnu/manifesto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“……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I consider that the golden rule requires that if I like a program I must share it with other people who like it.……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1295640" cy="11239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 rot="5400000">
            <a:off x="1285920" y="2143080"/>
            <a:ext cx="504720" cy="486000"/>
          </a:xfrm>
          <a:custGeom>
            <a:avLst/>
            <a:gdLst>
              <a:gd name="textAreaLeft" fmla="*/ 78840 w 504720"/>
              <a:gd name="textAreaRight" fmla="*/ 441720 w 5047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00"/>
          </a:solidFill>
          <a:ln cap="sq" w="12600">
            <a:solidFill>
              <a:srgbClr val="ffffcc"/>
            </a:solidFill>
            <a:miter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52280" y="3505320"/>
            <a:ext cx="2590920" cy="6094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语言的背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52280" y="2590920"/>
            <a:ext cx="2590920" cy="64764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语言的概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52280" y="4343400"/>
            <a:ext cx="2590920" cy="76212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语言的发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52280" y="5257800"/>
            <a:ext cx="2590920" cy="76212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语言的运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581280" y="1143000"/>
            <a:ext cx="36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Arial"/>
              </a:rPr>
              <a:t>自由的</a:t>
            </a:r>
            <a:r>
              <a:rPr b="0" lang="zh-CN" sz="4800" spc="-1" strike="noStrike">
                <a:solidFill>
                  <a:srgbClr val="ffff00"/>
                </a:solidFill>
                <a:latin typeface="Arial"/>
              </a:rPr>
              <a:t>GN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971800" y="2666880"/>
            <a:ext cx="56386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自由”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①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以任何目的运行此程序的自由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②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以学习程序工作机理为目的，对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程序进行修改的自由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③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再发行复制件的自由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④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改进此程序，并公开发布改进的自由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1295640" cy="11239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 rot="5400000">
            <a:off x="1285920" y="2143080"/>
            <a:ext cx="504720" cy="486000"/>
          </a:xfrm>
          <a:custGeom>
            <a:avLst/>
            <a:gdLst>
              <a:gd name="textAreaLeft" fmla="*/ 78840 w 504720"/>
              <a:gd name="textAreaRight" fmla="*/ 441720 w 5047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00"/>
          </a:solidFill>
          <a:ln cap="sq" w="12600">
            <a:solidFill>
              <a:srgbClr val="ffffcc"/>
            </a:solidFill>
            <a:miter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52280" y="3505320"/>
            <a:ext cx="2590920" cy="6094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语言的背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52280" y="2590920"/>
            <a:ext cx="2590920" cy="64764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语言的概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52280" y="4343400"/>
            <a:ext cx="2590920" cy="76212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语言的发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52280" y="5257800"/>
            <a:ext cx="2590920" cy="76212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语言的运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581280" y="1143000"/>
            <a:ext cx="36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Arial"/>
              </a:rPr>
              <a:t>自由的</a:t>
            </a:r>
            <a:r>
              <a:rPr b="0" lang="zh-CN" sz="4800" spc="-1" strike="noStrike">
                <a:solidFill>
                  <a:srgbClr val="ffff00"/>
                </a:solidFill>
                <a:latin typeface="Arial"/>
              </a:rPr>
              <a:t>GN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971800" y="2666880"/>
            <a:ext cx="563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对统计的意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能够对现实生活中复杂的数据一步步的去处理，并且随时以数值或图形的形式观察中间结果，以便我们决定下一步分析应该朝怎样的方向进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谢益辉</dc:creator>
  <dc:description/>
  <dc:language>en-US</dc:language>
  <cp:lastModifiedBy>Yihui Xie</cp:lastModifiedBy>
  <dcterms:modified xsi:type="dcterms:W3CDTF">2008-12-17T06:13:49Z</dcterms:modified>
  <cp:revision>20</cp:revision>
  <dc:subject>R语言</dc:subject>
  <dc:title>R~语言的历史背景、发展历程及现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