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.wmf" ContentType="image/x-wmf"/>
  <Override PartName="/ppt/media/image15.jpeg" ContentType="image/jpeg"/>
  <Override PartName="/ppt/media/image25.wmf" ContentType="image/x-wmf"/>
  <Override PartName="/ppt/media/image16.jpeg" ContentType="image/jpe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lang="en-US" sz="3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9DFD-3395-46F0-A2C0-782330030A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hh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21248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81440"/>
            <a:ext cx="250236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78144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2480"/>
            <a:ext cx="37926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81440"/>
            <a:ext cx="77724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79440" y="2857320"/>
            <a:ext cx="607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3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6.xml"/><Relationship Id="rId4" Type="http://schemas.openxmlformats.org/officeDocument/2006/relationships/slide" Target="slide19.xml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ng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9.pn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79440" y="2857320"/>
            <a:ext cx="607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半导体界统计和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R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的应用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04840" y="450864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中芯国际 －良率管理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2008-12-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AT Uniformity Analys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Mixed Effects Model Exampl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160" y="1066680"/>
            <a:ext cx="87631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Problem Descri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reak WAT parameters variation into lot, wafer &amp; die com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ghlight large or increasing variance contributors to better control the manufacturing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2154240" y="4506840"/>
            <a:ext cx="3281400" cy="557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40800" y="4962600"/>
            <a:ext cx="71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: lot number 1,2,…a; j: wafer number 1,2,…b; k: site number 1,2,…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1440" y="573732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ence Book :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Mixed Effects Models in S and S-Plu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2624040"/>
            <a:ext cx="8991720" cy="1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Analysis Metho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ixed Effects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ree-level nested linear mod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ied ar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riculture, biology, economics, </a:t>
            </a:r>
            <a:r>
              <a:rPr b="1" lang="en-US" sz="1900" spc="-1" strike="noStrike">
                <a:solidFill>
                  <a:srgbClr val="ff3300"/>
                </a:solidFill>
                <a:latin typeface="Arial"/>
                <a:ea typeface="宋体"/>
              </a:rPr>
              <a:t>manufactur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&amp; geophys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ing R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l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 lot, wafer &amp; die variance components are estim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AT Uniformity Analysis Example Resul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609480" y="1019160"/>
            <a:ext cx="7618680" cy="300996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-17640" y="4141800"/>
            <a:ext cx="9180360" cy="2057400"/>
            <a:chOff x="-17640" y="4141800"/>
            <a:chExt cx="9180360" cy="2057400"/>
          </a:xfrm>
        </p:grpSpPr>
        <p:grpSp>
          <p:nvGrpSpPr>
            <p:cNvPr id="618" name=""/>
            <p:cNvGrpSpPr/>
            <p:nvPr/>
          </p:nvGrpSpPr>
          <p:grpSpPr>
            <a:xfrm>
              <a:off x="-17640" y="4141800"/>
              <a:ext cx="776160" cy="411480"/>
              <a:chOff x="-17640" y="4141800"/>
              <a:chExt cx="776160" cy="411480"/>
            </a:xfrm>
          </p:grpSpPr>
          <p:sp>
            <p:nvSpPr>
              <p:cNvPr id="619" name=""/>
              <p:cNvSpPr/>
              <p:nvPr/>
            </p:nvSpPr>
            <p:spPr>
              <a:xfrm>
                <a:off x="-17640" y="414180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O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-17640" y="414180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758520" y="4141800"/>
              <a:ext cx="1876680" cy="411480"/>
              <a:chOff x="758520" y="4141800"/>
              <a:chExt cx="1876680" cy="411480"/>
            </a:xfrm>
          </p:grpSpPr>
          <p:sp>
            <p:nvSpPr>
              <p:cNvPr id="622" name=""/>
              <p:cNvSpPr/>
              <p:nvPr/>
            </p:nvSpPr>
            <p:spPr>
              <a:xfrm>
                <a:off x="758520" y="414180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Compon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8520" y="414180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635200" y="4141800"/>
              <a:ext cx="2452680" cy="411480"/>
              <a:chOff x="2635200" y="4141800"/>
              <a:chExt cx="2452680" cy="411480"/>
            </a:xfrm>
          </p:grpSpPr>
          <p:sp>
            <p:nvSpPr>
              <p:cNvPr id="625" name=""/>
              <p:cNvSpPr/>
              <p:nvPr/>
            </p:nvSpPr>
            <p:spPr>
              <a:xfrm>
                <a:off x="2635200" y="414180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Var Compon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635200" y="414180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087880" y="4141800"/>
              <a:ext cx="1638360" cy="411480"/>
              <a:chOff x="5087880" y="4141800"/>
              <a:chExt cx="1638360" cy="411480"/>
            </a:xfrm>
          </p:grpSpPr>
          <p:sp>
            <p:nvSpPr>
              <p:cNvPr id="628" name=""/>
              <p:cNvSpPr/>
              <p:nvPr/>
            </p:nvSpPr>
            <p:spPr>
              <a:xfrm>
                <a:off x="5087880" y="414180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% </a:t>
                </a: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of To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87880" y="414180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726240" y="4141800"/>
              <a:ext cx="2436480" cy="411480"/>
              <a:chOff x="6726240" y="4141800"/>
              <a:chExt cx="2436480" cy="411480"/>
            </a:xfrm>
          </p:grpSpPr>
          <p:sp>
            <p:nvSpPr>
              <p:cNvPr id="631" name=""/>
              <p:cNvSpPr/>
              <p:nvPr/>
            </p:nvSpPr>
            <p:spPr>
              <a:xfrm>
                <a:off x="6726240" y="414180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Sqrt(Var Com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726240" y="414180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-17640" y="4553280"/>
              <a:ext cx="776160" cy="411480"/>
              <a:chOff x="-17640" y="4553280"/>
              <a:chExt cx="776160" cy="411480"/>
            </a:xfrm>
          </p:grpSpPr>
          <p:sp>
            <p:nvSpPr>
              <p:cNvPr id="634" name=""/>
              <p:cNvSpPr/>
              <p:nvPr/>
            </p:nvSpPr>
            <p:spPr>
              <a:xfrm>
                <a:off x="-17640" y="455328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-17640" y="455328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758520" y="4553280"/>
              <a:ext cx="1876680" cy="411480"/>
              <a:chOff x="758520" y="4553280"/>
              <a:chExt cx="1876680" cy="411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58520" y="455328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Lo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8520" y="455328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635200" y="4553280"/>
              <a:ext cx="2452680" cy="411480"/>
              <a:chOff x="2635200" y="4553280"/>
              <a:chExt cx="2452680" cy="411480"/>
            </a:xfrm>
          </p:grpSpPr>
          <p:sp>
            <p:nvSpPr>
              <p:cNvPr id="640" name=""/>
              <p:cNvSpPr/>
              <p:nvPr/>
            </p:nvSpPr>
            <p:spPr>
              <a:xfrm>
                <a:off x="2635200" y="455328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2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635200" y="455328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5087880" y="4553280"/>
              <a:ext cx="1638360" cy="411480"/>
              <a:chOff x="5087880" y="4553280"/>
              <a:chExt cx="1638360" cy="411480"/>
            </a:xfrm>
          </p:grpSpPr>
          <p:sp>
            <p:nvSpPr>
              <p:cNvPr id="643" name=""/>
              <p:cNvSpPr/>
              <p:nvPr/>
            </p:nvSpPr>
            <p:spPr>
              <a:xfrm>
                <a:off x="5087880" y="455328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31.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87880" y="455328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726240" y="4553280"/>
              <a:ext cx="2436480" cy="411480"/>
              <a:chOff x="6726240" y="4553280"/>
              <a:chExt cx="2436480" cy="411480"/>
            </a:xfrm>
          </p:grpSpPr>
          <p:sp>
            <p:nvSpPr>
              <p:cNvPr id="646" name=""/>
              <p:cNvSpPr/>
              <p:nvPr/>
            </p:nvSpPr>
            <p:spPr>
              <a:xfrm>
                <a:off x="6726240" y="455328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4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26240" y="455328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-17640" y="4964760"/>
              <a:ext cx="776160" cy="411480"/>
              <a:chOff x="-17640" y="4964760"/>
              <a:chExt cx="776160" cy="411480"/>
            </a:xfrm>
          </p:grpSpPr>
          <p:sp>
            <p:nvSpPr>
              <p:cNvPr id="649" name=""/>
              <p:cNvSpPr/>
              <p:nvPr/>
            </p:nvSpPr>
            <p:spPr>
              <a:xfrm>
                <a:off x="-17640" y="496476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-17640" y="496476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758520" y="4964760"/>
              <a:ext cx="1876680" cy="411480"/>
              <a:chOff x="758520" y="4964760"/>
              <a:chExt cx="1876680" cy="411480"/>
            </a:xfrm>
          </p:grpSpPr>
          <p:sp>
            <p:nvSpPr>
              <p:cNvPr id="652" name=""/>
              <p:cNvSpPr/>
              <p:nvPr/>
            </p:nvSpPr>
            <p:spPr>
              <a:xfrm>
                <a:off x="758520" y="496476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Waf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8520" y="496476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635200" y="4964760"/>
              <a:ext cx="2452680" cy="411480"/>
              <a:chOff x="2635200" y="4964760"/>
              <a:chExt cx="2452680" cy="411480"/>
            </a:xfrm>
          </p:grpSpPr>
          <p:sp>
            <p:nvSpPr>
              <p:cNvPr id="655" name=""/>
              <p:cNvSpPr/>
              <p:nvPr/>
            </p:nvSpPr>
            <p:spPr>
              <a:xfrm>
                <a:off x="2635200" y="496476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41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35200" y="496476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087880" y="4964760"/>
              <a:ext cx="1638360" cy="411480"/>
              <a:chOff x="5087880" y="4964760"/>
              <a:chExt cx="1638360" cy="411480"/>
            </a:xfrm>
          </p:grpSpPr>
          <p:sp>
            <p:nvSpPr>
              <p:cNvPr id="658" name=""/>
              <p:cNvSpPr/>
              <p:nvPr/>
            </p:nvSpPr>
            <p:spPr>
              <a:xfrm>
                <a:off x="5087880" y="496476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Courier New"/>
                    <a:ea typeface="宋体"/>
                  </a:rPr>
                  <a:t>58.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87880" y="496476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726240" y="4964760"/>
              <a:ext cx="2436480" cy="411480"/>
              <a:chOff x="6726240" y="4964760"/>
              <a:chExt cx="2436480" cy="411480"/>
            </a:xfrm>
          </p:grpSpPr>
          <p:sp>
            <p:nvSpPr>
              <p:cNvPr id="661" name=""/>
              <p:cNvSpPr/>
              <p:nvPr/>
            </p:nvSpPr>
            <p:spPr>
              <a:xfrm>
                <a:off x="6726240" y="496476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6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726240" y="496476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-17640" y="5376240"/>
              <a:ext cx="776160" cy="411480"/>
              <a:chOff x="-17640" y="5376240"/>
              <a:chExt cx="776160" cy="411480"/>
            </a:xfrm>
          </p:grpSpPr>
          <p:sp>
            <p:nvSpPr>
              <p:cNvPr id="664" name=""/>
              <p:cNvSpPr/>
              <p:nvPr/>
            </p:nvSpPr>
            <p:spPr>
              <a:xfrm>
                <a:off x="-17640" y="537624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-17640" y="537624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758520" y="5376240"/>
              <a:ext cx="1876680" cy="411480"/>
              <a:chOff x="758520" y="5376240"/>
              <a:chExt cx="1876680" cy="411480"/>
            </a:xfrm>
          </p:grpSpPr>
          <p:sp>
            <p:nvSpPr>
              <p:cNvPr id="667" name=""/>
              <p:cNvSpPr/>
              <p:nvPr/>
            </p:nvSpPr>
            <p:spPr>
              <a:xfrm>
                <a:off x="758520" y="537624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D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520" y="537624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635200" y="5376240"/>
              <a:ext cx="2452680" cy="411480"/>
              <a:chOff x="2635200" y="5376240"/>
              <a:chExt cx="2452680" cy="411480"/>
            </a:xfrm>
          </p:grpSpPr>
          <p:sp>
            <p:nvSpPr>
              <p:cNvPr id="670" name=""/>
              <p:cNvSpPr/>
              <p:nvPr/>
            </p:nvSpPr>
            <p:spPr>
              <a:xfrm>
                <a:off x="2635200" y="537624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06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35200" y="537624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087880" y="5376240"/>
              <a:ext cx="1638360" cy="411480"/>
              <a:chOff x="5087880" y="5376240"/>
              <a:chExt cx="1638360" cy="411480"/>
            </a:xfrm>
          </p:grpSpPr>
          <p:sp>
            <p:nvSpPr>
              <p:cNvPr id="673" name=""/>
              <p:cNvSpPr/>
              <p:nvPr/>
            </p:nvSpPr>
            <p:spPr>
              <a:xfrm>
                <a:off x="5087880" y="537624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9.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87880" y="537624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26240" y="5376240"/>
              <a:ext cx="2436480" cy="411480"/>
              <a:chOff x="6726240" y="5376240"/>
              <a:chExt cx="2436480" cy="411480"/>
            </a:xfrm>
          </p:grpSpPr>
          <p:sp>
            <p:nvSpPr>
              <p:cNvPr id="676" name=""/>
              <p:cNvSpPr/>
              <p:nvPr/>
            </p:nvSpPr>
            <p:spPr>
              <a:xfrm>
                <a:off x="6726240" y="537624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26240" y="537624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-17640" y="5787720"/>
              <a:ext cx="776160" cy="411480"/>
              <a:chOff x="-17640" y="5787720"/>
              <a:chExt cx="776160" cy="411480"/>
            </a:xfrm>
          </p:grpSpPr>
          <p:sp>
            <p:nvSpPr>
              <p:cNvPr id="679" name=""/>
              <p:cNvSpPr/>
              <p:nvPr/>
            </p:nvSpPr>
            <p:spPr>
              <a:xfrm>
                <a:off x="-17640" y="5787720"/>
                <a:ext cx="7761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2288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-17640" y="5787720"/>
                <a:ext cx="7761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758520" y="5787720"/>
              <a:ext cx="1876680" cy="411480"/>
              <a:chOff x="758520" y="5787720"/>
              <a:chExt cx="1876680" cy="411480"/>
            </a:xfrm>
          </p:grpSpPr>
          <p:sp>
            <p:nvSpPr>
              <p:cNvPr id="682" name=""/>
              <p:cNvSpPr/>
              <p:nvPr/>
            </p:nvSpPr>
            <p:spPr>
              <a:xfrm>
                <a:off x="758520" y="5787720"/>
                <a:ext cx="1876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8520" y="5787720"/>
                <a:ext cx="1876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635200" y="5787720"/>
              <a:ext cx="2452680" cy="411480"/>
              <a:chOff x="2635200" y="5787720"/>
              <a:chExt cx="2452680" cy="411480"/>
            </a:xfrm>
          </p:grpSpPr>
          <p:sp>
            <p:nvSpPr>
              <p:cNvPr id="685" name=""/>
              <p:cNvSpPr/>
              <p:nvPr/>
            </p:nvSpPr>
            <p:spPr>
              <a:xfrm>
                <a:off x="2635200" y="5787720"/>
                <a:ext cx="24526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7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35200" y="5787720"/>
                <a:ext cx="24526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087880" y="5787720"/>
              <a:ext cx="1638360" cy="411480"/>
              <a:chOff x="5087880" y="5787720"/>
              <a:chExt cx="1638360" cy="411480"/>
            </a:xfrm>
          </p:grpSpPr>
          <p:sp>
            <p:nvSpPr>
              <p:cNvPr id="688" name=""/>
              <p:cNvSpPr/>
              <p:nvPr/>
            </p:nvSpPr>
            <p:spPr>
              <a:xfrm>
                <a:off x="5087880" y="5787720"/>
                <a:ext cx="16383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100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087880" y="5787720"/>
                <a:ext cx="163836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6726240" y="5787720"/>
              <a:ext cx="2436480" cy="411480"/>
              <a:chOff x="6726240" y="5787720"/>
              <a:chExt cx="2436480" cy="411480"/>
            </a:xfrm>
          </p:grpSpPr>
          <p:sp>
            <p:nvSpPr>
              <p:cNvPr id="691" name=""/>
              <p:cNvSpPr/>
              <p:nvPr/>
            </p:nvSpPr>
            <p:spPr>
              <a:xfrm>
                <a:off x="6726240" y="5787720"/>
                <a:ext cx="24364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2288"/>
                    </a:solidFill>
                    <a:latin typeface="Courier New"/>
                    <a:ea typeface="宋体"/>
                  </a:rPr>
                  <a:t>0.8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26240" y="5787720"/>
                <a:ext cx="2436480" cy="41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rcRect l="6529" t="0" r="0" b="16294"/>
          <a:stretch/>
        </p:blipFill>
        <p:spPr>
          <a:xfrm>
            <a:off x="385920" y="2089080"/>
            <a:ext cx="3349440" cy="30546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her Correlation Analys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1160" y="1453680"/>
            <a:ext cx="43182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Equipment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6324480" y="399420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0"/>
                </a:lnTo>
                <a:cubicBezTo>
                  <a:pt x="10800" y="10400"/>
                  <a:pt x="5400" y="11300"/>
                  <a:pt x="0" y="11300"/>
                </a:cubicBezTo>
                <a:cubicBezTo>
                  <a:pt x="5400" y="11300"/>
                  <a:pt x="10800" y="12200"/>
                  <a:pt x="10800" y="131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156280" y="2076480"/>
            <a:ext cx="3225240" cy="3358080"/>
            <a:chOff x="5156280" y="2076480"/>
            <a:chExt cx="3225240" cy="3358080"/>
          </a:xfrm>
        </p:grpSpPr>
        <p:pic>
          <p:nvPicPr>
            <p:cNvPr id="698" name="" descr=""/>
            <p:cNvPicPr/>
            <p:nvPr/>
          </p:nvPicPr>
          <p:blipFill>
            <a:blip r:embed="rId2"/>
            <a:srcRect l="6502" t="0" r="0" b="0"/>
            <a:stretch/>
          </p:blipFill>
          <p:spPr>
            <a:xfrm>
              <a:off x="5156280" y="2076480"/>
              <a:ext cx="3225240" cy="32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5857200" y="5127480"/>
              <a:ext cx="757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72080" y="4806360"/>
              <a:ext cx="420840" cy="2408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19360" y="5127480"/>
              <a:ext cx="1009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2558160"/>
              <a:ext cx="0" cy="2167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4876920" y="1530360"/>
            <a:ext cx="3962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Queu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534520" y="6311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8680" y="763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esting Plot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rcRect l="0" t="18502" r="-1911" b="19136"/>
          <a:stretch/>
        </p:blipFill>
        <p:spPr>
          <a:xfrm>
            <a:off x="190440" y="1689120"/>
            <a:ext cx="4051440" cy="219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7" name="" descr=""/>
          <p:cNvPicPr/>
          <p:nvPr/>
        </p:nvPicPr>
        <p:blipFill>
          <a:blip r:embed="rId2"/>
          <a:srcRect l="0" t="19451" r="0" b="14631"/>
          <a:stretch/>
        </p:blipFill>
        <p:spPr>
          <a:xfrm>
            <a:off x="190440" y="4022640"/>
            <a:ext cx="4051440" cy="216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8" name="" descr=""/>
          <p:cNvPicPr/>
          <p:nvPr/>
        </p:nvPicPr>
        <p:blipFill>
          <a:blip r:embed="rId3"/>
          <a:srcRect l="0" t="7797" r="0" b="0"/>
          <a:stretch/>
        </p:blipFill>
        <p:spPr>
          <a:xfrm>
            <a:off x="4437000" y="2257560"/>
            <a:ext cx="441504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9" name=""/>
          <p:cNvSpPr/>
          <p:nvPr/>
        </p:nvSpPr>
        <p:spPr>
          <a:xfrm>
            <a:off x="3075480" y="109368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Histogram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863720" y="1233360"/>
            <a:ext cx="5619600" cy="516744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828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esting Plot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52156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7560" y="2376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Wafer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rcRect l="6066" t="13982" r="6504" b="9934"/>
          <a:stretch/>
        </p:blipFill>
        <p:spPr>
          <a:xfrm>
            <a:off x="3898800" y="2971800"/>
            <a:ext cx="2311560" cy="200664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mooth Spline U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63760" y="44956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宋体"/>
              </a:rPr>
              <a:t>Spl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rcRect l="4458" t="12119" r="0" b="9092"/>
          <a:stretch/>
        </p:blipFill>
        <p:spPr>
          <a:xfrm>
            <a:off x="6438960" y="939960"/>
            <a:ext cx="2247840" cy="198108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rcRect l="8863" t="13275" r="5441" b="8671"/>
          <a:stretch/>
        </p:blipFill>
        <p:spPr>
          <a:xfrm>
            <a:off x="660240" y="4432320"/>
            <a:ext cx="2210040" cy="193032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 rot="3109200">
            <a:off x="3110400" y="3734280"/>
            <a:ext cx="395280" cy="1257120"/>
          </a:xfrm>
          <a:prstGeom prst="downArrow">
            <a:avLst>
              <a:gd name="adj1" fmla="val 50000"/>
              <a:gd name="adj2" fmla="val 7950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78360" y="266688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宋体"/>
              </a:rPr>
              <a:t>Reduc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3109200">
            <a:off x="5700960" y="1931040"/>
            <a:ext cx="395280" cy="1257480"/>
          </a:xfrm>
          <a:prstGeom prst="downArrow">
            <a:avLst>
              <a:gd name="adj1" fmla="val 50000"/>
              <a:gd name="adj2" fmla="val 7953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5960" y="1425600"/>
            <a:ext cx="61340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Split control limi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ooth spline simulates the data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ucing no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WMA Control Char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rcRect l="4958" t="10683" r="0" b="20031"/>
          <a:stretch/>
        </p:blipFill>
        <p:spPr>
          <a:xfrm>
            <a:off x="2006640" y="2470320"/>
            <a:ext cx="4444920" cy="3187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66760" y="1149120"/>
            <a:ext cx="87883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宋体"/>
              </a:rPr>
              <a:t>The Purpose of EWMA Control Chart: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tect data trend shift 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uce SPC X-bar chart's excursion false alarm rate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08960" y="629928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luster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2280" y="952560"/>
            <a:ext cx="2514600" cy="4574520"/>
            <a:chOff x="152280" y="952560"/>
            <a:chExt cx="2514600" cy="4574520"/>
          </a:xfrm>
        </p:grpSpPr>
        <p:grpSp>
          <p:nvGrpSpPr>
            <p:cNvPr id="729" name=""/>
            <p:cNvGrpSpPr/>
            <p:nvPr/>
          </p:nvGrpSpPr>
          <p:grpSpPr>
            <a:xfrm>
              <a:off x="380880" y="1066680"/>
              <a:ext cx="1638360" cy="1719360"/>
              <a:chOff x="380880" y="1066680"/>
              <a:chExt cx="1638360" cy="1719360"/>
            </a:xfrm>
          </p:grpSpPr>
          <p:pic>
            <p:nvPicPr>
              <p:cNvPr id="730" name="" descr=""/>
              <p:cNvPicPr/>
              <p:nvPr/>
            </p:nvPicPr>
            <p:blipFill>
              <a:blip r:embed="rId1"/>
              <a:srcRect l="4674" t="10642" r="40439" b="9536"/>
              <a:stretch/>
            </p:blipFill>
            <p:spPr>
              <a:xfrm>
                <a:off x="380880" y="1066680"/>
                <a:ext cx="1638360" cy="17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1" name=""/>
              <p:cNvSpPr/>
              <p:nvPr/>
            </p:nvSpPr>
            <p:spPr>
              <a:xfrm>
                <a:off x="380880" y="1298160"/>
                <a:ext cx="422640" cy="115812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380880" y="3314880"/>
              <a:ext cx="1757520" cy="1676160"/>
              <a:chOff x="380880" y="3314880"/>
              <a:chExt cx="1757520" cy="1676160"/>
            </a:xfrm>
          </p:grpSpPr>
          <p:pic>
            <p:nvPicPr>
              <p:cNvPr id="733" name="" descr=""/>
              <p:cNvPicPr/>
              <p:nvPr/>
            </p:nvPicPr>
            <p:blipFill>
              <a:blip r:embed="rId2"/>
              <a:srcRect l="4397" t="10642" r="40661" b="9536"/>
              <a:stretch/>
            </p:blipFill>
            <p:spPr>
              <a:xfrm>
                <a:off x="380880" y="3314880"/>
                <a:ext cx="1757520" cy="16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"/>
              <p:cNvSpPr/>
              <p:nvPr/>
            </p:nvSpPr>
            <p:spPr>
              <a:xfrm>
                <a:off x="1061280" y="4017600"/>
                <a:ext cx="340200" cy="54036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4200" y="4125600"/>
                <a:ext cx="340200" cy="27000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590400" y="5067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lock iss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0440" y="278136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rious edge iss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2280" y="952560"/>
              <a:ext cx="2438640" cy="4533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>
            <a:hlinkClick r:id="rId3" action="ppaction://hlinksldjump"/>
          </p:cNvPr>
          <p:cNvSpPr/>
          <p:nvPr/>
        </p:nvSpPr>
        <p:spPr>
          <a:xfrm>
            <a:off x="6705720" y="3886200"/>
            <a:ext cx="241920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Used “neural network like”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086280" y="933480"/>
            <a:ext cx="3409920" cy="3238560"/>
            <a:chOff x="3086280" y="933480"/>
            <a:chExt cx="3409920" cy="3238560"/>
          </a:xfrm>
        </p:grpSpPr>
        <p:sp>
          <p:nvSpPr>
            <p:cNvPr id="741" name=""/>
            <p:cNvSpPr/>
            <p:nvPr/>
          </p:nvSpPr>
          <p:spPr>
            <a:xfrm>
              <a:off x="3219840" y="2876760"/>
              <a:ext cx="300960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eriodic fail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2" name=""/>
            <p:cNvCxnSpPr>
              <a:stCxn id="741" idx="2"/>
              <a:endCxn id="743" idx="0"/>
            </p:cNvCxnSpPr>
            <p:nvPr/>
          </p:nvCxnSpPr>
          <p:spPr>
            <a:xfrm>
              <a:off x="4724280" y="3343320"/>
              <a:ext cx="1080" cy="224640"/>
            </a:xfrm>
            <a:prstGeom prst="straightConnector1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44" name=""/>
            <p:cNvSpPr/>
            <p:nvPr/>
          </p:nvSpPr>
          <p:spPr>
            <a:xfrm>
              <a:off x="3200760" y="1063800"/>
              <a:ext cx="3066840" cy="825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Composite wafers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19840" y="2165400"/>
              <a:ext cx="302868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uster fail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4" idx="2"/>
              <a:endCxn id="745" idx="0"/>
            </p:cNvCxnSpPr>
            <p:nvPr/>
          </p:nvCxnSpPr>
          <p:spPr>
            <a:xfrm>
              <a:off x="4733640" y="1895400"/>
              <a:ext cx="1080" cy="270360"/>
            </a:xfrm>
            <a:prstGeom prst="straightConnector1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45" idx="2"/>
              <a:endCxn id="741" idx="0"/>
            </p:cNvCxnSpPr>
            <p:nvPr/>
          </p:nvCxnSpPr>
          <p:spPr>
            <a:xfrm flipH="1">
              <a:off x="4724280" y="2631960"/>
              <a:ext cx="10080" cy="244800"/>
            </a:xfrm>
            <a:prstGeom prst="straightConnector1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43" name=""/>
            <p:cNvSpPr/>
            <p:nvPr/>
          </p:nvSpPr>
          <p:spPr>
            <a:xfrm>
              <a:off x="3200760" y="3567240"/>
              <a:ext cx="304776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inuous fail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>
              <a:hlinkClick r:id="rId4" action="ppaction://hlinksldjump"/>
            </p:cNvPr>
            <p:cNvSpPr/>
            <p:nvPr/>
          </p:nvSpPr>
          <p:spPr>
            <a:xfrm>
              <a:off x="3086280" y="933480"/>
              <a:ext cx="3409920" cy="323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666880" y="2114640"/>
            <a:ext cx="32400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571440" y="2666880"/>
            <a:ext cx="304920" cy="838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86160" y="4248000"/>
            <a:ext cx="1009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934320" y="1447920"/>
            <a:ext cx="2209680" cy="2286000"/>
            <a:chOff x="6934320" y="1447920"/>
            <a:chExt cx="2209680" cy="2286000"/>
          </a:xfrm>
        </p:grpSpPr>
        <p:grpSp>
          <p:nvGrpSpPr>
            <p:cNvPr id="753" name=""/>
            <p:cNvGrpSpPr/>
            <p:nvPr/>
          </p:nvGrpSpPr>
          <p:grpSpPr>
            <a:xfrm>
              <a:off x="6953040" y="1542960"/>
              <a:ext cx="1869840" cy="1736280"/>
              <a:chOff x="6953040" y="1542960"/>
              <a:chExt cx="1869840" cy="1736280"/>
            </a:xfrm>
          </p:grpSpPr>
          <p:pic>
            <p:nvPicPr>
              <p:cNvPr id="754" name="" descr=""/>
              <p:cNvPicPr/>
              <p:nvPr/>
            </p:nvPicPr>
            <p:blipFill>
              <a:blip r:embed="rId5"/>
              <a:srcRect l="0" t="10977" r="40260" b="9201"/>
              <a:stretch/>
            </p:blipFill>
            <p:spPr>
              <a:xfrm>
                <a:off x="6953040" y="1636560"/>
                <a:ext cx="1869840" cy="164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>
                <a:off x="7292880" y="1542960"/>
                <a:ext cx="1359720" cy="1356840"/>
              </a:xfrm>
              <a:prstGeom prst="ellipse">
                <a:avLst/>
              </a:prstGeom>
              <a:noFill/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6934320" y="32004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eriodic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34320" y="1447920"/>
              <a:ext cx="2114280" cy="22860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714840" y="4495680"/>
            <a:ext cx="2338200" cy="1986840"/>
            <a:chOff x="3714840" y="4495680"/>
            <a:chExt cx="2338200" cy="1986840"/>
          </a:xfrm>
        </p:grpSpPr>
        <p:grpSp>
          <p:nvGrpSpPr>
            <p:cNvPr id="759" name=""/>
            <p:cNvGrpSpPr/>
            <p:nvPr/>
          </p:nvGrpSpPr>
          <p:grpSpPr>
            <a:xfrm>
              <a:off x="3809880" y="4572000"/>
              <a:ext cx="1729080" cy="1614600"/>
              <a:chOff x="3809880" y="4572000"/>
              <a:chExt cx="1729080" cy="1614600"/>
            </a:xfrm>
          </p:grpSpPr>
          <p:pic>
            <p:nvPicPr>
              <p:cNvPr id="760" name="" descr=""/>
              <p:cNvPicPr/>
              <p:nvPr/>
            </p:nvPicPr>
            <p:blipFill>
              <a:blip r:embed="rId6"/>
              <a:srcRect l="0" t="10977" r="40260" b="9201"/>
              <a:stretch/>
            </p:blipFill>
            <p:spPr>
              <a:xfrm>
                <a:off x="3809880" y="4572000"/>
                <a:ext cx="1729080" cy="16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"/>
              <p:cNvSpPr/>
              <p:nvPr/>
            </p:nvSpPr>
            <p:spPr>
              <a:xfrm>
                <a:off x="4220640" y="4572000"/>
                <a:ext cx="407880" cy="1172880"/>
              </a:xfrm>
              <a:prstGeom prst="ellipse">
                <a:avLst/>
              </a:prstGeom>
              <a:noFill/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3790800" y="602280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inuous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14840" y="4495680"/>
              <a:ext cx="2095560" cy="19242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llustrations for Single Wafer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181320" y="1181160"/>
            <a:ext cx="3124080" cy="4991040"/>
            <a:chOff x="3181320" y="1181160"/>
            <a:chExt cx="3124080" cy="4991040"/>
          </a:xfrm>
        </p:grpSpPr>
        <p:sp>
          <p:nvSpPr>
            <p:cNvPr id="766" name=""/>
            <p:cNvSpPr/>
            <p:nvPr/>
          </p:nvSpPr>
          <p:spPr>
            <a:xfrm>
              <a:off x="3409560" y="3155760"/>
              <a:ext cx="266688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Continuou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9560" y="2395440"/>
              <a:ext cx="266688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Zone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8" name=""/>
            <p:cNvCxnSpPr>
              <a:stCxn id="767" idx="2"/>
              <a:endCxn id="766" idx="0"/>
            </p:cNvCxnSpPr>
            <p:nvPr/>
          </p:nvCxnSpPr>
          <p:spPr>
            <a:xfrm>
              <a:off x="4743000" y="2862000"/>
              <a:ext cx="1080" cy="294120"/>
            </a:xfrm>
            <a:prstGeom prst="straightConnector1">
              <a:avLst/>
            </a:prstGeom>
            <a:ln w="15840">
              <a:solidFill>
                <a:srgbClr val="993366"/>
              </a:solidFill>
              <a:miter/>
              <a:tailEnd len="med" type="triangle" w="med"/>
            </a:ln>
          </p:spPr>
        </p:cxnSp>
        <p:cxnSp>
          <p:nvCxnSpPr>
            <p:cNvPr id="769" name=""/>
            <p:cNvCxnSpPr>
              <a:stCxn id="766" idx="2"/>
              <a:endCxn id="770" idx="0"/>
            </p:cNvCxnSpPr>
            <p:nvPr/>
          </p:nvCxnSpPr>
          <p:spPr>
            <a:xfrm>
              <a:off x="4743000" y="3622680"/>
              <a:ext cx="1080" cy="340200"/>
            </a:xfrm>
            <a:prstGeom prst="straightConnector1">
              <a:avLst/>
            </a:prstGeom>
            <a:ln w="2232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71" name=""/>
            <p:cNvSpPr/>
            <p:nvPr/>
          </p:nvSpPr>
          <p:spPr>
            <a:xfrm>
              <a:off x="3409560" y="1303200"/>
              <a:ext cx="2666880" cy="8254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Single wafer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71" idx="2"/>
              <a:endCxn id="767" idx="0"/>
            </p:cNvCxnSpPr>
            <p:nvPr/>
          </p:nvCxnSpPr>
          <p:spPr>
            <a:xfrm>
              <a:off x="4743000" y="2134800"/>
              <a:ext cx="1080" cy="261000"/>
            </a:xfrm>
            <a:prstGeom prst="straightConnector1">
              <a:avLst/>
            </a:prstGeom>
            <a:ln w="1584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70" name=""/>
            <p:cNvSpPr/>
            <p:nvPr/>
          </p:nvSpPr>
          <p:spPr>
            <a:xfrm>
              <a:off x="3409560" y="3962520"/>
              <a:ext cx="2666880" cy="8254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Clus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ingle &amp; multi 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09560" y="5135400"/>
              <a:ext cx="2666880" cy="8254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ticle/DUT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4" name=""/>
            <p:cNvCxnSpPr>
              <a:stCxn id="770" idx="2"/>
              <a:endCxn id="773" idx="0"/>
            </p:cNvCxnSpPr>
            <p:nvPr/>
          </p:nvCxnSpPr>
          <p:spPr>
            <a:xfrm>
              <a:off x="4743000" y="4794120"/>
              <a:ext cx="1080" cy="342000"/>
            </a:xfrm>
            <a:prstGeom prst="straightConnector1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</p:cxnSp>
        <p:sp>
          <p:nvSpPr>
            <p:cNvPr id="775" name=""/>
            <p:cNvSpPr/>
            <p:nvPr/>
          </p:nvSpPr>
          <p:spPr>
            <a:xfrm>
              <a:off x="3181320" y="1181160"/>
              <a:ext cx="3124080" cy="49910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57200" y="952560"/>
            <a:ext cx="2305080" cy="2193120"/>
            <a:chOff x="457200" y="952560"/>
            <a:chExt cx="2305080" cy="2193120"/>
          </a:xfrm>
        </p:grpSpPr>
        <p:sp>
          <p:nvSpPr>
            <p:cNvPr id="777" name=""/>
            <p:cNvSpPr/>
            <p:nvPr/>
          </p:nvSpPr>
          <p:spPr>
            <a:xfrm>
              <a:off x="552600" y="26859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Zone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8" name="" descr=""/>
            <p:cNvPicPr/>
            <p:nvPr/>
          </p:nvPicPr>
          <p:blipFill>
            <a:blip r:embed="rId1"/>
            <a:srcRect l="20503" t="18507" r="11610" b="22959"/>
            <a:stretch/>
          </p:blipFill>
          <p:spPr>
            <a:xfrm>
              <a:off x="800280" y="1104840"/>
              <a:ext cx="16808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457200" y="952560"/>
              <a:ext cx="2190600" cy="2171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858000" y="2000160"/>
            <a:ext cx="2281320" cy="2177640"/>
            <a:chOff x="6858000" y="2000160"/>
            <a:chExt cx="2281320" cy="2177640"/>
          </a:xfrm>
        </p:grpSpPr>
        <p:sp>
          <p:nvSpPr>
            <p:cNvPr id="781" name=""/>
            <p:cNvSpPr/>
            <p:nvPr/>
          </p:nvSpPr>
          <p:spPr>
            <a:xfrm>
              <a:off x="6877080" y="371808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inuous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2" name="" descr=""/>
            <p:cNvPicPr/>
            <p:nvPr/>
          </p:nvPicPr>
          <p:blipFill>
            <a:blip r:embed="rId2"/>
            <a:srcRect l="4831" t="14555" r="40346" b="5824"/>
            <a:stretch/>
          </p:blipFill>
          <p:spPr>
            <a:xfrm>
              <a:off x="6986520" y="2071800"/>
              <a:ext cx="17956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6858000" y="2000160"/>
              <a:ext cx="2133720" cy="2171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19040" y="3638520"/>
            <a:ext cx="2262240" cy="2215440"/>
            <a:chOff x="419040" y="3638520"/>
            <a:chExt cx="2262240" cy="2215440"/>
          </a:xfrm>
        </p:grpSpPr>
        <p:sp>
          <p:nvSpPr>
            <p:cNvPr id="785" name=""/>
            <p:cNvSpPr/>
            <p:nvPr/>
          </p:nvSpPr>
          <p:spPr>
            <a:xfrm>
              <a:off x="419040" y="539424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luster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3"/>
            <a:srcRect l="4831" t="15388" r="40061" b="5824"/>
            <a:stretch/>
          </p:blipFill>
          <p:spPr>
            <a:xfrm>
              <a:off x="647640" y="3703680"/>
              <a:ext cx="180972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476280" y="3638520"/>
              <a:ext cx="2190600" cy="2171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762280" y="2266920"/>
            <a:ext cx="26676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781360" y="4019400"/>
            <a:ext cx="266760" cy="838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6438960" y="2990880"/>
            <a:ext cx="2476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862680" y="4305240"/>
            <a:ext cx="2281320" cy="2177280"/>
            <a:chOff x="6862680" y="4305240"/>
            <a:chExt cx="2281320" cy="2177280"/>
          </a:xfrm>
        </p:grpSpPr>
        <p:pic>
          <p:nvPicPr>
            <p:cNvPr id="792" name="" descr=""/>
            <p:cNvPicPr/>
            <p:nvPr/>
          </p:nvPicPr>
          <p:blipFill>
            <a:blip r:embed="rId4"/>
            <a:srcRect l="0" t="14139" r="38977" b="6240"/>
            <a:stretch/>
          </p:blipFill>
          <p:spPr>
            <a:xfrm>
              <a:off x="7020000" y="4361040"/>
              <a:ext cx="180972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881760" y="6022800"/>
              <a:ext cx="22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ticle fai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62680" y="4305240"/>
              <a:ext cx="2133720" cy="2171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 flipH="1">
            <a:off x="6419880" y="5162400"/>
            <a:ext cx="247680" cy="838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8c0cb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cedure Interface / Data Prepara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6000" y="1130400"/>
            <a:ext cx="87627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Procedure Interface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Python ( Perl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/ VB / Delphi / mySQL linking with R. ( Studyin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Data Conver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on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hap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rg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d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y, as.POSIXct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ch the format of SMIC data analysis system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Data Clea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pe off the influential point , missing data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even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“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Garbage In , Garbage ou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8838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6993" y="3794"/>
                </a:lnTo>
                <a:lnTo>
                  <a:pt x="6993" y="17806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9000" y="2185920"/>
            <a:ext cx="537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R Usage at S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grated Circuit (IC) Manufactu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8840" y="930240"/>
            <a:ext cx="8376480" cy="1531440"/>
            <a:chOff x="258840" y="930240"/>
            <a:chExt cx="8376480" cy="1531440"/>
          </a:xfrm>
        </p:grpSpPr>
        <p:grpSp>
          <p:nvGrpSpPr>
            <p:cNvPr id="91" name=""/>
            <p:cNvGrpSpPr/>
            <p:nvPr/>
          </p:nvGrpSpPr>
          <p:grpSpPr>
            <a:xfrm>
              <a:off x="258840" y="1135800"/>
              <a:ext cx="8376480" cy="1325880"/>
              <a:chOff x="258840" y="1135800"/>
              <a:chExt cx="8376480" cy="1325880"/>
            </a:xfrm>
          </p:grpSpPr>
          <p:sp>
            <p:nvSpPr>
              <p:cNvPr id="92" name=""/>
              <p:cNvSpPr/>
              <p:nvPr/>
            </p:nvSpPr>
            <p:spPr>
              <a:xfrm>
                <a:off x="4156560" y="2185200"/>
                <a:ext cx="7736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CD S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96520" y="2183760"/>
                <a:ext cx="7430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Overl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99920" y="2183760"/>
                <a:ext cx="630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Macr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61680" y="2183760"/>
                <a:ext cx="7736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CD S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62840" y="2183760"/>
                <a:ext cx="5799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Fil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38080" y="2183760"/>
                <a:ext cx="12855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Stepper / Tr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80400" y="2166120"/>
                <a:ext cx="5115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  <a:ea typeface="宋体"/>
                  </a:rPr>
                  <a:t>E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7400" y="1728720"/>
                <a:ext cx="541440" cy="4161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0" name=""/>
              <p:cNvGraphicFramePr/>
              <p:nvPr/>
            </p:nvGraphicFramePr>
            <p:xfrm>
              <a:off x="2853360" y="1536840"/>
              <a:ext cx="826200" cy="637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853360" y="1536840"/>
                        <a:ext cx="826200" cy="63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2" name=""/>
              <p:cNvGraphicFramePr/>
              <p:nvPr/>
            </p:nvGraphicFramePr>
            <p:xfrm>
              <a:off x="5919120" y="1488960"/>
              <a:ext cx="878040" cy="658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919120" y="1488960"/>
                        <a:ext cx="878040" cy="65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4" name=""/>
              <p:cNvGraphicFramePr/>
              <p:nvPr/>
            </p:nvGraphicFramePr>
            <p:xfrm>
              <a:off x="4873320" y="1504800"/>
              <a:ext cx="980640" cy="6858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873320" y="1504800"/>
                        <a:ext cx="980640" cy="68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7951320" y="1563840"/>
              <a:ext cx="515880" cy="5857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951320" y="1563840"/>
                        <a:ext cx="515880" cy="58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8" name=""/>
              <p:cNvGraphicFramePr/>
              <p:nvPr/>
            </p:nvGraphicFramePr>
            <p:xfrm>
              <a:off x="6915600" y="1424160"/>
              <a:ext cx="541440" cy="7124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915600" y="1424160"/>
                        <a:ext cx="541440" cy="71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4252320" y="1541520"/>
              <a:ext cx="516240" cy="5857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252320" y="1541520"/>
                        <a:ext cx="516240" cy="58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6816960" y="1262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Etc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3" name=""/>
              <p:cNvGraphicFramePr/>
              <p:nvPr/>
            </p:nvGraphicFramePr>
            <p:xfrm>
              <a:off x="711360" y="1501920"/>
              <a:ext cx="541800" cy="7128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711360" y="1501920"/>
                        <a:ext cx="541800" cy="7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679560" y="1728720"/>
                <a:ext cx="54180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" name=""/>
              <p:cNvGrpSpPr/>
              <p:nvPr/>
            </p:nvGrpSpPr>
            <p:grpSpPr>
              <a:xfrm>
                <a:off x="1785240" y="1657080"/>
                <a:ext cx="506880" cy="522720"/>
                <a:chOff x="1785240" y="1657080"/>
                <a:chExt cx="506880" cy="52272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1808280" y="2149560"/>
                  <a:ext cx="43452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2032920" y="1658880"/>
                  <a:ext cx="11520" cy="23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2044080" y="1936800"/>
                  <a:ext cx="17640" cy="211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1788840" y="1658880"/>
                  <a:ext cx="239760" cy="2383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063880" y="1938600"/>
                  <a:ext cx="200520" cy="2095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1787400" y="1938600"/>
                  <a:ext cx="257040" cy="2095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1828080" y="21672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32"/>
                      </a:moveTo>
                      <a:lnTo>
                        <a:pt x="3" y="32"/>
                      </a:lnTo>
                      <a:lnTo>
                        <a:pt x="7" y="31"/>
                      </a:lnTo>
                      <a:lnTo>
                        <a:pt x="11" y="29"/>
                      </a:lnTo>
                      <a:lnTo>
                        <a:pt x="15" y="27"/>
                      </a:lnTo>
                      <a:lnTo>
                        <a:pt x="19" y="22"/>
                      </a:lnTo>
                      <a:lnTo>
                        <a:pt x="21" y="18"/>
                      </a:lnTo>
                      <a:lnTo>
                        <a:pt x="25" y="13"/>
                      </a:lnTo>
                      <a:lnTo>
                        <a:pt x="27" y="7"/>
                      </a:lnTo>
                      <a:lnTo>
                        <a:pt x="28" y="1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2215800" y="21672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7" h="32">
                      <a:moveTo>
                        <a:pt x="27" y="32"/>
                      </a:moveTo>
                      <a:lnTo>
                        <a:pt x="24" y="32"/>
                      </a:lnTo>
                      <a:lnTo>
                        <a:pt x="21" y="31"/>
                      </a:lnTo>
                      <a:lnTo>
                        <a:pt x="16" y="29"/>
                      </a:lnTo>
                      <a:lnTo>
                        <a:pt x="13" y="27"/>
                      </a:lnTo>
                      <a:lnTo>
                        <a:pt x="9" y="22"/>
                      </a:lnTo>
                      <a:lnTo>
                        <a:pt x="6" y="18"/>
                      </a:lnTo>
                      <a:lnTo>
                        <a:pt x="4" y="13"/>
                      </a:lnTo>
                      <a:lnTo>
                        <a:pt x="1" y="7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2195640" y="216396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29" h="43">
                      <a:moveTo>
                        <a:pt x="29" y="43"/>
                      </a:moveTo>
                      <a:lnTo>
                        <a:pt x="25" y="43"/>
                      </a:lnTo>
                      <a:lnTo>
                        <a:pt x="22" y="42"/>
                      </a:lnTo>
                      <a:lnTo>
                        <a:pt x="17" y="40"/>
                      </a:lnTo>
                      <a:lnTo>
                        <a:pt x="14" y="38"/>
                      </a:lnTo>
                      <a:lnTo>
                        <a:pt x="10" y="33"/>
                      </a:lnTo>
                      <a:lnTo>
                        <a:pt x="7" y="29"/>
                      </a:lnTo>
                      <a:lnTo>
                        <a:pt x="4" y="24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2186640" y="2167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2184120" y="216720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2176200" y="216396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29" h="43">
                      <a:moveTo>
                        <a:pt x="0" y="43"/>
                      </a:moveTo>
                      <a:lnTo>
                        <a:pt x="2" y="43"/>
                      </a:lnTo>
                      <a:lnTo>
                        <a:pt x="7" y="42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9" y="33"/>
                      </a:lnTo>
                      <a:lnTo>
                        <a:pt x="21" y="29"/>
                      </a:lnTo>
                      <a:lnTo>
                        <a:pt x="24" y="24"/>
                      </a:lnTo>
                      <a:lnTo>
                        <a:pt x="26" y="18"/>
                      </a:lnTo>
                      <a:lnTo>
                        <a:pt x="28" y="12"/>
                      </a:lnTo>
                      <a:lnTo>
                        <a:pt x="28" y="6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1831680" y="2163960"/>
                  <a:ext cx="3960" cy="32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8" y="3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2182320" y="2163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5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2196360" y="2163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11"/>
                      </a:move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2196360" y="2163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186280" y="2173320"/>
                  <a:ext cx="5760" cy="18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6" y="5"/>
                      </a:lnTo>
                      <a:lnTo>
                        <a:pt x="9" y="7"/>
                      </a:lnTo>
                      <a:lnTo>
                        <a:pt x="14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2217600" y="2175120"/>
                  <a:ext cx="61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2217600" y="2178000"/>
                  <a:ext cx="19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1814400" y="2178000"/>
                  <a:ext cx="19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1836360" y="2175120"/>
                  <a:ext cx="19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2223720" y="217512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1820520" y="217512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20880" y="217332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24080" y="217332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20880" y="217188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24080" y="217188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2223720" y="216720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1820520" y="216720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9456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2184120" y="216720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183456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18664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836360" y="216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2223720" y="216540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1820520" y="2165400"/>
                  <a:ext cx="75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09000" y="2163960"/>
                  <a:ext cx="434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41000" y="215748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1806840" y="21574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241000" y="215280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806840" y="21528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1787400" y="2149560"/>
                  <a:ext cx="477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2184120" y="216540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2274480" y="190188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5" y="0"/>
                      </a:moveTo>
                      <a:lnTo>
                        <a:pt x="4" y="4"/>
                      </a:lnTo>
                      <a:lnTo>
                        <a:pt x="1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2231280" y="190188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5" y="0"/>
                      </a:moveTo>
                      <a:lnTo>
                        <a:pt x="2" y="4"/>
                      </a:lnTo>
                      <a:lnTo>
                        <a:pt x="1" y="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2231280" y="190512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8" y="0"/>
                      </a:move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2290680" y="1909800"/>
                  <a:ext cx="144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2278440" y="1905120"/>
                  <a:ext cx="21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2277000" y="190656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2263320" y="1932120"/>
                  <a:ext cx="1440" cy="21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2253240" y="193176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2241000" y="2152440"/>
                  <a:ext cx="21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2241000" y="2149560"/>
                  <a:ext cx="216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2221560" y="216396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2235240" y="217800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231280" y="1906560"/>
                  <a:ext cx="2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229840" y="2171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2229840" y="21650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2229840" y="190152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2229840" y="21733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227320" y="216396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227320" y="2167200"/>
                  <a:ext cx="21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2225880" y="2171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2225880" y="21650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2225880" y="190512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224080" y="21639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224080" y="216720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2221560" y="217332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2221560" y="21718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2221560" y="216504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2220120" y="1901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2217600" y="190152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2215800" y="1901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2215800" y="217800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2214000" y="1901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>
                  <a:off x="2211480" y="1901520"/>
                  <a:ext cx="2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1814400" y="2175120"/>
                  <a:ext cx="61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220428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220428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219780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219780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219636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flipV="1">
                  <a:off x="219456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2190600" y="1905120"/>
                  <a:ext cx="144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218232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2180880" y="190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217836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2178360" y="1892160"/>
                  <a:ext cx="2160" cy="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2178360" y="1903680"/>
                  <a:ext cx="2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2178360" y="1901520"/>
                  <a:ext cx="2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>
                  <a:off x="2174040" y="1901520"/>
                  <a:ext cx="2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2172600" y="190152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2172600" y="1901520"/>
                  <a:ext cx="1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1785240" y="1657080"/>
                  <a:ext cx="506880" cy="522720"/>
                  <a:chOff x="1785240" y="1657080"/>
                  <a:chExt cx="506880" cy="5227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flipV="1">
                    <a:off x="2172600" y="1931760"/>
                    <a:ext cx="1440" cy="4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2170800" y="1931760"/>
                    <a:ext cx="1440" cy="4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785240" y="1657080"/>
                    <a:ext cx="506880" cy="522720"/>
                    <a:chOff x="1785240" y="1657080"/>
                    <a:chExt cx="506880" cy="52272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2185920" y="2163960"/>
                      <a:ext cx="97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43">
                          <a:moveTo>
                            <a:pt x="29" y="0"/>
                          </a:moveTo>
                          <a:lnTo>
                            <a:pt x="29" y="5"/>
                          </a:lnTo>
                          <a:lnTo>
                            <a:pt x="28" y="11"/>
                          </a:lnTo>
                          <a:lnTo>
                            <a:pt x="26" y="18"/>
                          </a:lnTo>
                          <a:lnTo>
                            <a:pt x="24" y="23"/>
                          </a:lnTo>
                          <a:lnTo>
                            <a:pt x="21" y="28"/>
                          </a:lnTo>
                          <a:lnTo>
                            <a:pt x="18" y="32"/>
                          </a:lnTo>
                          <a:lnTo>
                            <a:pt x="15" y="36"/>
                          </a:lnTo>
                          <a:lnTo>
                            <a:pt x="10" y="40"/>
                          </a:lnTo>
                          <a:lnTo>
                            <a:pt x="7" y="42"/>
                          </a:lnTo>
                          <a:lnTo>
                            <a:pt x="2" y="43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flipV="1">
                      <a:off x="217116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flipV="1">
                      <a:off x="21711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 flipV="1">
                      <a:off x="2168640" y="1901520"/>
                      <a:ext cx="216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flipV="1">
                      <a:off x="2168640" y="1901520"/>
                      <a:ext cx="216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flipV="1">
                      <a:off x="216288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 flipV="1">
                      <a:off x="216144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flipV="1">
                      <a:off x="216144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flipV="1">
                      <a:off x="215712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215712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>
                      <a:off x="215712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>
                      <a:off x="214344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flipV="1">
                      <a:off x="2143440" y="1901880"/>
                      <a:ext cx="1440" cy="792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flipV="1">
                      <a:off x="2143440" y="1901520"/>
                      <a:ext cx="144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>
                      <a:off x="2135160" y="1889280"/>
                      <a:ext cx="2160" cy="32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>
                      <a:off x="2129760" y="1905120"/>
                      <a:ext cx="1440" cy="468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>
                      <a:off x="2127960" y="1874880"/>
                      <a:ext cx="1440" cy="12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flipV="1">
                      <a:off x="2127960" y="188928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 flipV="1">
                      <a:off x="2127960" y="1900440"/>
                      <a:ext cx="1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2125440" y="1900440"/>
                      <a:ext cx="21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>
                      <a:off x="1837080" y="21672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>
                      <a:off x="1835280" y="21672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3" y="2"/>
                          </a:lnTo>
                          <a:lnTo>
                            <a:pt x="4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1785240" y="1657080"/>
                      <a:ext cx="506880" cy="522720"/>
                      <a:chOff x="1785240" y="1657080"/>
                      <a:chExt cx="506880" cy="52272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 flipH="1" flipV="1">
                        <a:off x="2125440" y="1931760"/>
                        <a:ext cx="2160" cy="468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 flipH="1" flipV="1">
                        <a:off x="2121480" y="1931760"/>
                        <a:ext cx="2160" cy="468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1785240" y="1657080"/>
                        <a:ext cx="506880" cy="522720"/>
                        <a:chOff x="1785240" y="1657080"/>
                        <a:chExt cx="506880" cy="522720"/>
                      </a:xfrm>
                    </p:grpSpPr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1">
                              <a:moveTo>
                                <a:pt x="0" y="1"/>
                              </a:moveTo>
                              <a:lnTo>
                                <a:pt x="0" y="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2098080" y="1901880"/>
                          <a:ext cx="216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" h="12">
                              <a:moveTo>
                                <a:pt x="0" y="0"/>
                              </a:moveTo>
                              <a:lnTo>
                                <a:pt x="1" y="4"/>
                              </a:lnTo>
                              <a:lnTo>
                                <a:pt x="2" y="8"/>
                              </a:lnTo>
                              <a:lnTo>
                                <a:pt x="2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2115720" y="1901880"/>
                          <a:ext cx="21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2">
                              <a:moveTo>
                                <a:pt x="1" y="2"/>
                              </a:moveTo>
                              <a:lnTo>
                                <a:pt x="1" y="2"/>
                              </a:lnTo>
                              <a:lnTo>
                                <a:pt x="1" y="0"/>
                              </a:lnTo>
                              <a:lnTo>
                                <a:pt x="1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2120040" y="1901880"/>
                          <a:ext cx="144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1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0" y="1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2120040" y="1901880"/>
                          <a:ext cx="144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2">
                              <a:moveTo>
                                <a:pt x="1" y="2"/>
                              </a:moveTo>
                              <a:lnTo>
                                <a:pt x="1" y="2"/>
                              </a:lnTo>
                              <a:lnTo>
                                <a:pt x="1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2120040" y="1889280"/>
                          <a:ext cx="144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2115720" y="190152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2115720" y="190008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211572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211428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H="1" flipV="1">
                          <a:off x="2111760" y="190008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H="1">
                          <a:off x="2111760" y="190044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H="1" flipV="1">
                          <a:off x="211176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H="1" flipV="1">
                          <a:off x="211176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 flipV="1">
                          <a:off x="2111760" y="1903680"/>
                          <a:ext cx="2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H="1" flipV="1">
                          <a:off x="21103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H="1" flipV="1">
                          <a:off x="21103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H="1" flipV="1">
                          <a:off x="21103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H="1" flipV="1">
                          <a:off x="21085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H="1" flipV="1">
                          <a:off x="2108520" y="190152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H="1" flipV="1">
                          <a:off x="2108520" y="1874520"/>
                          <a:ext cx="1440" cy="126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H="1" flipV="1">
                          <a:off x="2108520" y="190368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flipH="1" flipV="1">
                          <a:off x="2106000" y="189036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H="1" flipV="1">
                          <a:off x="2106000" y="189036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H="1" flipV="1">
                          <a:off x="2104560" y="189036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H="1">
                          <a:off x="2104560" y="1905120"/>
                          <a:ext cx="1440" cy="648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H="1" flipV="1">
                          <a:off x="2100600" y="190152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098080" y="190152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>
                          <a:off x="2096640" y="1906560"/>
                          <a:ext cx="1440" cy="50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092320" y="1890360"/>
                          <a:ext cx="2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1200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114280" y="1900440"/>
                          <a:ext cx="1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V="1">
                          <a:off x="1839240" y="2163600"/>
                          <a:ext cx="21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>
                          <a:off x="1837440" y="2163960"/>
                          <a:ext cx="39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21182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>
                          <a:off x="2120040" y="1901880"/>
                          <a:ext cx="14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5" name=""/>
                        <p:cNvGrpSpPr/>
                        <p:nvPr/>
                      </p:nvGrpSpPr>
                      <p:grpSpPr>
                        <a:xfrm>
                          <a:off x="1785240" y="1657080"/>
                          <a:ext cx="506880" cy="522720"/>
                          <a:chOff x="1785240" y="1657080"/>
                          <a:chExt cx="506880" cy="522720"/>
                        </a:xfrm>
                      </p:grpSpPr>
                      <p:sp>
                        <p:nvSpPr>
                          <p:cNvPr id="286" name=""/>
                          <p:cNvSpPr/>
                          <p:nvPr/>
                        </p:nvSpPr>
                        <p:spPr>
                          <a:xfrm flipH="1" flipV="1">
                            <a:off x="2088360" y="1931760"/>
                            <a:ext cx="216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7" name=""/>
                          <p:cNvSpPr/>
                          <p:nvPr/>
                        </p:nvSpPr>
                        <p:spPr>
                          <a:xfrm flipH="1" flipV="1">
                            <a:off x="2086920" y="193176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8" name=""/>
                          <p:cNvSpPr/>
                          <p:nvPr/>
                        </p:nvSpPr>
                        <p:spPr>
                          <a:xfrm flipH="1">
                            <a:off x="2118600" y="1901880"/>
                            <a:ext cx="144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3">
                                <a:moveTo>
                                  <a:pt x="1" y="0"/>
                                </a:moveTo>
                                <a:lnTo>
                                  <a:pt x="0" y="0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9" name=""/>
                          <p:cNvSpPr/>
                          <p:nvPr/>
                        </p:nvSpPr>
                        <p:spPr>
                          <a:xfrm flipH="1">
                            <a:off x="2043000" y="1905120"/>
                            <a:ext cx="39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">
                                <a:moveTo>
                                  <a:pt x="8" y="0"/>
                                </a:moveTo>
                                <a:lnTo>
                                  <a:pt x="7" y="2"/>
                                </a:lnTo>
                                <a:lnTo>
                                  <a:pt x="5" y="3"/>
                                </a:lnTo>
                                <a:lnTo>
                                  <a:pt x="4" y="5"/>
                                </a:lnTo>
                                <a:lnTo>
                                  <a:pt x="3" y="5"/>
                                </a:lnTo>
                                <a:lnTo>
                                  <a:pt x="1" y="6"/>
                                </a:lnTo>
                                <a:lnTo>
                                  <a:pt x="0" y="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 flipH="1">
                            <a:off x="2004120" y="1909800"/>
                            <a:ext cx="2797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62" h="26">
                                <a:moveTo>
                                  <a:pt x="0" y="0"/>
                                </a:moveTo>
                                <a:lnTo>
                                  <a:pt x="63" y="6"/>
                                </a:lnTo>
                                <a:lnTo>
                                  <a:pt x="129" y="12"/>
                                </a:lnTo>
                                <a:lnTo>
                                  <a:pt x="199" y="18"/>
                                </a:lnTo>
                                <a:lnTo>
                                  <a:pt x="272" y="21"/>
                                </a:lnTo>
                                <a:lnTo>
                                  <a:pt x="346" y="24"/>
                                </a:lnTo>
                                <a:lnTo>
                                  <a:pt x="423" y="26"/>
                                </a:lnTo>
                                <a:lnTo>
                                  <a:pt x="498" y="26"/>
                                </a:lnTo>
                                <a:lnTo>
                                  <a:pt x="575" y="25"/>
                                </a:lnTo>
                                <a:lnTo>
                                  <a:pt x="649" y="23"/>
                                </a:lnTo>
                                <a:lnTo>
                                  <a:pt x="724" y="20"/>
                                </a:lnTo>
                                <a:lnTo>
                                  <a:pt x="794" y="15"/>
                                </a:lnTo>
                                <a:lnTo>
                                  <a:pt x="862" y="9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1" name=""/>
                          <p:cNvSpPr/>
                          <p:nvPr/>
                        </p:nvSpPr>
                        <p:spPr>
                          <a:xfrm flipH="1">
                            <a:off x="2278440" y="1905120"/>
                            <a:ext cx="21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6">
                                <a:moveTo>
                                  <a:pt x="7" y="6"/>
                                </a:moveTo>
                                <a:lnTo>
                                  <a:pt x="5" y="6"/>
                                </a:lnTo>
                                <a:lnTo>
                                  <a:pt x="4" y="5"/>
                                </a:lnTo>
                                <a:lnTo>
                                  <a:pt x="2" y="5"/>
                                </a:lnTo>
                                <a:lnTo>
                                  <a:pt x="1" y="3"/>
                                </a:lnTo>
                                <a:lnTo>
                                  <a:pt x="1" y="2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2" name=""/>
                          <p:cNvSpPr/>
                          <p:nvPr/>
                        </p:nvSpPr>
                        <p:spPr>
                          <a:xfrm flipH="1">
                            <a:off x="2045160" y="1901880"/>
                            <a:ext cx="2160" cy="3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11">
                                <a:moveTo>
                                  <a:pt x="0" y="0"/>
                                </a:moveTo>
                                <a:lnTo>
                                  <a:pt x="0" y="4"/>
                                </a:lnTo>
                                <a:lnTo>
                                  <a:pt x="1" y="7"/>
                                </a:lnTo>
                                <a:lnTo>
                                  <a:pt x="1" y="11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" name=""/>
                          <p:cNvSpPr/>
                          <p:nvPr/>
                        </p:nvSpPr>
                        <p:spPr>
                          <a:xfrm flipH="1">
                            <a:off x="2097720" y="1905120"/>
                            <a:ext cx="39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" h="6">
                                <a:moveTo>
                                  <a:pt x="10" y="6"/>
                                </a:moveTo>
                                <a:lnTo>
                                  <a:pt x="8" y="6"/>
                                </a:lnTo>
                                <a:lnTo>
                                  <a:pt x="7" y="5"/>
                                </a:lnTo>
                                <a:lnTo>
                                  <a:pt x="5" y="5"/>
                                </a:lnTo>
                                <a:lnTo>
                                  <a:pt x="3" y="3"/>
                                </a:lnTo>
                                <a:lnTo>
                                  <a:pt x="1" y="2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4" name=""/>
                          <p:cNvSpPr/>
                          <p:nvPr/>
                        </p:nvSpPr>
                        <p:spPr>
                          <a:xfrm flipH="1">
                            <a:off x="2116080" y="1903680"/>
                            <a:ext cx="216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1">
                                <a:moveTo>
                                  <a:pt x="0" y="1"/>
                                </a:moveTo>
                                <a:lnTo>
                                  <a:pt x="1" y="1"/>
                                </a:lnTo>
                                <a:lnTo>
                                  <a:pt x="1" y="1"/>
                                </a:lnTo>
                                <a:lnTo>
                                  <a:pt x="1" y="0"/>
                                </a:lnTo>
                                <a:lnTo>
                                  <a:pt x="1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5" name=""/>
                          <p:cNvSpPr/>
                          <p:nvPr/>
                        </p:nvSpPr>
                        <p:spPr>
                          <a:xfrm flipH="1">
                            <a:off x="2118600" y="1901880"/>
                            <a:ext cx="144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3">
                                <a:moveTo>
                                  <a:pt x="1" y="0"/>
                                </a:moveTo>
                                <a:lnTo>
                                  <a:pt x="1" y="0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6" name=""/>
                          <p:cNvSpPr/>
                          <p:nvPr/>
                        </p:nvSpPr>
                        <p:spPr>
                          <a:xfrm flipH="1">
                            <a:off x="2120040" y="1901880"/>
                            <a:ext cx="144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" h="3">
                                <a:moveTo>
                                  <a:pt x="1" y="0"/>
                                </a:moveTo>
                                <a:lnTo>
                                  <a:pt x="1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"/>
                                </a:lnTo>
                                <a:lnTo>
                                  <a:pt x="0" y="2"/>
                                </a:lnTo>
                                <a:lnTo>
                                  <a:pt x="0" y="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 flipH="1">
                            <a:off x="2194920" y="2167200"/>
                            <a:ext cx="1440" cy="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2">
                                <a:moveTo>
                                  <a:pt x="5" y="0"/>
                                </a:moveTo>
                                <a:lnTo>
                                  <a:pt x="4" y="1"/>
                                </a:lnTo>
                                <a:lnTo>
                                  <a:pt x="2" y="2"/>
                                </a:lnTo>
                                <a:lnTo>
                                  <a:pt x="0" y="2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 flipH="1">
                            <a:off x="1857240" y="2163960"/>
                            <a:ext cx="7920" cy="1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43">
                                <a:moveTo>
                                  <a:pt x="0" y="0"/>
                                </a:moveTo>
                                <a:lnTo>
                                  <a:pt x="0" y="6"/>
                                </a:lnTo>
                                <a:lnTo>
                                  <a:pt x="2" y="12"/>
                                </a:lnTo>
                                <a:lnTo>
                                  <a:pt x="3" y="18"/>
                                </a:lnTo>
                                <a:lnTo>
                                  <a:pt x="5" y="24"/>
                                </a:lnTo>
                                <a:lnTo>
                                  <a:pt x="7" y="29"/>
                                </a:lnTo>
                                <a:lnTo>
                                  <a:pt x="11" y="33"/>
                                </a:lnTo>
                                <a:lnTo>
                                  <a:pt x="14" y="38"/>
                                </a:lnTo>
                                <a:lnTo>
                                  <a:pt x="18" y="40"/>
                                </a:lnTo>
                                <a:lnTo>
                                  <a:pt x="23" y="42"/>
                                </a:lnTo>
                                <a:lnTo>
                                  <a:pt x="26" y="43"/>
                                </a:lnTo>
                                <a:lnTo>
                                  <a:pt x="28" y="4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9" name=""/>
                          <p:cNvSpPr/>
                          <p:nvPr/>
                        </p:nvSpPr>
                        <p:spPr>
                          <a:xfrm flipH="1">
                            <a:off x="1837440" y="2163960"/>
                            <a:ext cx="9720" cy="1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43">
                                <a:moveTo>
                                  <a:pt x="0" y="0"/>
                                </a:moveTo>
                                <a:lnTo>
                                  <a:pt x="1" y="6"/>
                                </a:lnTo>
                                <a:lnTo>
                                  <a:pt x="3" y="12"/>
                                </a:lnTo>
                                <a:lnTo>
                                  <a:pt x="4" y="18"/>
                                </a:lnTo>
                                <a:lnTo>
                                  <a:pt x="6" y="24"/>
                                </a:lnTo>
                                <a:lnTo>
                                  <a:pt x="8" y="29"/>
                                </a:lnTo>
                                <a:lnTo>
                                  <a:pt x="12" y="33"/>
                                </a:lnTo>
                                <a:lnTo>
                                  <a:pt x="15" y="38"/>
                                </a:lnTo>
                                <a:lnTo>
                                  <a:pt x="19" y="40"/>
                                </a:lnTo>
                                <a:lnTo>
                                  <a:pt x="23" y="42"/>
                                </a:lnTo>
                                <a:lnTo>
                                  <a:pt x="27" y="43"/>
                                </a:lnTo>
                                <a:lnTo>
                                  <a:pt x="29" y="4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0" name=""/>
                          <p:cNvSpPr/>
                          <p:nvPr/>
                        </p:nvSpPr>
                        <p:spPr>
                          <a:xfrm flipH="1" flipV="1">
                            <a:off x="2085120" y="188928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" name=""/>
                          <p:cNvSpPr/>
                          <p:nvPr/>
                        </p:nvSpPr>
                        <p:spPr>
                          <a:xfrm flipH="1" flipV="1">
                            <a:off x="2081160" y="188928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2" name=""/>
                          <p:cNvSpPr/>
                          <p:nvPr/>
                        </p:nvSpPr>
                        <p:spPr>
                          <a:xfrm flipH="1" flipV="1">
                            <a:off x="2072880" y="1936440"/>
                            <a:ext cx="216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3" name=""/>
                          <p:cNvSpPr/>
                          <p:nvPr/>
                        </p:nvSpPr>
                        <p:spPr>
                          <a:xfrm flipH="1" flipV="1">
                            <a:off x="2068920" y="1936440"/>
                            <a:ext cx="216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4" name=""/>
                          <p:cNvSpPr/>
                          <p:nvPr/>
                        </p:nvSpPr>
                        <p:spPr>
                          <a:xfrm flipH="1" flipV="1">
                            <a:off x="2064960" y="1879560"/>
                            <a:ext cx="2160" cy="223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5" name=""/>
                          <p:cNvSpPr/>
                          <p:nvPr/>
                        </p:nvSpPr>
                        <p:spPr>
                          <a:xfrm flipV="1">
                            <a:off x="2110320" y="1900440"/>
                            <a:ext cx="39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6" name=""/>
                          <p:cNvSpPr/>
                          <p:nvPr/>
                        </p:nvSpPr>
                        <p:spPr>
                          <a:xfrm flipV="1">
                            <a:off x="2090880" y="190044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7" name=""/>
                          <p:cNvSpPr/>
                          <p:nvPr/>
                        </p:nvSpPr>
                        <p:spPr>
                          <a:xfrm flipH="1" flipV="1">
                            <a:off x="2047680" y="1657080"/>
                            <a:ext cx="1440" cy="244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8" name=""/>
                          <p:cNvSpPr/>
                          <p:nvPr/>
                        </p:nvSpPr>
                        <p:spPr>
                          <a:xfrm flipH="1">
                            <a:off x="2045160" y="1906560"/>
                            <a:ext cx="2160" cy="50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" name=""/>
                          <p:cNvSpPr/>
                          <p:nvPr/>
                        </p:nvSpPr>
                        <p:spPr>
                          <a:xfrm flipH="1" flipV="1">
                            <a:off x="2041920" y="1657440"/>
                            <a:ext cx="1440" cy="247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0" name=""/>
                          <p:cNvSpPr/>
                          <p:nvPr/>
                        </p:nvSpPr>
                        <p:spPr>
                          <a:xfrm flipH="1" flipV="1">
                            <a:off x="2041920" y="1936440"/>
                            <a:ext cx="144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1" name=""/>
                          <p:cNvSpPr/>
                          <p:nvPr/>
                        </p:nvSpPr>
                        <p:spPr>
                          <a:xfrm flipH="1" flipV="1">
                            <a:off x="2041920" y="1657440"/>
                            <a:ext cx="1440" cy="239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flipH="1">
                            <a:off x="2039400" y="1905120"/>
                            <a:ext cx="216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flipH="1">
                            <a:off x="2034000" y="190512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>
                            <a:off x="2039400" y="190980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flipH="1">
                            <a:off x="2053440" y="1936800"/>
                            <a:ext cx="211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flipH="1">
                            <a:off x="1788840" y="1936800"/>
                            <a:ext cx="2545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H="1">
                            <a:off x="2004480" y="1932120"/>
                            <a:ext cx="2876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flipH="1">
                            <a:off x="1786680" y="1932120"/>
                            <a:ext cx="2152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flipH="1">
                            <a:off x="2229480" y="1909800"/>
                            <a:ext cx="57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flipH="1">
                            <a:off x="2104560" y="1909800"/>
                            <a:ext cx="19440" cy="32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H="1" flipV="1">
                            <a:off x="2034000" y="1896840"/>
                            <a:ext cx="1440" cy="126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flipH="1" flipV="1">
                            <a:off x="2029680" y="1898280"/>
                            <a:ext cx="2160" cy="111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flipH="1" flipV="1">
                            <a:off x="2029680" y="1657440"/>
                            <a:ext cx="2160" cy="239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H="1" flipV="1">
                            <a:off x="2024280" y="189720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flipH="1" flipV="1">
                            <a:off x="2021760" y="189720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6" name=""/>
                          <p:cNvSpPr/>
                          <p:nvPr/>
                        </p:nvSpPr>
                        <p:spPr>
                          <a:xfrm flipH="1" flipV="1">
                            <a:off x="2041560" y="1909440"/>
                            <a:ext cx="62640" cy="32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H="1">
                            <a:off x="1786680" y="1911600"/>
                            <a:ext cx="2152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H="1">
                            <a:off x="2235240" y="1909800"/>
                            <a:ext cx="5688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 flipH="1">
                            <a:off x="2124000" y="1909800"/>
                            <a:ext cx="997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H="1">
                            <a:off x="2008440" y="1909800"/>
                            <a:ext cx="30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 flipH="1">
                            <a:off x="2233800" y="1906560"/>
                            <a:ext cx="446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2" name=""/>
                          <p:cNvSpPr/>
                          <p:nvPr/>
                        </p:nvSpPr>
                        <p:spPr>
                          <a:xfrm flipH="1">
                            <a:off x="2047680" y="1906560"/>
                            <a:ext cx="5040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H="1">
                            <a:off x="2276640" y="1905120"/>
                            <a:ext cx="39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H="1">
                            <a:off x="2159280" y="1905120"/>
                            <a:ext cx="745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H="1">
                            <a:off x="2098440" y="1905120"/>
                            <a:ext cx="4680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H="1">
                            <a:off x="2035440" y="1905120"/>
                            <a:ext cx="118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flipH="1">
                            <a:off x="2180880" y="1903680"/>
                            <a:ext cx="406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 flipH="1">
                            <a:off x="2102400" y="1903680"/>
                            <a:ext cx="158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H="1">
                            <a:off x="2102040" y="1903680"/>
                            <a:ext cx="118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flipH="1">
                            <a:off x="2116080" y="19036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 flipH="1">
                            <a:off x="2111760" y="19036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H="1">
                            <a:off x="2102040" y="1903680"/>
                            <a:ext cx="97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flipH="1">
                            <a:off x="2102040" y="1903680"/>
                            <a:ext cx="118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>
                            <a:off x="2102040" y="1901880"/>
                            <a:ext cx="79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H="1">
                            <a:off x="2214000" y="1901880"/>
                            <a:ext cx="626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H="1">
                            <a:off x="2174760" y="1901880"/>
                            <a:ext cx="6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7" name=""/>
                          <p:cNvSpPr/>
                          <p:nvPr/>
                        </p:nvSpPr>
                        <p:spPr>
                          <a:xfrm flipH="1">
                            <a:off x="2171160" y="1901880"/>
                            <a:ext cx="32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H="1">
                            <a:off x="2162880" y="1901880"/>
                            <a:ext cx="79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H="1">
                            <a:off x="2158920" y="1901880"/>
                            <a:ext cx="3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 flipH="1">
                            <a:off x="2118240" y="1901880"/>
                            <a:ext cx="2700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H="1">
                            <a:off x="2047680" y="1901880"/>
                            <a:ext cx="543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H="1">
                            <a:off x="2118600" y="190188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3" name=""/>
                          <p:cNvSpPr/>
                          <p:nvPr/>
                        </p:nvSpPr>
                        <p:spPr>
                          <a:xfrm>
                            <a:off x="2118600" y="190188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4" name=""/>
                          <p:cNvSpPr/>
                          <p:nvPr/>
                        </p:nvSpPr>
                        <p:spPr>
                          <a:xfrm flipH="1">
                            <a:off x="2114280" y="1900440"/>
                            <a:ext cx="154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 flipH="1">
                            <a:off x="2114280" y="190044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 flipH="1">
                            <a:off x="2114280" y="190044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>
                            <a:off x="2092680" y="1900440"/>
                            <a:ext cx="2340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>
                            <a:off x="1787040" y="1898640"/>
                            <a:ext cx="245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 flipH="1">
                            <a:off x="1788840" y="1897200"/>
                            <a:ext cx="2545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 flipV="1">
                            <a:off x="2002320" y="1898640"/>
                            <a:ext cx="29520" cy="129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H="1">
                            <a:off x="2067120" y="1874880"/>
                            <a:ext cx="792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H="1" flipV="1">
                            <a:off x="2002320" y="1911240"/>
                            <a:ext cx="2160" cy="205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3" name=""/>
                          <p:cNvSpPr/>
                          <p:nvPr/>
                        </p:nvSpPr>
                        <p:spPr>
                          <a:xfrm flipH="1" flipV="1">
                            <a:off x="2000520" y="1911240"/>
                            <a:ext cx="1440" cy="205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 flipH="1" flipV="1">
                            <a:off x="1977120" y="1693800"/>
                            <a:ext cx="1440" cy="1051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"/>
                          <p:cNvSpPr/>
                          <p:nvPr/>
                        </p:nvSpPr>
                        <p:spPr>
                          <a:xfrm>
                            <a:off x="2223720" y="1909800"/>
                            <a:ext cx="57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"/>
                          <p:cNvSpPr/>
                          <p:nvPr/>
                        </p:nvSpPr>
                        <p:spPr>
                          <a:xfrm flipH="1">
                            <a:off x="2085120" y="1892520"/>
                            <a:ext cx="957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7" name=""/>
                          <p:cNvSpPr/>
                          <p:nvPr/>
                        </p:nvSpPr>
                        <p:spPr>
                          <a:xfrm flipH="1">
                            <a:off x="2108160" y="1890720"/>
                            <a:ext cx="13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8" name=""/>
                          <p:cNvSpPr/>
                          <p:nvPr/>
                        </p:nvSpPr>
                        <p:spPr>
                          <a:xfrm flipH="1">
                            <a:off x="2082600" y="1890720"/>
                            <a:ext cx="255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9" name=""/>
                          <p:cNvSpPr/>
                          <p:nvPr/>
                        </p:nvSpPr>
                        <p:spPr>
                          <a:xfrm flipH="1">
                            <a:off x="2086560" y="1890720"/>
                            <a:ext cx="860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0" name=""/>
                          <p:cNvSpPr/>
                          <p:nvPr/>
                        </p:nvSpPr>
                        <p:spPr>
                          <a:xfrm flipH="1">
                            <a:off x="2086560" y="1889280"/>
                            <a:ext cx="860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1" name=""/>
                          <p:cNvSpPr/>
                          <p:nvPr/>
                        </p:nvSpPr>
                        <p:spPr>
                          <a:xfrm flipH="1">
                            <a:off x="2085120" y="1887480"/>
                            <a:ext cx="446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2" name=""/>
                          <p:cNvSpPr/>
                          <p:nvPr/>
                        </p:nvSpPr>
                        <p:spPr>
                          <a:xfrm flipH="1">
                            <a:off x="2075400" y="1874880"/>
                            <a:ext cx="543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 flipH="1">
                            <a:off x="1957680" y="1706760"/>
                            <a:ext cx="1440" cy="698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192400" y="2163960"/>
                            <a:ext cx="2160" cy="32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1810800" y="1798920"/>
                            <a:ext cx="16812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6" name=""/>
                          <p:cNvSpPr/>
                          <p:nvPr/>
                        </p:nvSpPr>
                        <p:spPr>
                          <a:xfrm>
                            <a:off x="1810800" y="1797120"/>
                            <a:ext cx="168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7" name=""/>
                          <p:cNvSpPr/>
                          <p:nvPr/>
                        </p:nvSpPr>
                        <p:spPr>
                          <a:xfrm flipH="1">
                            <a:off x="1833840" y="217800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8" name=""/>
                          <p:cNvSpPr/>
                          <p:nvPr/>
                        </p:nvSpPr>
                        <p:spPr>
                          <a:xfrm flipH="1">
                            <a:off x="1828080" y="217188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"/>
                          <p:cNvSpPr/>
                          <p:nvPr/>
                        </p:nvSpPr>
                        <p:spPr>
                          <a:xfrm flipH="1" flipV="1">
                            <a:off x="1828080" y="216504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0" name=""/>
                          <p:cNvSpPr/>
                          <p:nvPr/>
                        </p:nvSpPr>
                        <p:spPr>
                          <a:xfrm flipH="1">
                            <a:off x="1828080" y="217332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1" name=""/>
                          <p:cNvSpPr/>
                          <p:nvPr/>
                        </p:nvSpPr>
                        <p:spPr>
                          <a:xfrm flipH="1" flipV="1">
                            <a:off x="1828080" y="1706760"/>
                            <a:ext cx="1440" cy="698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2" name=""/>
                          <p:cNvSpPr/>
                          <p:nvPr/>
                        </p:nvSpPr>
                        <p:spPr>
                          <a:xfrm flipH="1">
                            <a:off x="1826280" y="216396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3" name=""/>
                          <p:cNvSpPr/>
                          <p:nvPr/>
                        </p:nvSpPr>
                        <p:spPr>
                          <a:xfrm flipH="1">
                            <a:off x="1826280" y="216720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2232000" y="2175120"/>
                            <a:ext cx="6120" cy="28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 flipH="1">
                            <a:off x="1829880" y="1776600"/>
                            <a:ext cx="1292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 flipH="1">
                            <a:off x="1824120" y="21718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 flipH="1" flipV="1">
                            <a:off x="1824120" y="216504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 flipH="1">
                            <a:off x="1822320" y="216396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flipH="1">
                            <a:off x="1822320" y="216720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0" name=""/>
                          <p:cNvSpPr/>
                          <p:nvPr/>
                        </p:nvSpPr>
                        <p:spPr>
                          <a:xfrm flipH="1">
                            <a:off x="1819800" y="217332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1" name=""/>
                          <p:cNvSpPr/>
                          <p:nvPr/>
                        </p:nvSpPr>
                        <p:spPr>
                          <a:xfrm flipH="1">
                            <a:off x="1819800" y="217188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" name=""/>
                          <p:cNvSpPr/>
                          <p:nvPr/>
                        </p:nvSpPr>
                        <p:spPr>
                          <a:xfrm flipH="1" flipV="1">
                            <a:off x="1819800" y="2165040"/>
                            <a:ext cx="21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3" name=""/>
                          <p:cNvSpPr/>
                          <p:nvPr/>
                        </p:nvSpPr>
                        <p:spPr>
                          <a:xfrm flipH="1" flipV="1">
                            <a:off x="1818360" y="189720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" name=""/>
                          <p:cNvSpPr/>
                          <p:nvPr/>
                        </p:nvSpPr>
                        <p:spPr>
                          <a:xfrm flipH="1">
                            <a:off x="2082600" y="1890720"/>
                            <a:ext cx="216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4">
                                <a:moveTo>
                                  <a:pt x="0" y="4"/>
                                </a:moveTo>
                                <a:lnTo>
                                  <a:pt x="3" y="4"/>
                                </a:lnTo>
                                <a:lnTo>
                                  <a:pt x="4" y="4"/>
                                </a:lnTo>
                                <a:lnTo>
                                  <a:pt x="5" y="3"/>
                                </a:lnTo>
                                <a:lnTo>
                                  <a:pt x="6" y="2"/>
                                </a:lnTo>
                                <a:lnTo>
                                  <a:pt x="6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5" name=""/>
                          <p:cNvSpPr/>
                          <p:nvPr/>
                        </p:nvSpPr>
                        <p:spPr>
                          <a:xfrm flipH="1">
                            <a:off x="2082600" y="1887480"/>
                            <a:ext cx="2160" cy="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4">
                                <a:moveTo>
                                  <a:pt x="6" y="4"/>
                                </a:moveTo>
                                <a:lnTo>
                                  <a:pt x="6" y="2"/>
                                </a:lnTo>
                                <a:lnTo>
                                  <a:pt x="5" y="1"/>
                                </a:lnTo>
                                <a:lnTo>
                                  <a:pt x="4" y="0"/>
                                </a:lnTo>
                                <a:lnTo>
                                  <a:pt x="3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6" name=""/>
                          <p:cNvSpPr/>
                          <p:nvPr/>
                        </p:nvSpPr>
                        <p:spPr>
                          <a:xfrm flipH="1">
                            <a:off x="1814400" y="2178000"/>
                            <a:ext cx="144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7" name=""/>
                          <p:cNvSpPr/>
                          <p:nvPr/>
                        </p:nvSpPr>
                        <p:spPr>
                          <a:xfrm flipH="1">
                            <a:off x="1808640" y="2149560"/>
                            <a:ext cx="1440" cy="144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8" name=""/>
                          <p:cNvSpPr/>
                          <p:nvPr/>
                        </p:nvSpPr>
                        <p:spPr>
                          <a:xfrm flipH="1" flipV="1">
                            <a:off x="1808640" y="1693800"/>
                            <a:ext cx="1440" cy="1051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9" name=""/>
                          <p:cNvSpPr/>
                          <p:nvPr/>
                        </p:nvSpPr>
                        <p:spPr>
                          <a:xfrm flipH="1">
                            <a:off x="1808640" y="2152800"/>
                            <a:ext cx="144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0" name=""/>
                          <p:cNvSpPr/>
                          <p:nvPr/>
                        </p:nvSpPr>
                        <p:spPr>
                          <a:xfrm flipH="1">
                            <a:off x="1796400" y="189720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1" name=""/>
                          <p:cNvSpPr/>
                          <p:nvPr/>
                        </p:nvSpPr>
                        <p:spPr>
                          <a:xfrm flipH="1" flipV="1">
                            <a:off x="1796400" y="1931760"/>
                            <a:ext cx="2160" cy="46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 flipH="1" flipV="1">
                            <a:off x="1826280" y="2163960"/>
                            <a:ext cx="14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3" name=""/>
                          <p:cNvSpPr/>
                          <p:nvPr/>
                        </p:nvSpPr>
                        <p:spPr>
                          <a:xfrm flipH="1">
                            <a:off x="1796400" y="1897200"/>
                            <a:ext cx="216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4" name=""/>
                          <p:cNvSpPr/>
                          <p:nvPr/>
                        </p:nvSpPr>
                        <p:spPr>
                          <a:xfrm flipH="1" flipV="1">
                            <a:off x="1786680" y="1936440"/>
                            <a:ext cx="2160" cy="21276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5" name=""/>
                          <p:cNvSpPr/>
                          <p:nvPr/>
                        </p:nvSpPr>
                        <p:spPr>
                          <a:xfrm flipH="1" flipV="1">
                            <a:off x="1786680" y="1657440"/>
                            <a:ext cx="2160" cy="2412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6" name=""/>
                          <p:cNvSpPr/>
                          <p:nvPr/>
                        </p:nvSpPr>
                        <p:spPr>
                          <a:xfrm flipH="1" flipV="1">
                            <a:off x="1785240" y="1898280"/>
                            <a:ext cx="1440" cy="334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7" name=""/>
                          <p:cNvSpPr/>
                          <p:nvPr/>
                        </p:nvSpPr>
                        <p:spPr>
                          <a:xfrm>
                            <a:off x="1830240" y="1706760"/>
                            <a:ext cx="12924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8" name=""/>
                          <p:cNvSpPr/>
                          <p:nvPr/>
                        </p:nvSpPr>
                        <p:spPr>
                          <a:xfrm>
                            <a:off x="1810800" y="1697040"/>
                            <a:ext cx="168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9" name=""/>
                          <p:cNvSpPr/>
                          <p:nvPr/>
                        </p:nvSpPr>
                        <p:spPr>
                          <a:xfrm>
                            <a:off x="1810800" y="1693800"/>
                            <a:ext cx="1681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0" name=""/>
                          <p:cNvSpPr/>
                          <p:nvPr/>
                        </p:nvSpPr>
                        <p:spPr>
                          <a:xfrm flipH="1">
                            <a:off x="1788840" y="1657440"/>
                            <a:ext cx="26028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/>
                          <p:nvPr/>
                        </p:nvSpPr>
                        <p:spPr>
                          <a:xfrm>
                            <a:off x="1830240" y="2175120"/>
                            <a:ext cx="6120" cy="288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" name=""/>
                          <p:cNvSpPr/>
                          <p:nvPr/>
                        </p:nvSpPr>
                        <p:spPr>
                          <a:xfrm flipH="1">
                            <a:off x="1822320" y="1708200"/>
                            <a:ext cx="136800" cy="745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3" name=""/>
                          <p:cNvSpPr/>
                          <p:nvPr/>
                        </p:nvSpPr>
                        <p:spPr>
                          <a:xfrm flipH="1">
                            <a:off x="1804320" y="1870200"/>
                            <a:ext cx="184320" cy="111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" name=""/>
                          <p:cNvSpPr/>
                          <p:nvPr/>
                        </p:nvSpPr>
                        <p:spPr>
                          <a:xfrm flipH="1">
                            <a:off x="1804320" y="1881360"/>
                            <a:ext cx="184320" cy="111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5" name=""/>
                          <p:cNvSpPr/>
                          <p:nvPr/>
                        </p:nvSpPr>
                        <p:spPr>
                          <a:xfrm flipH="1">
                            <a:off x="1785240" y="1898640"/>
                            <a:ext cx="144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6" name=""/>
                          <p:cNvSpPr/>
                          <p:nvPr/>
                        </p:nvSpPr>
                        <p:spPr>
                          <a:xfrm flipH="1">
                            <a:off x="2064600" y="1981440"/>
                            <a:ext cx="186120" cy="163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8" h="624">
                                <a:moveTo>
                                  <a:pt x="568" y="20"/>
                                </a:moveTo>
                                <a:lnTo>
                                  <a:pt x="568" y="0"/>
                                </a:lnTo>
                                <a:lnTo>
                                  <a:pt x="539" y="0"/>
                                </a:lnTo>
                                <a:lnTo>
                                  <a:pt x="511" y="4"/>
                                </a:lnTo>
                                <a:lnTo>
                                  <a:pt x="483" y="7"/>
                                </a:lnTo>
                                <a:lnTo>
                                  <a:pt x="478" y="8"/>
                                </a:lnTo>
                                <a:lnTo>
                                  <a:pt x="452" y="13"/>
                                </a:lnTo>
                                <a:lnTo>
                                  <a:pt x="425" y="20"/>
                                </a:lnTo>
                                <a:lnTo>
                                  <a:pt x="398" y="28"/>
                                </a:lnTo>
                                <a:lnTo>
                                  <a:pt x="373" y="37"/>
                                </a:lnTo>
                                <a:lnTo>
                                  <a:pt x="347" y="49"/>
                                </a:lnTo>
                                <a:lnTo>
                                  <a:pt x="322" y="61"/>
                                </a:lnTo>
                                <a:lnTo>
                                  <a:pt x="298" y="75"/>
                                </a:lnTo>
                                <a:lnTo>
                                  <a:pt x="295" y="77"/>
                                </a:lnTo>
                                <a:lnTo>
                                  <a:pt x="272" y="92"/>
                                </a:lnTo>
                                <a:lnTo>
                                  <a:pt x="248" y="108"/>
                                </a:lnTo>
                                <a:lnTo>
                                  <a:pt x="226" y="125"/>
                                </a:lnTo>
                                <a:lnTo>
                                  <a:pt x="205" y="144"/>
                                </a:lnTo>
                                <a:lnTo>
                                  <a:pt x="186" y="163"/>
                                </a:lnTo>
                                <a:lnTo>
                                  <a:pt x="166" y="183"/>
                                </a:lnTo>
                                <a:lnTo>
                                  <a:pt x="130" y="227"/>
                                </a:lnTo>
                                <a:lnTo>
                                  <a:pt x="128" y="230"/>
                                </a:lnTo>
                                <a:lnTo>
                                  <a:pt x="95" y="277"/>
                                </a:lnTo>
                                <a:lnTo>
                                  <a:pt x="67" y="328"/>
                                </a:lnTo>
                                <a:lnTo>
                                  <a:pt x="55" y="355"/>
                                </a:lnTo>
                                <a:lnTo>
                                  <a:pt x="44" y="381"/>
                                </a:lnTo>
                                <a:lnTo>
                                  <a:pt x="34" y="409"/>
                                </a:lnTo>
                                <a:lnTo>
                                  <a:pt x="25" y="438"/>
                                </a:lnTo>
                                <a:lnTo>
                                  <a:pt x="17" y="467"/>
                                </a:lnTo>
                                <a:lnTo>
                                  <a:pt x="17" y="470"/>
                                </a:lnTo>
                                <a:lnTo>
                                  <a:pt x="10" y="500"/>
                                </a:lnTo>
                                <a:lnTo>
                                  <a:pt x="6" y="531"/>
                                </a:lnTo>
                                <a:lnTo>
                                  <a:pt x="2" y="562"/>
                                </a:lnTo>
                                <a:lnTo>
                                  <a:pt x="0" y="592"/>
                                </a:lnTo>
                                <a:lnTo>
                                  <a:pt x="0" y="624"/>
                                </a:lnTo>
                                <a:lnTo>
                                  <a:pt x="22" y="624"/>
                                </a:lnTo>
                                <a:lnTo>
                                  <a:pt x="22" y="592"/>
                                </a:lnTo>
                                <a:lnTo>
                                  <a:pt x="24" y="562"/>
                                </a:lnTo>
                                <a:lnTo>
                                  <a:pt x="28" y="531"/>
                                </a:lnTo>
                                <a:lnTo>
                                  <a:pt x="32" y="500"/>
                                </a:lnTo>
                                <a:lnTo>
                                  <a:pt x="39" y="470"/>
                                </a:lnTo>
                                <a:lnTo>
                                  <a:pt x="28" y="470"/>
                                </a:lnTo>
                                <a:lnTo>
                                  <a:pt x="38" y="475"/>
                                </a:lnTo>
                                <a:lnTo>
                                  <a:pt x="46" y="445"/>
                                </a:lnTo>
                                <a:lnTo>
                                  <a:pt x="55" y="416"/>
                                </a:lnTo>
                                <a:lnTo>
                                  <a:pt x="65" y="389"/>
                                </a:lnTo>
                                <a:lnTo>
                                  <a:pt x="75" y="362"/>
                                </a:lnTo>
                                <a:lnTo>
                                  <a:pt x="88" y="335"/>
                                </a:lnTo>
                                <a:lnTo>
                                  <a:pt x="116" y="284"/>
                                </a:lnTo>
                                <a:lnTo>
                                  <a:pt x="149" y="237"/>
                                </a:lnTo>
                                <a:lnTo>
                                  <a:pt x="138" y="234"/>
                                </a:lnTo>
                                <a:lnTo>
                                  <a:pt x="145" y="240"/>
                                </a:lnTo>
                                <a:lnTo>
                                  <a:pt x="181" y="196"/>
                                </a:lnTo>
                                <a:lnTo>
                                  <a:pt x="201" y="177"/>
                                </a:lnTo>
                                <a:lnTo>
                                  <a:pt x="221" y="157"/>
                                </a:lnTo>
                                <a:lnTo>
                                  <a:pt x="241" y="139"/>
                                </a:lnTo>
                                <a:lnTo>
                                  <a:pt x="264" y="121"/>
                                </a:lnTo>
                                <a:lnTo>
                                  <a:pt x="287" y="105"/>
                                </a:lnTo>
                                <a:lnTo>
                                  <a:pt x="310" y="91"/>
                                </a:lnTo>
                                <a:lnTo>
                                  <a:pt x="302" y="84"/>
                                </a:lnTo>
                                <a:lnTo>
                                  <a:pt x="307" y="94"/>
                                </a:lnTo>
                                <a:lnTo>
                                  <a:pt x="330" y="79"/>
                                </a:lnTo>
                                <a:lnTo>
                                  <a:pt x="355" y="67"/>
                                </a:lnTo>
                                <a:lnTo>
                                  <a:pt x="381" y="56"/>
                                </a:lnTo>
                                <a:lnTo>
                                  <a:pt x="406" y="47"/>
                                </a:lnTo>
                                <a:lnTo>
                                  <a:pt x="433" y="38"/>
                                </a:lnTo>
                                <a:lnTo>
                                  <a:pt x="460" y="31"/>
                                </a:lnTo>
                                <a:lnTo>
                                  <a:pt x="487" y="26"/>
                                </a:lnTo>
                                <a:lnTo>
                                  <a:pt x="483" y="17"/>
                                </a:lnTo>
                                <a:lnTo>
                                  <a:pt x="483" y="26"/>
                                </a:lnTo>
                                <a:lnTo>
                                  <a:pt x="511" y="23"/>
                                </a:lnTo>
                                <a:lnTo>
                                  <a:pt x="539" y="20"/>
                                </a:lnTo>
                                <a:lnTo>
                                  <a:pt x="568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7" name=""/>
                          <p:cNvSpPr/>
                          <p:nvPr/>
                        </p:nvSpPr>
                        <p:spPr>
                          <a:xfrm flipH="1">
                            <a:off x="1941480" y="1976400"/>
                            <a:ext cx="99720" cy="16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" h="640">
                                <a:moveTo>
                                  <a:pt x="0" y="0"/>
                                </a:moveTo>
                                <a:lnTo>
                                  <a:pt x="0" y="51"/>
                                </a:lnTo>
                                <a:lnTo>
                                  <a:pt x="13" y="52"/>
                                </a:lnTo>
                                <a:lnTo>
                                  <a:pt x="13" y="27"/>
                                </a:lnTo>
                                <a:lnTo>
                                  <a:pt x="8" y="51"/>
                                </a:lnTo>
                                <a:lnTo>
                                  <a:pt x="23" y="54"/>
                                </a:lnTo>
                                <a:lnTo>
                                  <a:pt x="37" y="57"/>
                                </a:lnTo>
                                <a:lnTo>
                                  <a:pt x="43" y="33"/>
                                </a:lnTo>
                                <a:lnTo>
                                  <a:pt x="31" y="56"/>
                                </a:lnTo>
                                <a:lnTo>
                                  <a:pt x="45" y="62"/>
                                </a:lnTo>
                                <a:lnTo>
                                  <a:pt x="58" y="69"/>
                                </a:lnTo>
                                <a:lnTo>
                                  <a:pt x="69" y="45"/>
                                </a:lnTo>
                                <a:lnTo>
                                  <a:pt x="49" y="63"/>
                                </a:lnTo>
                                <a:lnTo>
                                  <a:pt x="62" y="72"/>
                                </a:lnTo>
                                <a:lnTo>
                                  <a:pt x="75" y="81"/>
                                </a:lnTo>
                                <a:lnTo>
                                  <a:pt x="88" y="92"/>
                                </a:lnTo>
                                <a:lnTo>
                                  <a:pt x="101" y="105"/>
                                </a:lnTo>
                                <a:lnTo>
                                  <a:pt x="112" y="118"/>
                                </a:lnTo>
                                <a:lnTo>
                                  <a:pt x="124" y="132"/>
                                </a:lnTo>
                                <a:lnTo>
                                  <a:pt x="145" y="115"/>
                                </a:lnTo>
                                <a:lnTo>
                                  <a:pt x="118" y="124"/>
                                </a:lnTo>
                                <a:lnTo>
                                  <a:pt x="128" y="140"/>
                                </a:lnTo>
                                <a:lnTo>
                                  <a:pt x="140" y="158"/>
                                </a:lnTo>
                                <a:lnTo>
                                  <a:pt x="151" y="176"/>
                                </a:lnTo>
                                <a:lnTo>
                                  <a:pt x="161" y="196"/>
                                </a:lnTo>
                                <a:lnTo>
                                  <a:pt x="170" y="215"/>
                                </a:lnTo>
                                <a:lnTo>
                                  <a:pt x="188" y="259"/>
                                </a:lnTo>
                                <a:lnTo>
                                  <a:pt x="214" y="250"/>
                                </a:lnTo>
                                <a:lnTo>
                                  <a:pt x="187" y="255"/>
                                </a:lnTo>
                                <a:lnTo>
                                  <a:pt x="203" y="302"/>
                                </a:lnTo>
                                <a:lnTo>
                                  <a:pt x="217" y="352"/>
                                </a:lnTo>
                                <a:lnTo>
                                  <a:pt x="228" y="407"/>
                                </a:lnTo>
                                <a:lnTo>
                                  <a:pt x="238" y="463"/>
                                </a:lnTo>
                                <a:lnTo>
                                  <a:pt x="245" y="521"/>
                                </a:lnTo>
                                <a:lnTo>
                                  <a:pt x="272" y="516"/>
                                </a:lnTo>
                                <a:lnTo>
                                  <a:pt x="243" y="516"/>
                                </a:lnTo>
                                <a:lnTo>
                                  <a:pt x="248" y="578"/>
                                </a:lnTo>
                                <a:lnTo>
                                  <a:pt x="249" y="640"/>
                                </a:lnTo>
                                <a:lnTo>
                                  <a:pt x="307" y="640"/>
                                </a:lnTo>
                                <a:lnTo>
                                  <a:pt x="306" y="578"/>
                                </a:lnTo>
                                <a:lnTo>
                                  <a:pt x="302" y="516"/>
                                </a:lnTo>
                                <a:lnTo>
                                  <a:pt x="302" y="511"/>
                                </a:lnTo>
                                <a:lnTo>
                                  <a:pt x="295" y="453"/>
                                </a:lnTo>
                                <a:lnTo>
                                  <a:pt x="285" y="396"/>
                                </a:lnTo>
                                <a:lnTo>
                                  <a:pt x="274" y="342"/>
                                </a:lnTo>
                                <a:lnTo>
                                  <a:pt x="260" y="292"/>
                                </a:lnTo>
                                <a:lnTo>
                                  <a:pt x="243" y="245"/>
                                </a:lnTo>
                                <a:lnTo>
                                  <a:pt x="241" y="240"/>
                                </a:lnTo>
                                <a:lnTo>
                                  <a:pt x="224" y="196"/>
                                </a:lnTo>
                                <a:lnTo>
                                  <a:pt x="214" y="176"/>
                                </a:lnTo>
                                <a:lnTo>
                                  <a:pt x="204" y="157"/>
                                </a:lnTo>
                                <a:lnTo>
                                  <a:pt x="194" y="138"/>
                                </a:lnTo>
                                <a:lnTo>
                                  <a:pt x="182" y="121"/>
                                </a:lnTo>
                                <a:lnTo>
                                  <a:pt x="171" y="105"/>
                                </a:lnTo>
                                <a:lnTo>
                                  <a:pt x="164" y="96"/>
                                </a:lnTo>
                                <a:lnTo>
                                  <a:pt x="153" y="82"/>
                                </a:lnTo>
                                <a:lnTo>
                                  <a:pt x="141" y="69"/>
                                </a:lnTo>
                                <a:lnTo>
                                  <a:pt x="128" y="56"/>
                                </a:lnTo>
                                <a:lnTo>
                                  <a:pt x="116" y="45"/>
                                </a:lnTo>
                                <a:lnTo>
                                  <a:pt x="103" y="36"/>
                                </a:lnTo>
                                <a:lnTo>
                                  <a:pt x="90" y="27"/>
                                </a:lnTo>
                                <a:lnTo>
                                  <a:pt x="81" y="22"/>
                                </a:lnTo>
                                <a:lnTo>
                                  <a:pt x="68" y="14"/>
                                </a:lnTo>
                                <a:lnTo>
                                  <a:pt x="54" y="9"/>
                                </a:lnTo>
                                <a:lnTo>
                                  <a:pt x="48" y="7"/>
                                </a:lnTo>
                                <a:lnTo>
                                  <a:pt x="34" y="4"/>
                                </a:lnTo>
                                <a:lnTo>
                                  <a:pt x="19" y="1"/>
                                </a:lnTo>
                                <a:lnTo>
                                  <a:pt x="13" y="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pic>
            <p:nvPicPr>
              <p:cNvPr id="41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28760" y="1728720"/>
                <a:ext cx="464400" cy="41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4991040" y="1227600"/>
                <a:ext cx="63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5</a:t>
                </a:r>
                <a:r>
                  <a:rPr b="1" lang="en-US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204440" y="1260360"/>
                <a:ext cx="2592360" cy="939960"/>
              </a:xfrm>
              <a:prstGeom prst="rect">
                <a:avLst/>
              </a:prstGeom>
              <a:noFill/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8840" y="1785960"/>
                <a:ext cx="384120" cy="30168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08120" y="1237320"/>
                <a:ext cx="63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8</a:t>
                </a:r>
                <a:r>
                  <a:rPr b="1" lang="en-US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82840" y="1211760"/>
                <a:ext cx="92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ASET-F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09920" y="12294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66ff"/>
                    </a:solidFill>
                    <a:latin typeface="Arial"/>
                    <a:ea typeface="宋体"/>
                  </a:rPr>
                  <a:t>24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33240" y="1234440"/>
                <a:ext cx="689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Arial"/>
                    <a:ea typeface="宋体"/>
                  </a:rPr>
                  <a:t>Hitach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25240" y="1785960"/>
                <a:ext cx="383760" cy="301680"/>
              </a:xfrm>
              <a:prstGeom prst="flowChartSummingJunction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4440" y="1135800"/>
                <a:ext cx="579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Fil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437560" y="930240"/>
              <a:ext cx="27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. IC Manufactur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5160" y="2944800"/>
            <a:ext cx="4120920" cy="3548880"/>
            <a:chOff x="65160" y="2944800"/>
            <a:chExt cx="4120920" cy="3548880"/>
          </a:xfrm>
        </p:grpSpPr>
        <p:pic>
          <p:nvPicPr>
            <p:cNvPr id="430" name="" descr=""/>
            <p:cNvPicPr/>
            <p:nvPr/>
          </p:nvPicPr>
          <p:blipFill>
            <a:blip r:embed="rId18"/>
            <a:stretch/>
          </p:blipFill>
          <p:spPr>
            <a:xfrm>
              <a:off x="65160" y="2944800"/>
              <a:ext cx="4120920" cy="30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157760" y="60339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. IC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681440" y="2496960"/>
            <a:ext cx="3530160" cy="1496880"/>
            <a:chOff x="4681440" y="2496960"/>
            <a:chExt cx="3530160" cy="1496880"/>
          </a:xfrm>
        </p:grpSpPr>
        <p:sp>
          <p:nvSpPr>
            <p:cNvPr id="433" name=""/>
            <p:cNvSpPr/>
            <p:nvPr/>
          </p:nvSpPr>
          <p:spPr>
            <a:xfrm>
              <a:off x="7550280" y="2772720"/>
              <a:ext cx="636840" cy="496800"/>
            </a:xfrm>
            <a:prstGeom prst="rect">
              <a:avLst/>
            </a:prstGeom>
            <a:gradFill rotWithShape="0">
              <a:gsLst>
                <a:gs pos="0">
                  <a:srgbClr val="aec9da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16760" y="2772720"/>
              <a:ext cx="1167840" cy="496800"/>
            </a:xfrm>
            <a:prstGeom prst="rect">
              <a:avLst/>
            </a:prstGeom>
            <a:gradFill rotWithShape="0">
              <a:gsLst>
                <a:gs pos="0">
                  <a:srgbClr val="aec9da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82880" y="2772720"/>
              <a:ext cx="1167840" cy="496800"/>
            </a:xfrm>
            <a:prstGeom prst="rect">
              <a:avLst/>
            </a:prstGeom>
            <a:gradFill rotWithShape="0">
              <a:gsLst>
                <a:gs pos="0">
                  <a:srgbClr val="aec9da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51080" y="2772720"/>
              <a:ext cx="265320" cy="4968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04360" y="2772720"/>
              <a:ext cx="159120" cy="463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4600" y="2772720"/>
              <a:ext cx="265320" cy="22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37880" y="2772720"/>
              <a:ext cx="159120" cy="211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81440" y="3269880"/>
              <a:ext cx="3506040" cy="723960"/>
            </a:xfrm>
            <a:custGeom>
              <a:avLst/>
              <a:gdLst/>
              <a:ahLst/>
              <a:rect l="l" t="t" r="r" b="b"/>
              <a:pathLst>
                <a:path w="3168" h="768">
                  <a:moveTo>
                    <a:pt x="0" y="0"/>
                  </a:moveTo>
                  <a:lnTo>
                    <a:pt x="1344" y="0"/>
                  </a:lnTo>
                  <a:lnTo>
                    <a:pt x="1392" y="384"/>
                  </a:lnTo>
                  <a:lnTo>
                    <a:pt x="1776" y="384"/>
                  </a:lnTo>
                  <a:lnTo>
                    <a:pt x="1824" y="0"/>
                  </a:lnTo>
                  <a:lnTo>
                    <a:pt x="3168" y="0"/>
                  </a:lnTo>
                  <a:lnTo>
                    <a:pt x="3168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50280" y="2953080"/>
              <a:ext cx="640080" cy="316800"/>
            </a:xfrm>
            <a:custGeom>
              <a:avLst/>
              <a:gdLst/>
              <a:ahLst/>
              <a:rect l="l" t="t" r="r" b="b"/>
              <a:pathLst>
                <a:path w="578" h="336">
                  <a:moveTo>
                    <a:pt x="576" y="336"/>
                  </a:moveTo>
                  <a:cubicBezTo>
                    <a:pt x="577" y="330"/>
                    <a:pt x="578" y="317"/>
                    <a:pt x="578" y="317"/>
                  </a:cubicBezTo>
                  <a:lnTo>
                    <a:pt x="576" y="288"/>
                  </a:lnTo>
                  <a:lnTo>
                    <a:pt x="240" y="288"/>
                  </a:lnTo>
                  <a:lnTo>
                    <a:pt x="240" y="144"/>
                  </a:lnTo>
                  <a:lnTo>
                    <a:pt x="234" y="96"/>
                  </a:lnTo>
                  <a:lnTo>
                    <a:pt x="192" y="48"/>
                  </a:lnTo>
                  <a:lnTo>
                    <a:pt x="152" y="2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17840" y="2953080"/>
              <a:ext cx="1168200" cy="31680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336"/>
                  </a:moveTo>
                  <a:lnTo>
                    <a:pt x="0" y="288"/>
                  </a:lnTo>
                  <a:lnTo>
                    <a:pt x="864" y="288"/>
                  </a:lnTo>
                  <a:lnTo>
                    <a:pt x="864" y="192"/>
                  </a:lnTo>
                  <a:lnTo>
                    <a:pt x="867" y="143"/>
                  </a:lnTo>
                  <a:lnTo>
                    <a:pt x="881" y="101"/>
                  </a:lnTo>
                  <a:lnTo>
                    <a:pt x="914" y="47"/>
                  </a:lnTo>
                  <a:lnTo>
                    <a:pt x="962" y="6"/>
                  </a:lnTo>
                  <a:lnTo>
                    <a:pt x="1008" y="0"/>
                  </a:lnTo>
                  <a:lnTo>
                    <a:pt x="1056" y="0"/>
                  </a:lnTo>
                  <a:lnTo>
                    <a:pt x="1056" y="48"/>
                  </a:lnTo>
                  <a:lnTo>
                    <a:pt x="1056" y="33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84320" y="2953080"/>
              <a:ext cx="1168200" cy="31680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336"/>
                  </a:moveTo>
                  <a:lnTo>
                    <a:pt x="0" y="288"/>
                  </a:lnTo>
                  <a:lnTo>
                    <a:pt x="336" y="288"/>
                  </a:lnTo>
                  <a:lnTo>
                    <a:pt x="336" y="192"/>
                  </a:lnTo>
                  <a:lnTo>
                    <a:pt x="340" y="142"/>
                  </a:lnTo>
                  <a:lnTo>
                    <a:pt x="346" y="100"/>
                  </a:lnTo>
                  <a:lnTo>
                    <a:pt x="388" y="44"/>
                  </a:lnTo>
                  <a:lnTo>
                    <a:pt x="436" y="8"/>
                  </a:lnTo>
                  <a:lnTo>
                    <a:pt x="480" y="0"/>
                  </a:lnTo>
                  <a:lnTo>
                    <a:pt x="864" y="0"/>
                  </a:lnTo>
                  <a:lnTo>
                    <a:pt x="914" y="10"/>
                  </a:lnTo>
                  <a:lnTo>
                    <a:pt x="954" y="38"/>
                  </a:lnTo>
                  <a:lnTo>
                    <a:pt x="982" y="64"/>
                  </a:lnTo>
                  <a:lnTo>
                    <a:pt x="998" y="92"/>
                  </a:lnTo>
                  <a:lnTo>
                    <a:pt x="1008" y="144"/>
                  </a:lnTo>
                  <a:lnTo>
                    <a:pt x="1008" y="288"/>
                  </a:lnTo>
                  <a:lnTo>
                    <a:pt x="1056" y="288"/>
                  </a:lnTo>
                  <a:lnTo>
                    <a:pt x="1056" y="336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82880" y="3269880"/>
              <a:ext cx="3506040" cy="4071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84320" y="3269880"/>
              <a:ext cx="1752120" cy="452160"/>
            </a:xfrm>
            <a:custGeom>
              <a:avLst/>
              <a:gdLst/>
              <a:ahLst/>
              <a:rect l="l" t="t" r="r" b="b"/>
              <a:pathLst>
                <a:path w="1584" h="480">
                  <a:moveTo>
                    <a:pt x="1584" y="384"/>
                  </a:moveTo>
                  <a:lnTo>
                    <a:pt x="1584" y="432"/>
                  </a:lnTo>
                  <a:lnTo>
                    <a:pt x="1536" y="480"/>
                  </a:lnTo>
                  <a:lnTo>
                    <a:pt x="48" y="480"/>
                  </a:lnTo>
                  <a:lnTo>
                    <a:pt x="0" y="432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92" y="384"/>
                  </a:lnTo>
                  <a:lnTo>
                    <a:pt x="1584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22600" y="354168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-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36440" y="3269880"/>
              <a:ext cx="1752480" cy="452160"/>
            </a:xfrm>
            <a:custGeom>
              <a:avLst/>
              <a:gdLst/>
              <a:ahLst/>
              <a:rect l="l" t="t" r="r" b="b"/>
              <a:pathLst>
                <a:path w="1584" h="480">
                  <a:moveTo>
                    <a:pt x="1584" y="384"/>
                  </a:moveTo>
                  <a:lnTo>
                    <a:pt x="1584" y="432"/>
                  </a:lnTo>
                  <a:lnTo>
                    <a:pt x="1536" y="480"/>
                  </a:lnTo>
                  <a:lnTo>
                    <a:pt x="48" y="480"/>
                  </a:lnTo>
                  <a:lnTo>
                    <a:pt x="0" y="432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92" y="384"/>
                  </a:lnTo>
                  <a:lnTo>
                    <a:pt x="1584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87120" y="354168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-W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9120" y="3224880"/>
              <a:ext cx="635400" cy="4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13880" y="2998080"/>
              <a:ext cx="426240" cy="22644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50000">
                  <a:srgbClr val="b1c0ee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233120" y="2998080"/>
              <a:ext cx="424800" cy="22644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50000">
                  <a:srgbClr val="b1c0ee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53240" y="2997000"/>
              <a:ext cx="110520" cy="22788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40120" y="2998080"/>
              <a:ext cx="109080" cy="2293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124040" y="2998080"/>
              <a:ext cx="108720" cy="2293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104800" y="2998080"/>
              <a:ext cx="108720" cy="2293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3" y="0"/>
                  </a:moveTo>
                  <a:cubicBezTo>
                    <a:pt x="2" y="8"/>
                    <a:pt x="0" y="24"/>
                    <a:pt x="0" y="24"/>
                  </a:cubicBezTo>
                  <a:lnTo>
                    <a:pt x="3" y="243"/>
                  </a:lnTo>
                  <a:lnTo>
                    <a:pt x="51" y="243"/>
                  </a:lnTo>
                  <a:lnTo>
                    <a:pt x="99" y="243"/>
                  </a:lnTo>
                  <a:lnTo>
                    <a:pt x="99" y="105"/>
                  </a:lnTo>
                  <a:lnTo>
                    <a:pt x="93" y="77"/>
                  </a:lnTo>
                  <a:lnTo>
                    <a:pt x="84" y="59"/>
                  </a:lnTo>
                  <a:lnTo>
                    <a:pt x="69" y="39"/>
                  </a:lnTo>
                  <a:lnTo>
                    <a:pt x="54" y="21"/>
                  </a:lnTo>
                  <a:lnTo>
                    <a:pt x="3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684320" y="3269880"/>
              <a:ext cx="582120" cy="319680"/>
              <a:chOff x="4684320" y="3269880"/>
              <a:chExt cx="582120" cy="319680"/>
            </a:xfrm>
          </p:grpSpPr>
          <p:sp>
            <p:nvSpPr>
              <p:cNvPr id="457" name=""/>
              <p:cNvSpPr/>
              <p:nvPr/>
            </p:nvSpPr>
            <p:spPr>
              <a:xfrm>
                <a:off x="4684320" y="3269880"/>
                <a:ext cx="582120" cy="2718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528" y="0"/>
                    </a:moveTo>
                    <a:lnTo>
                      <a:pt x="528" y="57"/>
                    </a:lnTo>
                    <a:lnTo>
                      <a:pt x="522" y="96"/>
                    </a:lnTo>
                    <a:lnTo>
                      <a:pt x="507" y="123"/>
                    </a:lnTo>
                    <a:lnTo>
                      <a:pt x="480" y="144"/>
                    </a:lnTo>
                    <a:lnTo>
                      <a:pt x="384" y="144"/>
                    </a:lnTo>
                    <a:lnTo>
                      <a:pt x="381" y="201"/>
                    </a:lnTo>
                    <a:lnTo>
                      <a:pt x="372" y="234"/>
                    </a:lnTo>
                    <a:lnTo>
                      <a:pt x="360" y="264"/>
                    </a:lnTo>
                    <a:lnTo>
                      <a:pt x="336" y="288"/>
                    </a:lnTo>
                    <a:lnTo>
                      <a:pt x="0" y="2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94120" y="3313080"/>
                <a:ext cx="334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  <a:ea typeface="宋体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586840" y="3269880"/>
              <a:ext cx="582120" cy="319680"/>
              <a:chOff x="5586840" y="3269880"/>
              <a:chExt cx="582120" cy="319680"/>
            </a:xfrm>
          </p:grpSpPr>
          <p:sp>
            <p:nvSpPr>
              <p:cNvPr id="460" name=""/>
              <p:cNvSpPr/>
              <p:nvPr/>
            </p:nvSpPr>
            <p:spPr>
              <a:xfrm flipH="1">
                <a:off x="5586480" y="3269880"/>
                <a:ext cx="582120" cy="2718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528" y="0"/>
                    </a:moveTo>
                    <a:lnTo>
                      <a:pt x="528" y="57"/>
                    </a:lnTo>
                    <a:lnTo>
                      <a:pt x="522" y="96"/>
                    </a:lnTo>
                    <a:lnTo>
                      <a:pt x="507" y="123"/>
                    </a:lnTo>
                    <a:lnTo>
                      <a:pt x="480" y="144"/>
                    </a:lnTo>
                    <a:lnTo>
                      <a:pt x="384" y="144"/>
                    </a:lnTo>
                    <a:lnTo>
                      <a:pt x="381" y="201"/>
                    </a:lnTo>
                    <a:lnTo>
                      <a:pt x="372" y="234"/>
                    </a:lnTo>
                    <a:lnTo>
                      <a:pt x="360" y="264"/>
                    </a:lnTo>
                    <a:lnTo>
                      <a:pt x="336" y="288"/>
                    </a:lnTo>
                    <a:lnTo>
                      <a:pt x="0" y="2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641560" y="3313080"/>
                <a:ext cx="334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  <a:ea typeface="宋体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702120" y="3269880"/>
              <a:ext cx="583920" cy="319680"/>
              <a:chOff x="6702120" y="3269880"/>
              <a:chExt cx="583920" cy="319680"/>
            </a:xfrm>
          </p:grpSpPr>
          <p:sp>
            <p:nvSpPr>
              <p:cNvPr id="463" name=""/>
              <p:cNvSpPr/>
              <p:nvPr/>
            </p:nvSpPr>
            <p:spPr>
              <a:xfrm>
                <a:off x="6702120" y="3269880"/>
                <a:ext cx="583920" cy="271800"/>
              </a:xfrm>
              <a:custGeom>
                <a:avLst/>
                <a:gdLst/>
                <a:ahLst/>
                <a:rect l="l" t="t" r="r" b="b"/>
                <a:pathLst>
                  <a:path w="528" h="288">
                    <a:moveTo>
                      <a:pt x="528" y="0"/>
                    </a:moveTo>
                    <a:lnTo>
                      <a:pt x="528" y="57"/>
                    </a:lnTo>
                    <a:lnTo>
                      <a:pt x="522" y="96"/>
                    </a:lnTo>
                    <a:lnTo>
                      <a:pt x="507" y="123"/>
                    </a:lnTo>
                    <a:lnTo>
                      <a:pt x="480" y="144"/>
                    </a:lnTo>
                    <a:lnTo>
                      <a:pt x="384" y="144"/>
                    </a:lnTo>
                    <a:lnTo>
                      <a:pt x="381" y="201"/>
                    </a:lnTo>
                    <a:lnTo>
                      <a:pt x="372" y="234"/>
                    </a:lnTo>
                    <a:lnTo>
                      <a:pt x="360" y="264"/>
                    </a:lnTo>
                    <a:lnTo>
                      <a:pt x="336" y="288"/>
                    </a:lnTo>
                    <a:lnTo>
                      <a:pt x="0" y="2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812640" y="3313080"/>
                <a:ext cx="342360" cy="27648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N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  <a:ea typeface="宋体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H="1">
              <a:off x="7605000" y="3269880"/>
              <a:ext cx="583920" cy="2718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528" y="0"/>
                  </a:moveTo>
                  <a:lnTo>
                    <a:pt x="528" y="57"/>
                  </a:lnTo>
                  <a:lnTo>
                    <a:pt x="522" y="96"/>
                  </a:lnTo>
                  <a:lnTo>
                    <a:pt x="507" y="123"/>
                  </a:lnTo>
                  <a:lnTo>
                    <a:pt x="480" y="144"/>
                  </a:lnTo>
                  <a:lnTo>
                    <a:pt x="384" y="144"/>
                  </a:lnTo>
                  <a:lnTo>
                    <a:pt x="381" y="201"/>
                  </a:lnTo>
                  <a:lnTo>
                    <a:pt x="372" y="234"/>
                  </a:lnTo>
                  <a:lnTo>
                    <a:pt x="360" y="264"/>
                  </a:lnTo>
                  <a:lnTo>
                    <a:pt x="336" y="288"/>
                  </a:lnTo>
                  <a:lnTo>
                    <a:pt x="0" y="288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850880" y="3314880"/>
              <a:ext cx="342360" cy="2764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宋体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26920" y="3224880"/>
              <a:ext cx="636840" cy="4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13880" y="2998080"/>
              <a:ext cx="426240" cy="4644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843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445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21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3120" y="2998080"/>
              <a:ext cx="424800" cy="4644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64120" y="3269880"/>
              <a:ext cx="424800" cy="4500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3480" y="2727720"/>
              <a:ext cx="36684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53480" y="2545920"/>
              <a:ext cx="366840" cy="1814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3480" y="2500920"/>
              <a:ext cx="36684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23720" y="2727720"/>
              <a:ext cx="111492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23720" y="2545920"/>
              <a:ext cx="1114920" cy="1814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23720" y="2500920"/>
              <a:ext cx="111492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58880" y="254592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tal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69680" y="3269880"/>
              <a:ext cx="531000" cy="40716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0" y="48"/>
                  </a:moveTo>
                  <a:lnTo>
                    <a:pt x="48" y="432"/>
                  </a:lnTo>
                  <a:lnTo>
                    <a:pt x="432" y="432"/>
                  </a:lnTo>
                  <a:lnTo>
                    <a:pt x="480" y="48"/>
                  </a:lnTo>
                  <a:lnTo>
                    <a:pt x="480" y="0"/>
                  </a:lnTo>
                  <a:lnTo>
                    <a:pt x="453" y="15"/>
                  </a:lnTo>
                  <a:lnTo>
                    <a:pt x="432" y="48"/>
                  </a:lnTo>
                  <a:lnTo>
                    <a:pt x="384" y="384"/>
                  </a:lnTo>
                  <a:lnTo>
                    <a:pt x="96" y="384"/>
                  </a:lnTo>
                  <a:lnTo>
                    <a:pt x="48" y="48"/>
                  </a:lnTo>
                  <a:lnTo>
                    <a:pt x="30" y="2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68640" y="2771280"/>
              <a:ext cx="265320" cy="49716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21920" y="2771280"/>
              <a:ext cx="159120" cy="4654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95600" y="2772720"/>
              <a:ext cx="266760" cy="22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50320" y="2772720"/>
              <a:ext cx="157680" cy="211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48040" y="2771280"/>
              <a:ext cx="265320" cy="4960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01320" y="2771280"/>
              <a:ext cx="159120" cy="4640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81440" y="27262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1440" y="2544480"/>
              <a:ext cx="388080" cy="1897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1440" y="24994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91560" y="2771280"/>
              <a:ext cx="263880" cy="4960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43040" y="2771280"/>
              <a:ext cx="160920" cy="4640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bf3df"/>
                </a:gs>
                <a:gs pos="100000">
                  <a:srgbClr val="00cc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23520" y="27262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23520" y="2544480"/>
              <a:ext cx="388080" cy="1897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23520" y="2499480"/>
              <a:ext cx="388080" cy="46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18000" y="2723760"/>
              <a:ext cx="366840" cy="446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18000" y="2541960"/>
              <a:ext cx="366840" cy="18180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18000" y="2496960"/>
              <a:ext cx="366840" cy="45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054040" y="4006800"/>
            <a:ext cx="3163320" cy="2394000"/>
            <a:chOff x="5054040" y="4006800"/>
            <a:chExt cx="3163320" cy="2394000"/>
          </a:xfrm>
        </p:grpSpPr>
        <p:pic>
          <p:nvPicPr>
            <p:cNvPr id="500" name="" descr=""/>
            <p:cNvPicPr/>
            <p:nvPr/>
          </p:nvPicPr>
          <p:blipFill>
            <a:blip r:embed="rId19"/>
            <a:stretch/>
          </p:blipFill>
          <p:spPr>
            <a:xfrm>
              <a:off x="5213520" y="4006800"/>
              <a:ext cx="278604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054040" y="4087800"/>
              <a:ext cx="31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3. Fabricated Waf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 rot="16200000">
            <a:off x="1000080" y="2471400"/>
            <a:ext cx="908280" cy="415800"/>
          </a:xfrm>
          <a:custGeom>
            <a:avLst/>
            <a:gdLst>
              <a:gd name="textAreaLeft" fmla="*/ 158760 w 908280"/>
              <a:gd name="textAreaRight" fmla="*/ 658440 w 9082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8140320" y="2711160"/>
            <a:ext cx="1303560" cy="385920"/>
          </a:xfrm>
          <a:custGeom>
            <a:avLst/>
            <a:gdLst>
              <a:gd name="textAreaLeft" fmla="*/ 227880 w 1303560"/>
              <a:gd name="textAreaRight" fmla="*/ 945000 w 1303560"/>
              <a:gd name="textAreaTop" fmla="*/ 51480 h 385920"/>
              <a:gd name="textAreaBottom" fmla="*/ 334440 h 385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66680" y="4289400"/>
            <a:ext cx="7162920" cy="1523880"/>
          </a:xfrm>
          <a:prstGeom prst="rect">
            <a:avLst/>
          </a:prstGeom>
          <a:solidFill>
            <a:srgbClr val="e1fbf7"/>
          </a:solidFill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1063800"/>
            <a:ext cx="7162920" cy="335268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miconductor Data Flo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47920" y="4873680"/>
            <a:ext cx="1218960" cy="99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4797360"/>
            <a:ext cx="1218960" cy="99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873680"/>
            <a:ext cx="1218960" cy="990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S/C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5102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1d9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2282760"/>
            <a:ext cx="6095880" cy="304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P (MES, iEMS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2054160"/>
            <a:ext cx="12193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f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1978200"/>
            <a:ext cx="12193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ab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1596960"/>
            <a:ext cx="52578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ally Defect inspection and re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spection  tool KLA,compass) review tool: SEM Leica(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2587680"/>
            <a:ext cx="52578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ally ADI, AEI, CD,etc  measurement called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3349800"/>
            <a:ext cx="121896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00200" y="3349800"/>
            <a:ext cx="12193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KLAR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00800" y="3349800"/>
            <a:ext cx="12193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86400" y="5102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1d9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9680" y="197820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2892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34320" y="23590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349800"/>
            <a:ext cx="1219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Q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2397240"/>
            <a:ext cx="0" cy="95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81280" y="4340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06680" y="987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4645080"/>
            <a:ext cx="2819520" cy="2286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1368360"/>
            <a:ext cx="2819160" cy="228600"/>
          </a:xfrm>
          <a:custGeom>
            <a:avLst/>
            <a:gdLst>
              <a:gd name="textAreaLeft" fmla="*/ 440280 w 2819160"/>
              <a:gd name="textAreaRight" fmla="*/ 2467080 w 2819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17840" y="5910120"/>
            <a:ext cx="59734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so reliability, memory bit, QC and oth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tisticians at SM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46920" y="1222200"/>
            <a:ext cx="2960640" cy="2047680"/>
            <a:chOff x="6046920" y="1222200"/>
            <a:chExt cx="2960640" cy="2047680"/>
          </a:xfrm>
        </p:grpSpPr>
        <p:pic>
          <p:nvPicPr>
            <p:cNvPr id="532" name="" descr=""/>
            <p:cNvPicPr/>
            <p:nvPr/>
          </p:nvPicPr>
          <p:blipFill>
            <a:blip r:embed="rId1"/>
            <a:stretch/>
          </p:blipFill>
          <p:spPr>
            <a:xfrm>
              <a:off x="6175440" y="1712520"/>
              <a:ext cx="2530440" cy="155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3" name=""/>
            <p:cNvSpPr/>
            <p:nvPr/>
          </p:nvSpPr>
          <p:spPr>
            <a:xfrm>
              <a:off x="6046920" y="1222200"/>
              <a:ext cx="29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宋体"/>
                </a:rPr>
                <a:t>Reliability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091680" y="1262160"/>
            <a:ext cx="2793600" cy="2019240"/>
            <a:chOff x="3091680" y="1262160"/>
            <a:chExt cx="2793600" cy="2019240"/>
          </a:xfrm>
        </p:grpSpPr>
        <p:grpSp>
          <p:nvGrpSpPr>
            <p:cNvPr id="535" name=""/>
            <p:cNvGrpSpPr/>
            <p:nvPr/>
          </p:nvGrpSpPr>
          <p:grpSpPr>
            <a:xfrm>
              <a:off x="3174840" y="1710000"/>
              <a:ext cx="2710440" cy="1571400"/>
              <a:chOff x="3174840" y="1710000"/>
              <a:chExt cx="2710440" cy="1571400"/>
            </a:xfrm>
          </p:grpSpPr>
          <p:graphicFrame>
            <p:nvGraphicFramePr>
              <p:cNvPr id="536" name=""/>
              <p:cNvGraphicFramePr/>
              <p:nvPr/>
            </p:nvGraphicFramePr>
            <p:xfrm>
              <a:off x="3174840" y="1710000"/>
              <a:ext cx="2616120" cy="1571400"/>
            </p:xfrm>
            <a:graphic>
              <a:graphicData uri="http://schemas.openxmlformats.org/presentationml/2006/ole">
                <p:oleObj progId="Excel.Sheet.12" r:id="rId2" spid="">
                  <p:embed/>
                  <p:pic>
                    <p:nvPicPr>
                      <p:cNvPr id="53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174840" y="1710000"/>
                        <a:ext cx="2616120" cy="1571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38" name=""/>
              <p:cNvSpPr/>
              <p:nvPr/>
            </p:nvSpPr>
            <p:spPr>
              <a:xfrm rot="2100000">
                <a:off x="5572440" y="1987200"/>
                <a:ext cx="152640" cy="606240"/>
              </a:xfrm>
              <a:prstGeom prst="ellipse">
                <a:avLst/>
              </a:prstGeom>
              <a:noFill/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091680" y="126216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宋体"/>
                </a:rPr>
                <a:t>Quality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017720" y="3379680"/>
            <a:ext cx="7221240" cy="3052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9160" y="37101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371400" y="6086520"/>
            <a:ext cx="34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14760" y="4751280"/>
            <a:ext cx="3111480" cy="1152720"/>
          </a:xfrm>
          <a:custGeom>
            <a:avLst/>
            <a:gdLst/>
            <a:ahLst/>
            <a:rect l="l" t="t" r="r" b="b"/>
            <a:pathLst>
              <a:path w="1728" h="622">
                <a:moveTo>
                  <a:pt x="0" y="611"/>
                </a:moveTo>
                <a:cubicBezTo>
                  <a:pt x="128" y="616"/>
                  <a:pt x="256" y="622"/>
                  <a:pt x="344" y="579"/>
                </a:cubicBezTo>
                <a:cubicBezTo>
                  <a:pt x="432" y="536"/>
                  <a:pt x="465" y="404"/>
                  <a:pt x="528" y="355"/>
                </a:cubicBezTo>
                <a:cubicBezTo>
                  <a:pt x="591" y="306"/>
                  <a:pt x="663" y="312"/>
                  <a:pt x="720" y="283"/>
                </a:cubicBezTo>
                <a:cubicBezTo>
                  <a:pt x="777" y="254"/>
                  <a:pt x="797" y="207"/>
                  <a:pt x="872" y="179"/>
                </a:cubicBezTo>
                <a:cubicBezTo>
                  <a:pt x="947" y="151"/>
                  <a:pt x="1093" y="142"/>
                  <a:pt x="1168" y="115"/>
                </a:cubicBezTo>
                <a:cubicBezTo>
                  <a:pt x="1243" y="88"/>
                  <a:pt x="1256" y="38"/>
                  <a:pt x="1320" y="19"/>
                </a:cubicBezTo>
                <a:cubicBezTo>
                  <a:pt x="1384" y="0"/>
                  <a:pt x="1493" y="3"/>
                  <a:pt x="1552" y="3"/>
                </a:cubicBezTo>
                <a:cubicBezTo>
                  <a:pt x="1611" y="3"/>
                  <a:pt x="1643" y="18"/>
                  <a:pt x="1672" y="19"/>
                </a:cubicBezTo>
                <a:cubicBezTo>
                  <a:pt x="1701" y="20"/>
                  <a:pt x="1720" y="12"/>
                  <a:pt x="1728" y="1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02520" y="4106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宋体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06520" y="60642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45000" y="48783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iginal Yield R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68760" y="4516560"/>
            <a:ext cx="3147840" cy="1058760"/>
          </a:xfrm>
          <a:custGeom>
            <a:avLst/>
            <a:gdLst/>
            <a:ahLst/>
            <a:rect l="l" t="t" r="r" b="b"/>
            <a:pathLst>
              <a:path w="1709" h="668">
                <a:moveTo>
                  <a:pt x="13" y="60"/>
                </a:moveTo>
                <a:cubicBezTo>
                  <a:pt x="6" y="50"/>
                  <a:pt x="0" y="41"/>
                  <a:pt x="61" y="36"/>
                </a:cubicBezTo>
                <a:cubicBezTo>
                  <a:pt x="122" y="31"/>
                  <a:pt x="282" y="0"/>
                  <a:pt x="381" y="28"/>
                </a:cubicBezTo>
                <a:cubicBezTo>
                  <a:pt x="480" y="56"/>
                  <a:pt x="572" y="133"/>
                  <a:pt x="653" y="204"/>
                </a:cubicBezTo>
                <a:cubicBezTo>
                  <a:pt x="734" y="275"/>
                  <a:pt x="782" y="389"/>
                  <a:pt x="869" y="452"/>
                </a:cubicBezTo>
                <a:cubicBezTo>
                  <a:pt x="956" y="515"/>
                  <a:pt x="1076" y="549"/>
                  <a:pt x="1173" y="580"/>
                </a:cubicBezTo>
                <a:cubicBezTo>
                  <a:pt x="1270" y="611"/>
                  <a:pt x="1364" y="621"/>
                  <a:pt x="1453" y="636"/>
                </a:cubicBezTo>
                <a:cubicBezTo>
                  <a:pt x="1542" y="651"/>
                  <a:pt x="1625" y="659"/>
                  <a:pt x="1709" y="66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06360" y="445284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Our Mission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614760" y="4040280"/>
            <a:ext cx="4224240" cy="1834560"/>
            <a:chOff x="3614760" y="4040280"/>
            <a:chExt cx="4224240" cy="1834560"/>
          </a:xfrm>
        </p:grpSpPr>
        <p:sp>
          <p:nvSpPr>
            <p:cNvPr id="550" name=""/>
            <p:cNvSpPr/>
            <p:nvPr/>
          </p:nvSpPr>
          <p:spPr>
            <a:xfrm>
              <a:off x="3614760" y="4497120"/>
              <a:ext cx="3111480" cy="1377720"/>
            </a:xfrm>
            <a:custGeom>
              <a:avLst/>
              <a:gdLst/>
              <a:ahLst/>
              <a:rect l="l" t="t" r="r" b="b"/>
              <a:pathLst>
                <a:path w="1752" h="745">
                  <a:moveTo>
                    <a:pt x="0" y="741"/>
                  </a:moveTo>
                  <a:cubicBezTo>
                    <a:pt x="114" y="743"/>
                    <a:pt x="228" y="745"/>
                    <a:pt x="288" y="725"/>
                  </a:cubicBezTo>
                  <a:cubicBezTo>
                    <a:pt x="348" y="705"/>
                    <a:pt x="336" y="657"/>
                    <a:pt x="360" y="621"/>
                  </a:cubicBezTo>
                  <a:cubicBezTo>
                    <a:pt x="384" y="585"/>
                    <a:pt x="412" y="538"/>
                    <a:pt x="432" y="509"/>
                  </a:cubicBezTo>
                  <a:cubicBezTo>
                    <a:pt x="452" y="480"/>
                    <a:pt x="459" y="478"/>
                    <a:pt x="480" y="445"/>
                  </a:cubicBezTo>
                  <a:cubicBezTo>
                    <a:pt x="501" y="412"/>
                    <a:pt x="508" y="352"/>
                    <a:pt x="560" y="309"/>
                  </a:cubicBezTo>
                  <a:cubicBezTo>
                    <a:pt x="612" y="266"/>
                    <a:pt x="737" y="228"/>
                    <a:pt x="792" y="189"/>
                  </a:cubicBezTo>
                  <a:cubicBezTo>
                    <a:pt x="847" y="150"/>
                    <a:pt x="805" y="108"/>
                    <a:pt x="888" y="77"/>
                  </a:cubicBezTo>
                  <a:cubicBezTo>
                    <a:pt x="971" y="46"/>
                    <a:pt x="1144" y="10"/>
                    <a:pt x="1288" y="5"/>
                  </a:cubicBezTo>
                  <a:cubicBezTo>
                    <a:pt x="1432" y="0"/>
                    <a:pt x="1672" y="38"/>
                    <a:pt x="1752" y="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03880" y="5438520"/>
              <a:ext cx="0" cy="147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81640" y="5319360"/>
              <a:ext cx="0" cy="149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3440" y="5119560"/>
              <a:ext cx="0" cy="244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87920" y="5046480"/>
              <a:ext cx="0" cy="27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15080" y="4930560"/>
              <a:ext cx="0" cy="310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27760" y="4871880"/>
              <a:ext cx="0" cy="26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56360" y="4613040"/>
              <a:ext cx="0" cy="433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83080" y="4582800"/>
              <a:ext cx="0" cy="418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11960" y="4571640"/>
              <a:ext cx="0" cy="399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32560" y="4565520"/>
              <a:ext cx="0" cy="406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59280" y="4511520"/>
              <a:ext cx="0" cy="418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94280" y="4511520"/>
              <a:ext cx="0" cy="282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22800" y="4509720"/>
              <a:ext cx="0" cy="258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00600" y="4964040"/>
              <a:ext cx="0" cy="33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41880" y="4687560"/>
              <a:ext cx="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43760" y="454320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56440" y="4527360"/>
              <a:ext cx="0" cy="204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70560" y="453528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55760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91240" y="4565520"/>
              <a:ext cx="0" cy="202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26240" y="4584600"/>
              <a:ext cx="0" cy="204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15080" y="4040280"/>
              <a:ext cx="292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Improved Yield R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32240" y="5541840"/>
              <a:ext cx="0" cy="155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26360" y="1230480"/>
            <a:ext cx="2632680" cy="2018880"/>
            <a:chOff x="126360" y="1230480"/>
            <a:chExt cx="2632680" cy="2018880"/>
          </a:xfrm>
        </p:grpSpPr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208080" y="1776240"/>
              <a:ext cx="2550960" cy="147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6" name=""/>
            <p:cNvSpPr/>
            <p:nvPr/>
          </p:nvSpPr>
          <p:spPr>
            <a:xfrm>
              <a:off x="126360" y="123048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宋体"/>
                </a:rPr>
                <a:t>Yield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 Usage at SM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056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线性模型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非线性模型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广义线性模型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inear model for inline moni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asic mixed effect model applied to semiconducto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rious correlation analy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统计图形：阐述清楚统计原理与图形元素的对应关系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ful and interesting plots: histogram w/ splits, plot w/ table (Excel like), wafer map (3-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非参数统计：各种基于秩的检验以及光滑方法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mooth spline usage, EWMA Control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多元统计：一方面展示已有方法的应用，如主成分、聚类等，另一方面体现出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在矩阵运算方面的简便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fer pattern classification: clustering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7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数据挖掘和机器学习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: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Logistic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回归、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kN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以及神经网络、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SVM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等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Logistic regression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程序接口：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C/Fortran/C++/Java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等或者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 (D)COM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Rserv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ython / VB / Delphi / mySQL linking with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 (D)COM under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150400" y="1365120"/>
            <a:ext cx="615600" cy="452520"/>
          </a:xfrm>
          <a:prstGeom prst="rightArrow">
            <a:avLst>
              <a:gd name="adj1" fmla="val 50000"/>
              <a:gd name="adj2" fmla="val 34010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150400" y="2179800"/>
            <a:ext cx="615600" cy="452160"/>
          </a:xfrm>
          <a:prstGeom prst="rightArrow">
            <a:avLst>
              <a:gd name="adj1" fmla="val 50000"/>
              <a:gd name="adj2" fmla="val 34037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50400" y="3051000"/>
            <a:ext cx="615600" cy="452520"/>
          </a:xfrm>
          <a:prstGeom prst="rightArrow">
            <a:avLst>
              <a:gd name="adj1" fmla="val 50000"/>
              <a:gd name="adj2" fmla="val 34010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150400" y="3900600"/>
            <a:ext cx="615600" cy="452160"/>
          </a:xfrm>
          <a:prstGeom prst="rightArrow">
            <a:avLst>
              <a:gd name="adj1" fmla="val 50000"/>
              <a:gd name="adj2" fmla="val 34037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182080" y="5477040"/>
            <a:ext cx="615960" cy="452160"/>
          </a:xfrm>
          <a:prstGeom prst="rightArrow">
            <a:avLst>
              <a:gd name="adj1" fmla="val 50000"/>
              <a:gd name="adj2" fmla="val 34057"/>
            </a:avLst>
          </a:prstGeom>
          <a:solidFill>
            <a:srgbClr val="e1fb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560" y="76320"/>
            <a:ext cx="854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mb the Mountain Peak of R, Fighting 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21248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99"/>
              </a:solidFill>
              <a:latin typeface="Times New Roman"/>
              <a:ea typeface="宋体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5245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R logo"/>
          <p:cNvPicPr/>
          <p:nvPr/>
        </p:nvPicPr>
        <p:blipFill>
          <a:blip r:embed="rId2"/>
          <a:stretch/>
        </p:blipFill>
        <p:spPr>
          <a:xfrm>
            <a:off x="6165720" y="1060560"/>
            <a:ext cx="952560" cy="7239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5657760" y="3416400"/>
            <a:ext cx="596880" cy="672840"/>
          </a:xfrm>
          <a:prstGeom prst="star5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52480" y="1981080"/>
            <a:ext cx="5791320" cy="22860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2117880"/>
            <a:ext cx="5753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90640" y="3260880"/>
            <a:ext cx="563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Q&amp;A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请您提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96160" y="3657600"/>
            <a:ext cx="228600" cy="228600"/>
          </a:xfrm>
          <a:prstGeom prst="rect">
            <a:avLst/>
          </a:prstGeom>
          <a:solidFill>
            <a:srgbClr val="33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48440" y="3809880"/>
            <a:ext cx="228600" cy="228600"/>
          </a:xfrm>
          <a:prstGeom prst="rect">
            <a:avLst/>
          </a:prstGeom>
          <a:solidFill>
            <a:srgbClr val="33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31240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near Model for Inline Moni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985680"/>
            <a:ext cx="7124760" cy="106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line analysis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Automatically examine ALL metrology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Alarm only significant trends and related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613480" y="4325760"/>
            <a:ext cx="3289320" cy="203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599" name=""/>
          <p:cNvGrpSpPr/>
          <p:nvPr/>
        </p:nvGrpSpPr>
        <p:grpSpPr>
          <a:xfrm>
            <a:off x="4064040" y="3645000"/>
            <a:ext cx="1473120" cy="739800"/>
            <a:chOff x="4064040" y="3645000"/>
            <a:chExt cx="1473120" cy="739800"/>
          </a:xfrm>
        </p:grpSpPr>
        <p:sp>
          <p:nvSpPr>
            <p:cNvPr id="600" name=""/>
            <p:cNvSpPr/>
            <p:nvPr/>
          </p:nvSpPr>
          <p:spPr>
            <a:xfrm>
              <a:off x="4216320" y="4003920"/>
              <a:ext cx="1231920" cy="380880"/>
            </a:xfrm>
            <a:prstGeom prst="rightArrow">
              <a:avLst>
                <a:gd name="adj1" fmla="val 50000"/>
                <a:gd name="adj2" fmla="val 808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64040" y="3645000"/>
              <a:ext cx="147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Drill D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587920" y="2063880"/>
            <a:ext cx="3358800" cy="2257200"/>
            <a:chOff x="5587920" y="2063880"/>
            <a:chExt cx="3358800" cy="225720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5587920" y="2063880"/>
              <a:ext cx="335880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6703560" y="3622680"/>
              <a:ext cx="2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40000" y="3647880"/>
              <a:ext cx="5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宋体"/>
                </a:rPr>
                <a:t>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16000" y="2727360"/>
            <a:ext cx="3797280" cy="2276280"/>
            <a:chOff x="216000" y="2727360"/>
            <a:chExt cx="3797280" cy="2276280"/>
          </a:xfrm>
        </p:grpSpPr>
        <p:pic>
          <p:nvPicPr>
            <p:cNvPr id="607" name="" descr=""/>
            <p:cNvPicPr/>
            <p:nvPr/>
          </p:nvPicPr>
          <p:blipFill>
            <a:blip r:embed="rId3"/>
            <a:stretch/>
          </p:blipFill>
          <p:spPr>
            <a:xfrm>
              <a:off x="216000" y="2727360"/>
              <a:ext cx="3797280" cy="22762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608" name=""/>
            <p:cNvSpPr/>
            <p:nvPr/>
          </p:nvSpPr>
          <p:spPr>
            <a:xfrm>
              <a:off x="2463840" y="2727360"/>
              <a:ext cx="800280" cy="127620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8:21:08Z</dcterms:created>
  <dc:creator>刘明</dc:creator>
  <dc:description/>
  <dc:language>en-US</dc:language>
  <cp:lastModifiedBy>Yihui Xie</cp:lastModifiedBy>
  <dcterms:modified xsi:type="dcterms:W3CDTF">2008-12-17T12:57:33Z</dcterms:modified>
  <cp:revision>73</cp:revision>
  <dc:subject>R语言</dc:subject>
  <dc:title>半导体界统计和R的应用</dc:title>
</cp:coreProperties>
</file>