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5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3CE-EDFB-4D76-96EC-61AC573B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AE2-7ED3-4F27-B9F5-2538CBE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59C-3502-46C4-BDC3-A73E74E0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661-C9BD-484A-8EC9-7033FD1F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697E-E180-4677-8935-752BCA7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3E8-EC3C-4732-BE3E-F81BF2D8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EDF9-CD2A-46BC-9175-EC5AAD0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83E-37CA-41C4-ADF5-2EE186D5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8199-6B1B-42A6-BC39-4395997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9B56-47D4-4C74-9C9D-FA6F6D5F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404-66B0-48EB-AB46-F2DA2A7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12C-EEEA-4461-9918-976C4E7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869-8F40-4654-841C-93B9898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2D6-BBDB-4614-9FC6-7AF702D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AFBC-07B2-4630-9500-F4AE88DC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34C1-865D-4B7A-AD3D-9E897A52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E39B-AAE5-4D75-A6EF-4FB6B853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2F8-340C-4E36-B0E0-87AF892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276-6E2B-4F32-B42F-1E2C14A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C5E-4A75-4921-9C70-E6BCB703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48F-3BA8-4DAF-BCBF-39C63CE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EBB-A5EE-4E0A-99A9-707E97C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059-E82B-411D-A0FD-471354A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836-F5DD-4E57-88F7-E7BC61B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3E4F-DB9F-4A65-8CAC-989D7A0EF07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83F-0BAB-4C66-A466-3E9738C51A5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slide" Target="slide2.xml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" Target="slide2.xml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" Target="slide2.xml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基于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软件的统计模拟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奚  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南京财经大学统计系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1279800" y="1072440"/>
            <a:ext cx="247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求解的总算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06960" y="2467080"/>
            <a:ext cx="1371600" cy="795240"/>
            <a:chOff x="6006960" y="2467080"/>
            <a:chExt cx="1371600" cy="795240"/>
          </a:xfrm>
        </p:grpSpPr>
        <p:sp>
          <p:nvSpPr>
            <p:cNvPr id="175" name=""/>
            <p:cNvSpPr/>
            <p:nvPr/>
          </p:nvSpPr>
          <p:spPr>
            <a:xfrm>
              <a:off x="6006960" y="246708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11720" y="259020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关系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成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121440" y="147636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21440" y="197172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验证模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656160"/>
            <a:ext cx="11430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成立次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k=k+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92760" y="1773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2760" y="227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2960" y="1574280"/>
            <a:ext cx="0" cy="317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264080" y="1574640"/>
            <a:ext cx="1028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2760" y="41511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21360" y="3160800"/>
            <a:ext cx="571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92840" y="31608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21440" y="5340240"/>
            <a:ext cx="11430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估计结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k/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06960" y="345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7240" y="3656160"/>
            <a:ext cx="11430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成立次数不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2760" y="3259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06600" y="3459240"/>
            <a:ext cx="137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8560" y="345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06960" y="4151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06960" y="3952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78560" y="3952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06960" y="4349880"/>
            <a:ext cx="1371600" cy="795240"/>
            <a:chOff x="6006960" y="4349880"/>
            <a:chExt cx="1371600" cy="795240"/>
          </a:xfrm>
        </p:grpSpPr>
        <p:sp>
          <p:nvSpPr>
            <p:cNvPr id="197" name=""/>
            <p:cNvSpPr/>
            <p:nvPr/>
          </p:nvSpPr>
          <p:spPr>
            <a:xfrm>
              <a:off x="6006960" y="434988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1720" y="447300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试验次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是否达到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692760" y="51418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78560" y="474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21440" y="5043600"/>
            <a:ext cx="457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49960" y="4448160"/>
            <a:ext cx="571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1440" y="98100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92760" y="127800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70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区间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0,1)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布产生的随机数，对变量  、  概率分布进行统计模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35240" y="1986120"/>
          <a:ext cx="226800" cy="36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986120"/>
                    <a:ext cx="22680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778040" y="1989000"/>
          <a:ext cx="24120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98900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755640" y="2492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变量   、  、  概率分布及模拟程序、命令产生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随机分布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124000" y="2492280"/>
          <a:ext cx="22716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49228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16040" y="2492280"/>
          <a:ext cx="255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6040" y="249228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963880" y="2494080"/>
          <a:ext cx="241200" cy="36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63880" y="249408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55640" y="3284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使用随机产生的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组随机数验证模型中的关系表达式是否成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076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计算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次模拟实验中，使得关系表达式成立的次数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797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当             时，以    作为此人能赶上火车的概率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近似估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60360" y="4997520"/>
          <a:ext cx="787680" cy="2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60360" y="4997520"/>
                    <a:ext cx="7876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800440" y="4797360"/>
          <a:ext cx="212760" cy="54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00440" y="4797360"/>
                    <a:ext cx="2127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843280" y="580536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20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进入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5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58680"/>
            <a:ext cx="7704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dows(7, 3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b = replicate(100, {                       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#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括号内程序重复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9966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 = sample(c(0, 5, 10), 1, prob = c(0.7, 0.2, 0.1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y = sample(c(28, 30, 32, 34), 1, prob = c(0.3, 0.4, 0.2, 0.1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lot(0:40, rep(1, 41), type = "n", xlab = "time", ylab = "",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axes = FALSE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axis(1, 0:40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r = rnorm(1, 30, 2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oints(x, 1, pch = 15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i = 0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while (i &lt;= r) {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i = i + 1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segments(x, 1, x + i, 1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if (x + i &gt;= y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    points(y, 1, pch = 19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    Sys.sleep(0.1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}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points(y, 1, pch = 19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title(ifelse(x + r &lt;= y, "poor... missed the train!", "Bingo!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tched the train!")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Sys.sleep(4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  x + r &gt; 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ean(pr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进入模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685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1268280"/>
            <a:ext cx="5832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软件优秀的随机数模拟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76400" y="2924280"/>
          <a:ext cx="4827600" cy="2728800"/>
        </p:xfrm>
        <a:graphic>
          <a:graphicData uri="http://schemas.openxmlformats.org/drawingml/2006/table">
            <a:tbl>
              <a:tblPr/>
              <a:tblGrid>
                <a:gridCol w="1147680"/>
                <a:gridCol w="1839960"/>
                <a:gridCol w="1839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分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产生随机数序列命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仿宋_GB2312"/>
                        </a:rPr>
                        <a:t>参数设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inom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binom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size, pr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i-squar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chisq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xpon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xp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r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1, df2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rm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orm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mean,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oiss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ois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lamb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udent’s 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df, n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unif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uni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, min, 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258920" y="1773360"/>
            <a:ext cx="6337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生产某概率分布的随机数是实现统计模拟的前提条件，而使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命令可以生成以下常用分布的随机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352440"/>
            <a:ext cx="684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</a:t>
            </a:r>
            <a:r>
              <a:rPr b="1" lang="zh-CN" sz="4200" spc="-1" strike="noStrike">
                <a:solidFill>
                  <a:srgbClr val="3b812f"/>
                </a:solidFill>
                <a:latin typeface="Garamond"/>
              </a:rPr>
              <a:t>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126828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优良的编程环境和编程语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104560"/>
            <a:ext cx="6840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所拥有的好的兼容性、拓展性和强大的内置函数有利于统计模拟的实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357336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高效率的向量运算功能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4426920"/>
            <a:ext cx="6769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拥有的向量运算功能可以大大减少程序运行的时间，提高程序运行的效率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516640"/>
            <a:ext cx="4681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下面以求解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Pi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的程序为例加以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47640" y="1293840"/>
            <a:ext cx="2737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未采用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向量运算功能的程序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2060640"/>
            <a:ext cx="2520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mc1&lt;-function(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set.seed(123457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k&lt;-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x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y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for(i in 1: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if(x[i]^2+y[i]^2&lt;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k&lt;-k+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data.frame(Pi=4*k/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134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8200" y="1312200"/>
            <a:ext cx="2773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引入向量运算功能改进后的程序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5080" y="2205000"/>
            <a:ext cx="2952720" cy="35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mc1&lt;-function(n)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set.seed(123457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k&lt;-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x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y&lt;-runif(n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ff0000"/>
                </a:solidFill>
                <a:latin typeface="Arial"/>
              </a:rPr>
              <a:t>k &lt;- length(x[x^2+y^2 &lt; 1]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data.frame(Pi=4*k/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baseline="-25000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7440" y="378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5229360"/>
            <a:ext cx="6337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--&gt;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下面用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R</a:t>
            </a:r>
            <a:r>
              <a:rPr b="1" lang="zh-CN" sz="3000" spc="-1" strike="noStrike" baseline="-25000">
                <a:solidFill>
                  <a:srgbClr val="ff0000"/>
                </a:solidFill>
                <a:latin typeface="仿宋_GB2312"/>
                <a:ea typeface="仿宋_GB2312"/>
              </a:rPr>
              <a:t>软件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分别执行两个程序，看看有什么差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程序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1  ...... 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程序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352440"/>
            <a:ext cx="684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三、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的统计模拟功能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413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验证的大数定律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1989000"/>
            <a:ext cx="712944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伯努利大数定理—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  是  次独立重复试验中事件  发生的次数。  是事件  在每次试验中发生的概率，则对于任意正数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&gt;0,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839960" y="2421000"/>
          <a:ext cx="28404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421000"/>
                    <a:ext cx="284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54400" y="2492280"/>
          <a:ext cx="201600" cy="2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4400" y="2492280"/>
                    <a:ext cx="20160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97600" y="2378160"/>
          <a:ext cx="338040" cy="35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7600" y="2378160"/>
                    <a:ext cx="338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97600" y="2392200"/>
          <a:ext cx="3384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97600" y="2392200"/>
                    <a:ext cx="338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885080" y="2379600"/>
          <a:ext cx="3319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2379600"/>
                    <a:ext cx="3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940360" y="2781360"/>
          <a:ext cx="247680" cy="2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278136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843280" y="3068640"/>
          <a:ext cx="234000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43280" y="3068640"/>
                    <a:ext cx="2340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969840" y="3575160"/>
            <a:ext cx="70581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辛钦定理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随机变量             相互独立，服从同一分布，且具有数学期望        ，       ，则对于任意正数  ，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43280" y="4005360"/>
          <a:ext cx="169524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005360"/>
                    <a:ext cx="1695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556000" y="4321080"/>
          <a:ext cx="222084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4321080"/>
                    <a:ext cx="222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804000" y="4336920"/>
          <a:ext cx="247680" cy="28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4336920"/>
                    <a:ext cx="24768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348000" y="4724280"/>
          <a:ext cx="2340000" cy="648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4724280"/>
                    <a:ext cx="234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500"/>
                            </p:stCondLst>
                            <p:childTnLst>
                              <p:par>
                                <p:cTn id="6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413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在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软件实现的算法思想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217332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由大数定律可知，当               ，样本的均值趋向与理论分布的期望，因此利用样本容量   逐渐增大这一趋势来模拟              这一趋势，在这种趋势下，样本的均值与理论分布期望的误差   应该呈现出越来越小的趋势，同时，根据上述思想，分别对五种常用分布下的大数定律进行验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83160" y="2360520"/>
          <a:ext cx="90324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2360520"/>
                    <a:ext cx="9032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564000" y="2647800"/>
          <a:ext cx="2476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64780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588000" y="2635200"/>
          <a:ext cx="91764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2635200"/>
                    <a:ext cx="917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093080" y="2965320"/>
          <a:ext cx="247680" cy="2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93080" y="2965320"/>
                    <a:ext cx="2476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66"/>
                </a:solidFill>
                <a:latin typeface="Garamond"/>
              </a:rPr>
              <a:t>四、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软件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模拟验证大数定律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12536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大数定律模拟算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38720" y="1908000"/>
            <a:ext cx="1143000" cy="2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参数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38720" y="240336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序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10400" y="2205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10400" y="419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10600" y="3492000"/>
            <a:ext cx="0" cy="12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81720" y="3492360"/>
            <a:ext cx="1028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38720" y="5375160"/>
            <a:ext cx="1143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绘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024600" y="4384800"/>
            <a:ext cx="1371600" cy="795240"/>
            <a:chOff x="6024600" y="4384800"/>
            <a:chExt cx="1371600" cy="795240"/>
          </a:xfrm>
        </p:grpSpPr>
        <p:sp>
          <p:nvSpPr>
            <p:cNvPr id="310" name=""/>
            <p:cNvSpPr/>
            <p:nvPr/>
          </p:nvSpPr>
          <p:spPr>
            <a:xfrm>
              <a:off x="6024600" y="4384800"/>
              <a:ext cx="1371600" cy="7952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29360" y="4507920"/>
              <a:ext cx="11430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试验次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是否达到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10400" y="51768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6200" y="47800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5084640"/>
            <a:ext cx="457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7600" y="4879800"/>
            <a:ext cx="571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38720" y="141300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10400" y="1709640"/>
            <a:ext cx="144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10400" y="2700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38720" y="289872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择分布类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10400" y="31957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8720" y="339408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10400" y="3691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38720" y="3889440"/>
            <a:ext cx="1143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样本均值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9372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循环的跳跃步长     、 的第一次抽样的样本容量初始值  和上限值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030480" y="1738440"/>
          <a:ext cx="561960" cy="2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0480" y="1738440"/>
                    <a:ext cx="56196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665520" y="1755720"/>
          <a:ext cx="20160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5520" y="1755720"/>
                    <a:ext cx="2016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728800" y="1925640"/>
          <a:ext cx="2383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0" y="1925640"/>
                    <a:ext cx="238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780000" y="1916280"/>
          <a:ext cx="255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91628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84360" y="2170080"/>
            <a:ext cx="46796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②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利用函数                                                   产生由各模拟样本空间大小组成的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维序列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79640" y="2241720"/>
          <a:ext cx="306540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2241720"/>
                    <a:ext cx="3065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82560" y="2786040"/>
            <a:ext cx="4681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 ③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选择随机数    的分布类型，本文中的相关程序仅选择了常用的随机分布：正态分布、指数分布、均匀分布、泊松分布、二项分布、两点分布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138400" y="2890800"/>
          <a:ext cx="298440" cy="3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8400" y="2890800"/>
                    <a:ext cx="2984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755640" y="389880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④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软件产生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服从同一分布的随机数         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9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71640" y="4259160"/>
                <a:ext cx="154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826920" y="4619520"/>
            <a:ext cx="3529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⑤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计算       （或     ）的值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41520" y="4605480"/>
          <a:ext cx="582480" cy="46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41520" y="4605480"/>
                    <a:ext cx="5824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438280" y="4611600"/>
          <a:ext cx="262080" cy="46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11600"/>
                    <a:ext cx="262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826920" y="5051520"/>
            <a:ext cx="50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⑥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若循环次数 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&lt;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，则回转④，否则转⑦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411880"/>
            <a:ext cx="4968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⑦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轴代表样本容量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轴代表每次抽样所得的样本均值，描绘出整个试验的过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1640" y="5805360"/>
            <a:ext cx="3240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进入演示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66"/>
                </a:solidFill>
                <a:latin typeface="Garamond"/>
              </a:rPr>
              <a:t>五、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981000"/>
            <a:ext cx="5832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Arial"/>
              </a:rPr>
              <a:t>、验证的中心极限定理有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1413000"/>
            <a:ext cx="712800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独立同分布的中心极限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随机变量              相互独立，服从同一分布，且具有数学期望和方差：                            ，则随机变量之和    的标准化变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89200" y="1989000"/>
          <a:ext cx="15224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15224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3097080" y="2384280"/>
          <a:ext cx="327528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2384280"/>
                    <a:ext cx="32752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619280" y="2637000"/>
          <a:ext cx="56196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637000"/>
                    <a:ext cx="5619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843280" y="2997360"/>
          <a:ext cx="3195720" cy="12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997360"/>
                    <a:ext cx="3195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26920" y="4127400"/>
            <a:ext cx="41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的分布函数对于任意满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63640" y="4365720"/>
          <a:ext cx="6203880" cy="107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65720"/>
                    <a:ext cx="62038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55640" y="981000"/>
            <a:ext cx="7488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De Moivre-Laplace(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棣莫弗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拉普拉斯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中心极限定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1628640"/>
            <a:ext cx="7201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相互独立的随机变量           服从参数为 </a:t>
            </a:r>
            <a:r>
              <a:rPr b="0" i="1" lang="zh-CN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p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的两点分布，则对于任意实数 </a:t>
            </a:r>
            <a:r>
              <a:rPr b="0" i="1" lang="zh-CN" sz="3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，有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067280" y="1844640"/>
          <a:ext cx="13968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844640"/>
                    <a:ext cx="1396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835280" y="2924280"/>
          <a:ext cx="554976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924280"/>
                    <a:ext cx="55497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五、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主要内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144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94328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统计模拟的基本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565360"/>
            <a:ext cx="51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赶火车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316692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的统计模拟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789360"/>
            <a:ext cx="60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模拟验证大数定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437000"/>
            <a:ext cx="633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软件模拟验证中心极限定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283440" y="1908000"/>
            <a:ext cx="1447560" cy="2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择分布类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83440" y="240336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确定参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45200" y="2205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45200" y="419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8454960" y="3492360"/>
            <a:ext cx="0" cy="11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730640" y="3492360"/>
            <a:ext cx="723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45280" y="5024520"/>
            <a:ext cx="14857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统计检验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描述性分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635880" y="4384800"/>
            <a:ext cx="799920" cy="463320"/>
            <a:chOff x="6635880" y="4384800"/>
            <a:chExt cx="799920" cy="463320"/>
          </a:xfrm>
        </p:grpSpPr>
        <p:sp>
          <p:nvSpPr>
            <p:cNvPr id="391" name=""/>
            <p:cNvSpPr/>
            <p:nvPr/>
          </p:nvSpPr>
          <p:spPr>
            <a:xfrm>
              <a:off x="6635880" y="4384800"/>
              <a:ext cx="799920" cy="4633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96720" y="4456440"/>
              <a:ext cx="6667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j&gt;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045200" y="484020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35800" y="4614840"/>
            <a:ext cx="10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16720" y="472428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73800" y="4332240"/>
            <a:ext cx="571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83440" y="141300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45200" y="17096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45200" y="27003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440" y="289872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产生随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45200" y="31957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83440" y="339408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计算标准化随机变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45200" y="3691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3440" y="3889440"/>
            <a:ext cx="14475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参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981000"/>
            <a:ext cx="3745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0000"/>
                </a:solidFill>
                <a:latin typeface="宋体"/>
              </a:rPr>
              <a:t>中心极限定理模拟算法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148428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选择随机变量   的分布类型，主要分布类型有正态分布、指数分布、均匀分布、泊松分布、二项分布和两点分布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484360" y="1600200"/>
          <a:ext cx="27000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00200"/>
                    <a:ext cx="270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755640" y="2349360"/>
            <a:ext cx="4608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②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模拟试验总次数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及每次模拟试验中随机变量的个数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2963880"/>
            <a:ext cx="4753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③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软件模拟产生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服从同一分布的随机数        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042920" y="3321000"/>
          <a:ext cx="145728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321000"/>
                    <a:ext cx="14572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98480" y="3611520"/>
            <a:ext cx="4606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 ④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使用产生的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  <a:ea typeface="楷体_GB2312"/>
              </a:rPr>
              <a:t>个随机数计算标准化随机变量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806480" y="3919680"/>
          <a:ext cx="214812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6480" y="3919680"/>
                    <a:ext cx="21481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755640" y="458136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⑤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设置循环变量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和循环的跳跃步长       ，当      时，重复步骤③、④，直至      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284720" y="4724280"/>
          <a:ext cx="7128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4724280"/>
                    <a:ext cx="7128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087560" y="4970520"/>
          <a:ext cx="590400" cy="28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7560" y="4970520"/>
                    <a:ext cx="590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356000" y="4941720"/>
          <a:ext cx="590760" cy="28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4941720"/>
                    <a:ext cx="5907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755640" y="5229360"/>
            <a:ext cx="4680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⑥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对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m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个  值进行正态性检验和描述性统计分析，包括直观的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QQ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图检验、正态性</a:t>
            </a:r>
            <a:r>
              <a:rPr b="1" i="1" lang="zh-CN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W 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检验以及偏度系数、峰度系数、均值和方差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835280" y="5329080"/>
          <a:ext cx="19044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532908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51640" y="5805360"/>
            <a:ext cx="3240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baseline="-25000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 </a:t>
            </a:r>
            <a:r>
              <a:rPr b="1" lang="zh-CN" sz="3000" spc="-1" strike="noStrike" baseline="-25000">
                <a:solidFill>
                  <a:srgbClr val="006666"/>
                </a:solidFill>
                <a:latin typeface="仿宋_GB2312"/>
                <a:ea typeface="仿宋_GB2312"/>
              </a:rPr>
              <a:t>进入演示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424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五、应用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R</a:t>
            </a: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软件模拟验证中心极限定理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000"/>
                            </p:stCondLst>
                            <p:childTnLst>
                              <p:par>
                                <p:cTn id="9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Garamond"/>
              </a:rPr>
              <a:t>非常感谢！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统计模拟的定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989000"/>
            <a:ext cx="763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统计模拟即是计算机统计模拟，它实质上是计算机建模，而这里的计算机模型就是计算机方法、统计模型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如程序、流程图、算法等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，它是架于计算机理论和实际问题之间的桥梁。它与统计建模的关系如下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4141800"/>
            <a:ext cx="11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4141800"/>
            <a:ext cx="187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统计、逻辑 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8920" y="4718160"/>
            <a:ext cx="288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模拟（程序、算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920" y="5294160"/>
            <a:ext cx="180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统计、计算机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2560" y="5294160"/>
            <a:ext cx="93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6560" y="42861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1280" y="4502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1280" y="5078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30560" y="54388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统计模拟方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00280"/>
            <a:ext cx="79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地，统计模拟分类如下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按状态变量的变化性质分为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连续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离散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按变量是否随时间变化又可分为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动态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静态随机模拟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统计模拟方法主要有以下几种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1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蒙特卡罗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2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系统模拟方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3.</a:t>
            </a:r>
            <a:r>
              <a:rPr b="1" lang="zh-CN" sz="25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其它方法：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括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tstrap(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助法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CMC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马氏链蒙特卡罗法）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统计模拟的基本概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5560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三）统计模拟的一般步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685880"/>
            <a:ext cx="47530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3687840"/>
          <a:ext cx="8075880" cy="748800"/>
        </p:xfrm>
        <a:graphic>
          <a:graphicData uri="http://schemas.openxmlformats.org/drawingml/2006/table">
            <a:tbl>
              <a:tblPr/>
              <a:tblGrid>
                <a:gridCol w="2727360"/>
                <a:gridCol w="1782360"/>
                <a:gridCol w="1783800"/>
                <a:gridCol w="1782360"/>
              </a:tblGrid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火车离站时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概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84360" y="118260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列列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开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，某人每天赶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上车。他已经了解到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运行时间是服从均值为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i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标准差为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i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态随机变量。火车大约下午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，此人大约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:3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。火车离开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如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，此人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如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示。问此人能赶上火车的概率有多大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284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离开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65300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某人到达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及概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157720"/>
          <a:ext cx="8075880" cy="730440"/>
        </p:xfrm>
        <a:graphic>
          <a:graphicData uri="http://schemas.openxmlformats.org/drawingml/2006/table">
            <a:tbl>
              <a:tblPr/>
              <a:tblGrid>
                <a:gridCol w="2727360"/>
                <a:gridCol w="1336680"/>
                <a:gridCol w="1335240"/>
                <a:gridCol w="1336680"/>
                <a:gridCol w="133992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人到站时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概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557360"/>
            <a:ext cx="7848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题的分析—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问题用概率论的方法求解十分困难，它涉及此人到达时刻、火车离开站的时刻、火车运行时间几个随机变量，而且火车运行时间是服从正态分布的随机变量，没有有效的解析方法来进行概率计算。在这种情况下可以用计算机模拟的方法来解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2924280"/>
            <a:ext cx="5545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出发的时刻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火车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运行时间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某人到达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的时刻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随机变量  服从正态分布的均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随机变量  服从正态分布的标准差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197000"/>
            <a:ext cx="77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进行计算机统计模拟的基础是抽象现实系统的数学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994040"/>
            <a:ext cx="74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为了便于建模，对模型中使用的变量作出如下假定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58920" y="2995560"/>
          <a:ext cx="22716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9556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58920" y="3341520"/>
          <a:ext cx="2556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34152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258920" y="3686040"/>
          <a:ext cx="2412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368604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44520" y="4076640"/>
          <a:ext cx="27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4520" y="4076640"/>
                    <a:ext cx="27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81240" y="4421160"/>
          <a:ext cx="23004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1240" y="4421160"/>
                    <a:ext cx="2300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510000" y="29415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1520" y="2941560"/>
            <a:ext cx="64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1520" y="2941560"/>
            <a:ext cx="64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017880" y="4005360"/>
          <a:ext cx="258840" cy="35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7880" y="4005360"/>
                    <a:ext cx="2588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09960" y="4354560"/>
          <a:ext cx="255600" cy="36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9960" y="4354560"/>
                    <a:ext cx="255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4221000"/>
            <a:ext cx="777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此人能及时赶上火车的充分必要条件为：            ，所以此人能赶上火车的概率模型为：                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二、赶火车问题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59560" y="4307040"/>
          <a:ext cx="10796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9560" y="4307040"/>
                    <a:ext cx="107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51560" y="4681440"/>
          <a:ext cx="1439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1560" y="4681440"/>
                    <a:ext cx="143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39640" y="1557360"/>
            <a:ext cx="756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分析简化，假定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为时刻</a:t>
            </a:r>
            <a:r>
              <a:rPr b="0" i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=0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变量  、 的分布律为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4360" y="1628640"/>
          <a:ext cx="22716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1628640"/>
                    <a:ext cx="227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667640" y="1628640"/>
          <a:ext cx="2412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1628640"/>
                    <a:ext cx="2412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857240" y="2781360"/>
          <a:ext cx="2125800" cy="974520"/>
        </p:xfrm>
        <a:graphic>
          <a:graphicData uri="http://schemas.openxmlformats.org/drawingml/2006/table">
            <a:tbl>
              <a:tblPr/>
              <a:tblGrid>
                <a:gridCol w="754200"/>
                <a:gridCol w="457200"/>
                <a:gridCol w="457200"/>
                <a:gridCol w="4572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87760" y="2786040"/>
          <a:ext cx="2460600" cy="974880"/>
        </p:xfrm>
        <a:graphic>
          <a:graphicData uri="http://schemas.openxmlformats.org/drawingml/2006/table">
            <a:tbl>
              <a:tblPr/>
              <a:tblGrid>
                <a:gridCol w="644760"/>
                <a:gridCol w="453960"/>
                <a:gridCol w="453960"/>
                <a:gridCol w="453960"/>
                <a:gridCol w="4539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24120" y="2925720"/>
          <a:ext cx="76968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4120" y="2925720"/>
                    <a:ext cx="7696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967040" y="3357720"/>
          <a:ext cx="547560" cy="35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7040" y="3357720"/>
                    <a:ext cx="547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416480" y="2925720"/>
          <a:ext cx="79524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6480" y="2925720"/>
                    <a:ext cx="795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59400" y="3357720"/>
          <a:ext cx="547560" cy="358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59400" y="3357720"/>
                    <a:ext cx="547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7308720" y="6405480"/>
            <a:ext cx="18352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37:24Z</dcterms:created>
  <dc:creator>奚潭</dc:creator>
  <dc:description/>
  <dc:language>en-US</dc:language>
  <cp:lastModifiedBy>Yihui Xie</cp:lastModifiedBy>
  <dcterms:modified xsi:type="dcterms:W3CDTF">2008-12-17T06:08:16Z</dcterms:modified>
  <cp:revision>111</cp:revision>
  <dc:subject/>
  <dc:title>基于R软件的统计模拟</dc:title>
</cp:coreProperties>
</file>