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8F5-8BEC-4A52-A048-193D80D6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19B-7FC0-4B7A-8996-15733EAE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3FF-772E-4584-80FD-DD343562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E99-8556-47C0-875A-D5EE5462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C6F-ABF9-41FD-B547-5DDECF3F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B70-4D38-415A-B056-C5C2C6EE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073-BBDC-4FFD-839C-E446DBFD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754-348D-41A5-8BED-47BC5DC7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2C1-C575-4A9D-93F8-5E31F48D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031-41C9-4BE0-95D8-F519114D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6D1-B2D9-425A-A6B3-9B29E144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52B-8917-4CF7-B78E-DD93C00F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15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6D69-74FF-481D-AAEC-C806C8278BA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1071720" y="3929040"/>
            <a:ext cx="70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5999"/>
                </a:solidFill>
                <a:latin typeface="微软雅黑"/>
                <a:ea typeface="微软雅黑"/>
              </a:rPr>
              <a:t>中国人民大学 统计学院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5999"/>
                </a:solidFill>
                <a:latin typeface="微软雅黑"/>
                <a:ea typeface="微软雅黑"/>
              </a:rPr>
              <a:t>王    剑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642960" y="1714680"/>
            <a:ext cx="814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d528d"/>
                </a:solidFill>
                <a:latin typeface="Cambria"/>
              </a:rPr>
              <a:t>From SAS to R</a:t>
            </a:r>
            <a:endParaRPr b="0" lang="en-US" sz="8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5999"/>
                </a:solidFill>
                <a:latin typeface="Verdana"/>
                <a:ea typeface="宋体"/>
              </a:rPr>
              <a:t>你属于哪一类</a:t>
            </a:r>
            <a:r>
              <a:rPr b="1" lang="en-US" sz="3200" spc="-1" strike="noStrike">
                <a:solidFill>
                  <a:srgbClr val="1f5999"/>
                </a:solidFill>
                <a:latin typeface="Verdana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 rot="5400000">
            <a:off x="-2422440" y="1474200"/>
            <a:ext cx="4824360" cy="4770360"/>
          </a:xfrm>
          <a:prstGeom prst="pie">
            <a:avLst/>
          </a:pr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 flipH="1" rot="5400000">
            <a:off x="-2016720" y="1910520"/>
            <a:ext cx="4032000" cy="3929040"/>
          </a:xfrm>
          <a:prstGeom prst="pie">
            <a:avLst/>
          </a:prstGeom>
          <a:gradFill rotWithShape="0">
            <a:gsLst>
              <a:gs pos="0">
                <a:srgbClr val="66ccff">
                  <a:alpha val="36078"/>
                </a:srgbClr>
              </a:gs>
              <a:gs pos="100000">
                <a:srgbClr val="cbe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0" name="Group 88"/>
          <p:cNvGrpSpPr/>
          <p:nvPr/>
        </p:nvGrpSpPr>
        <p:grpSpPr>
          <a:xfrm>
            <a:off x="1692360" y="2112840"/>
            <a:ext cx="4736880" cy="507960"/>
            <a:chOff x="1692360" y="2112840"/>
            <a:chExt cx="4736880" cy="507960"/>
          </a:xfrm>
        </p:grpSpPr>
        <p:sp>
          <p:nvSpPr>
            <p:cNvPr id="91" name="AutoShape 52"/>
            <p:cNvSpPr/>
            <p:nvPr/>
          </p:nvSpPr>
          <p:spPr>
            <a:xfrm>
              <a:off x="2009880" y="211284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既熟悉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S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，又熟悉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2" name="Group 53"/>
            <p:cNvGrpSpPr/>
            <p:nvPr/>
          </p:nvGrpSpPr>
          <p:grpSpPr>
            <a:xfrm>
              <a:off x="1692360" y="2201760"/>
              <a:ext cx="380880" cy="380880"/>
              <a:chOff x="1692360" y="2201760"/>
              <a:chExt cx="380880" cy="380880"/>
            </a:xfrm>
          </p:grpSpPr>
          <p:sp>
            <p:nvSpPr>
              <p:cNvPr id="93" name="Oval 54"/>
              <p:cNvSpPr/>
              <p:nvPr/>
            </p:nvSpPr>
            <p:spPr>
              <a:xfrm>
                <a:off x="1692360" y="220176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4" name="Oval 55"/>
              <p:cNvSpPr/>
              <p:nvPr/>
            </p:nvSpPr>
            <p:spPr>
              <a:xfrm>
                <a:off x="1713960" y="222300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" name="Oval 56"/>
              <p:cNvSpPr/>
              <p:nvPr/>
            </p:nvSpPr>
            <p:spPr>
              <a:xfrm>
                <a:off x="1733400" y="2242800"/>
                <a:ext cx="298440" cy="29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" name="Oval 57"/>
              <p:cNvSpPr/>
              <p:nvPr/>
            </p:nvSpPr>
            <p:spPr>
              <a:xfrm>
                <a:off x="1733760" y="224316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" name="Oval 58"/>
              <p:cNvSpPr/>
              <p:nvPr/>
            </p:nvSpPr>
            <p:spPr>
              <a:xfrm>
                <a:off x="1752480" y="2261880"/>
                <a:ext cx="258840" cy="260280"/>
              </a:xfrm>
              <a:prstGeom prst="ellipse">
                <a:avLst/>
              </a:prstGeom>
              <a:gradFill rotWithShape="0">
                <a:gsLst>
                  <a:gs pos="0">
                    <a:srgbClr val="376e8a"/>
                  </a:gs>
                  <a:gs pos="50000">
                    <a:srgbClr val="66ccff"/>
                  </a:gs>
                  <a:gs pos="100000">
                    <a:srgbClr val="376e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" name="Oval 59"/>
              <p:cNvSpPr/>
              <p:nvPr/>
            </p:nvSpPr>
            <p:spPr>
              <a:xfrm>
                <a:off x="1753200" y="2262600"/>
                <a:ext cx="258120" cy="2592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89"/>
          <p:cNvGrpSpPr/>
          <p:nvPr/>
        </p:nvGrpSpPr>
        <p:grpSpPr>
          <a:xfrm>
            <a:off x="2071800" y="2921040"/>
            <a:ext cx="4723920" cy="507960"/>
            <a:chOff x="2071800" y="2921040"/>
            <a:chExt cx="4723920" cy="507960"/>
          </a:xfrm>
        </p:grpSpPr>
        <p:sp>
          <p:nvSpPr>
            <p:cNvPr id="100" name="AutoShape 51"/>
            <p:cNvSpPr/>
            <p:nvPr/>
          </p:nvSpPr>
          <p:spPr>
            <a:xfrm>
              <a:off x="2376360" y="292104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" name="Group 60"/>
            <p:cNvGrpSpPr/>
            <p:nvPr/>
          </p:nvGrpSpPr>
          <p:grpSpPr>
            <a:xfrm>
              <a:off x="2071800" y="3027240"/>
              <a:ext cx="380880" cy="380880"/>
              <a:chOff x="2071800" y="3027240"/>
              <a:chExt cx="380880" cy="380880"/>
            </a:xfrm>
          </p:grpSpPr>
          <p:sp>
            <p:nvSpPr>
              <p:cNvPr id="102" name="Oval 61"/>
              <p:cNvSpPr/>
              <p:nvPr/>
            </p:nvSpPr>
            <p:spPr>
              <a:xfrm>
                <a:off x="2071800" y="302724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" name="Oval 62"/>
              <p:cNvSpPr/>
              <p:nvPr/>
            </p:nvSpPr>
            <p:spPr>
              <a:xfrm>
                <a:off x="2093400" y="304848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" name="Oval 63"/>
              <p:cNvSpPr/>
              <p:nvPr/>
            </p:nvSpPr>
            <p:spPr>
              <a:xfrm>
                <a:off x="2112840" y="3068280"/>
                <a:ext cx="298440" cy="29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" name="Oval 64"/>
              <p:cNvSpPr/>
              <p:nvPr/>
            </p:nvSpPr>
            <p:spPr>
              <a:xfrm>
                <a:off x="2113200" y="306864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48be6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" name="Oval 65"/>
              <p:cNvSpPr/>
              <p:nvPr/>
            </p:nvSpPr>
            <p:spPr>
              <a:xfrm>
                <a:off x="2131920" y="3087360"/>
                <a:ext cx="258840" cy="260280"/>
              </a:xfrm>
              <a:prstGeom prst="ellipse">
                <a:avLst/>
              </a:prstGeom>
              <a:gradFill rotWithShape="0">
                <a:gsLst>
                  <a:gs pos="0">
                    <a:srgbClr val="376e8a"/>
                  </a:gs>
                  <a:gs pos="50000">
                    <a:srgbClr val="66ccff"/>
                  </a:gs>
                  <a:gs pos="100000">
                    <a:srgbClr val="376e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" name="Oval 66"/>
              <p:cNvSpPr/>
              <p:nvPr/>
            </p:nvSpPr>
            <p:spPr>
              <a:xfrm>
                <a:off x="2132640" y="308808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48be67"/>
                  </a:gs>
                  <a:gs pos="100000">
                    <a:srgbClr val="235c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90"/>
          <p:cNvGrpSpPr/>
          <p:nvPr/>
        </p:nvGrpSpPr>
        <p:grpSpPr>
          <a:xfrm>
            <a:off x="2143080" y="3786120"/>
            <a:ext cx="4724280" cy="507960"/>
            <a:chOff x="2143080" y="3786120"/>
            <a:chExt cx="4724280" cy="507960"/>
          </a:xfrm>
        </p:grpSpPr>
        <p:sp>
          <p:nvSpPr>
            <p:cNvPr id="109" name="AutoShape 50"/>
            <p:cNvSpPr/>
            <p:nvPr/>
          </p:nvSpPr>
          <p:spPr>
            <a:xfrm>
              <a:off x="2447640" y="378612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0" name="Group 67"/>
            <p:cNvGrpSpPr/>
            <p:nvPr/>
          </p:nvGrpSpPr>
          <p:grpSpPr>
            <a:xfrm>
              <a:off x="2143080" y="3862080"/>
              <a:ext cx="380880" cy="381240"/>
              <a:chOff x="2143080" y="3862080"/>
              <a:chExt cx="380880" cy="381240"/>
            </a:xfrm>
          </p:grpSpPr>
          <p:sp>
            <p:nvSpPr>
              <p:cNvPr id="111" name="Oval 68"/>
              <p:cNvSpPr/>
              <p:nvPr/>
            </p:nvSpPr>
            <p:spPr>
              <a:xfrm>
                <a:off x="2143080" y="3862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" name="Oval 69"/>
              <p:cNvSpPr/>
              <p:nvPr/>
            </p:nvSpPr>
            <p:spPr>
              <a:xfrm>
                <a:off x="2164680" y="388332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" name="Oval 70"/>
              <p:cNvSpPr/>
              <p:nvPr/>
            </p:nvSpPr>
            <p:spPr>
              <a:xfrm>
                <a:off x="2184120" y="3903120"/>
                <a:ext cx="298440" cy="29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" name="Oval 71"/>
              <p:cNvSpPr/>
              <p:nvPr/>
            </p:nvSpPr>
            <p:spPr>
              <a:xfrm>
                <a:off x="2184480" y="390348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0f53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" name="Oval 72"/>
              <p:cNvSpPr/>
              <p:nvPr/>
            </p:nvSpPr>
            <p:spPr>
              <a:xfrm>
                <a:off x="2203200" y="3922560"/>
                <a:ext cx="258840" cy="260640"/>
              </a:xfrm>
              <a:prstGeom prst="ellipse">
                <a:avLst/>
              </a:prstGeom>
              <a:gradFill rotWithShape="0">
                <a:gsLst>
                  <a:gs pos="0">
                    <a:srgbClr val="376e8a"/>
                  </a:gs>
                  <a:gs pos="50000">
                    <a:srgbClr val="66ccff"/>
                  </a:gs>
                  <a:gs pos="100000">
                    <a:srgbClr val="376e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6" name="Oval 73"/>
              <p:cNvSpPr/>
              <p:nvPr/>
            </p:nvSpPr>
            <p:spPr>
              <a:xfrm>
                <a:off x="2203920" y="392292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1057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91"/>
          <p:cNvGrpSpPr/>
          <p:nvPr/>
        </p:nvGrpSpPr>
        <p:grpSpPr>
          <a:xfrm>
            <a:off x="1857240" y="4707000"/>
            <a:ext cx="4756320" cy="507960"/>
            <a:chOff x="1857240" y="4707000"/>
            <a:chExt cx="4756320" cy="507960"/>
          </a:xfrm>
        </p:grpSpPr>
        <p:sp>
          <p:nvSpPr>
            <p:cNvPr id="118" name="AutoShape 49"/>
            <p:cNvSpPr/>
            <p:nvPr/>
          </p:nvSpPr>
          <p:spPr>
            <a:xfrm>
              <a:off x="2193840" y="470700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9" name="Group 74"/>
            <p:cNvGrpSpPr/>
            <p:nvPr/>
          </p:nvGrpSpPr>
          <p:grpSpPr>
            <a:xfrm>
              <a:off x="1857240" y="4808520"/>
              <a:ext cx="381240" cy="380880"/>
              <a:chOff x="1857240" y="4808520"/>
              <a:chExt cx="381240" cy="380880"/>
            </a:xfrm>
          </p:grpSpPr>
          <p:sp>
            <p:nvSpPr>
              <p:cNvPr id="120" name="Oval 75"/>
              <p:cNvSpPr/>
              <p:nvPr/>
            </p:nvSpPr>
            <p:spPr>
              <a:xfrm>
                <a:off x="1857240" y="4808520"/>
                <a:ext cx="381240" cy="380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1" name="Oval 76"/>
              <p:cNvSpPr/>
              <p:nvPr/>
            </p:nvSpPr>
            <p:spPr>
              <a:xfrm>
                <a:off x="1878840" y="4829760"/>
                <a:ext cx="337680" cy="3373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2" name="Oval 77"/>
              <p:cNvSpPr/>
              <p:nvPr/>
            </p:nvSpPr>
            <p:spPr>
              <a:xfrm>
                <a:off x="1898280" y="4849560"/>
                <a:ext cx="298800" cy="29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3" name="Oval 78"/>
              <p:cNvSpPr/>
              <p:nvPr/>
            </p:nvSpPr>
            <p:spPr>
              <a:xfrm>
                <a:off x="1898640" y="4849920"/>
                <a:ext cx="298080" cy="298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d67e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4" name="Oval 79"/>
              <p:cNvSpPr/>
              <p:nvPr/>
            </p:nvSpPr>
            <p:spPr>
              <a:xfrm>
                <a:off x="1917720" y="4868640"/>
                <a:ext cx="258840" cy="260280"/>
              </a:xfrm>
              <a:prstGeom prst="ellipse">
                <a:avLst/>
              </a:prstGeom>
              <a:gradFill rotWithShape="0">
                <a:gsLst>
                  <a:gs pos="0">
                    <a:srgbClr val="376e8a"/>
                  </a:gs>
                  <a:gs pos="50000">
                    <a:srgbClr val="66ccff"/>
                  </a:gs>
                  <a:gs pos="100000">
                    <a:srgbClr val="376e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5" name="Oval 80"/>
              <p:cNvSpPr/>
              <p:nvPr/>
            </p:nvSpPr>
            <p:spPr>
              <a:xfrm>
                <a:off x="1918440" y="4869360"/>
                <a:ext cx="258840" cy="258840"/>
              </a:xfrm>
              <a:prstGeom prst="ellipse">
                <a:avLst/>
              </a:prstGeom>
              <a:gradFill rotWithShape="0">
                <a:gsLst>
                  <a:gs pos="0">
                    <a:srgbClr val="8d67e1"/>
                  </a:gs>
                  <a:gs pos="100000">
                    <a:srgbClr val="4532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Box 51"/>
          <p:cNvSpPr/>
          <p:nvPr/>
        </p:nvSpPr>
        <p:spPr>
          <a:xfrm>
            <a:off x="2519280" y="30322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熟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但不熟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Box 52"/>
          <p:cNvSpPr/>
          <p:nvPr/>
        </p:nvSpPr>
        <p:spPr>
          <a:xfrm>
            <a:off x="2581200" y="388620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熟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但熟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Box 53"/>
          <p:cNvSpPr/>
          <p:nvPr/>
        </p:nvSpPr>
        <p:spPr>
          <a:xfrm>
            <a:off x="2305080" y="4792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既不熟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也不熟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3" descr="34_174624.jpg"/>
          <p:cNvPicPr/>
          <p:nvPr/>
        </p:nvPicPr>
        <p:blipFill>
          <a:blip r:embed="rId1"/>
          <a:stretch/>
        </p:blipFill>
        <p:spPr>
          <a:xfrm>
            <a:off x="2071800" y="1357200"/>
            <a:ext cx="4572000" cy="2214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微软雅黑"/>
                <a:ea typeface="微软雅黑"/>
              </a:rPr>
              <a:t>SAS</a:t>
            </a:r>
            <a:r>
              <a:rPr b="1" lang="zh-CN" sz="3200" spc="-1" strike="noStrike">
                <a:solidFill>
                  <a:srgbClr val="1d528d"/>
                </a:solidFill>
                <a:latin typeface="微软雅黑"/>
                <a:ea typeface="微软雅黑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微软雅黑"/>
                <a:ea typeface="微软雅黑"/>
              </a:rPr>
              <a:t>R</a:t>
            </a:r>
            <a:r>
              <a:rPr b="1" lang="zh-CN" sz="3200" spc="-1" strike="noStrike">
                <a:solidFill>
                  <a:srgbClr val="1d528d"/>
                </a:solidFill>
                <a:latin typeface="微软雅黑"/>
                <a:ea typeface="微软雅黑"/>
              </a:rPr>
              <a:t>的本质区别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285840" y="4071960"/>
            <a:ext cx="3857400" cy="1947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Freeform 7"/>
          <p:cNvSpPr/>
          <p:nvPr/>
        </p:nvSpPr>
        <p:spPr>
          <a:xfrm rot="5400000">
            <a:off x="4955040" y="3188520"/>
            <a:ext cx="903240" cy="1241640"/>
          </a:xfrm>
          <a:prstGeom prst="pie">
            <a:avLst/>
          </a:prstGeom>
          <a:gradFill rotWithShape="0">
            <a:gsLst>
              <a:gs pos="0">
                <a:srgbClr val="e4a04e"/>
              </a:gs>
              <a:gs pos="100000">
                <a:srgbClr val="eec38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 flipH="1">
            <a:off x="4643280" y="3143160"/>
            <a:ext cx="10605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072040" y="4071960"/>
            <a:ext cx="3857760" cy="1928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214960" y="4214880"/>
            <a:ext cx="3714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ll the da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in memory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Freeform 9"/>
          <p:cNvSpPr/>
          <p:nvPr/>
        </p:nvSpPr>
        <p:spPr>
          <a:xfrm flipH="1" rot="16200000">
            <a:off x="3168360" y="3188520"/>
            <a:ext cx="903240" cy="124164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285840" y="4214880"/>
            <a:ext cx="38574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S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e obs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tim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143000" y="1249200"/>
            <a:ext cx="3328920" cy="3679920"/>
          </a:xfrm>
          <a:custGeom>
            <a:avLst/>
            <a:gdLst>
              <a:gd name="textAreaLeft" fmla="*/ 88560 w 3328920"/>
              <a:gd name="textAreaRight" fmla="*/ 3240360 w 3328920"/>
              <a:gd name="textAreaTop" fmla="*/ 88560 h 3679920"/>
              <a:gd name="textAreaBottom" fmla="*/ 3591360 h 3679920"/>
            </a:gdLst>
            <a:ahLst/>
            <a:rect l="textAreaLeft" t="textAreaTop" r="textAreaRight" b="textAreaBottom"/>
            <a:pathLst>
              <a:path w="21600" h="23877">
                <a:moveTo>
                  <a:pt x="1967" y="0"/>
                </a:moveTo>
                <a:arcTo wR="1967" hR="1967" stAng="16200000" swAng="-5400000"/>
                <a:lnTo>
                  <a:pt x="0" y="21910"/>
                </a:lnTo>
                <a:arcTo wR="1967" hR="1967" stAng="10800000" swAng="-5400000"/>
                <a:lnTo>
                  <a:pt x="19633" y="23877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50800" y="1071720"/>
            <a:ext cx="2713320" cy="355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1574640" y="1190520"/>
            <a:ext cx="12384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3917880" y="1190520"/>
            <a:ext cx="12240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4595760" y="1249200"/>
            <a:ext cx="3328920" cy="3679920"/>
          </a:xfrm>
          <a:custGeom>
            <a:avLst/>
            <a:gdLst>
              <a:gd name="textAreaLeft" fmla="*/ 88560 w 3328920"/>
              <a:gd name="textAreaRight" fmla="*/ 3240360 w 3328920"/>
              <a:gd name="textAreaTop" fmla="*/ 88560 h 3679920"/>
              <a:gd name="textAreaBottom" fmla="*/ 3591360 h 3679920"/>
            </a:gdLst>
            <a:ahLst/>
            <a:rect l="textAreaLeft" t="textAreaTop" r="textAreaRight" b="textAreaBottom"/>
            <a:pathLst>
              <a:path w="21600" h="23877">
                <a:moveTo>
                  <a:pt x="1967" y="0"/>
                </a:moveTo>
                <a:arcTo wR="1967" hR="1967" stAng="16200000" swAng="-5400000"/>
                <a:lnTo>
                  <a:pt x="0" y="21910"/>
                </a:lnTo>
                <a:arcTo wR="1967" hR="1967" stAng="10800000" swAng="-5400000"/>
                <a:lnTo>
                  <a:pt x="19633" y="23877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noFill/>
          <a:ln w="255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4903920" y="1071720"/>
            <a:ext cx="2712960" cy="355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4764"/>
              </a:gs>
              <a:gs pos="50000">
                <a:srgbClr val="1b9ad9"/>
              </a:gs>
              <a:gs pos="100000">
                <a:srgbClr val="0d47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027760" y="1190520"/>
            <a:ext cx="12204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7369200" y="1190520"/>
            <a:ext cx="12384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4786200" y="1500120"/>
            <a:ext cx="3357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xample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Name$ X1-X2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Xm= mean(Of X1-X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ao 22 9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g 24 9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 print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5857920" y="10717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2643120" y="107172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1214280" y="1500120"/>
            <a:ext cx="32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ample=data.frame(Name=c("Zhao","Wang"), X1=c(22,24),X2=c(98,96)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ean(Example[,2-3]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矩形 17"/>
          <p:cNvSpPr/>
          <p:nvPr/>
        </p:nvSpPr>
        <p:spPr>
          <a:xfrm>
            <a:off x="1714680" y="485784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X1 X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Zhao  22 9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Wang 24 9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X1 X2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3 97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矩形 19"/>
          <p:cNvSpPr/>
          <p:nvPr/>
        </p:nvSpPr>
        <p:spPr>
          <a:xfrm>
            <a:off x="4786200" y="514368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    Name    X1    X2 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Xm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Zhao    22     98  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   Wang    24     96  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0" y="52862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1280" y="1000080"/>
          <a:ext cx="8929800" cy="5349960"/>
        </p:xfrm>
        <a:graphic>
          <a:graphicData uri="http://schemas.openxmlformats.org/drawingml/2006/table">
            <a:tbl>
              <a:tblPr/>
              <a:tblGrid>
                <a:gridCol w="2071800"/>
                <a:gridCol w="3286080"/>
                <a:gridCol w="3571920"/>
              </a:tblGrid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SAS</a:t>
                      </a:r>
                      <a:endParaRPr b="0" lang="en-US" sz="3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R</a:t>
                      </a:r>
                      <a:endParaRPr b="0" lang="en-US" sz="3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</a:tr>
              <a:tr h="13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Data Structure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Rectangular data se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Verdana"/>
                          <a:ea typeface="宋体"/>
                        </a:rPr>
                        <a:t>Rectangular data frame, vector, matrix, list.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</a:tr>
              <a:tr h="15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hoosing dat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ll the data for an analysis must be in a single data se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Verdana"/>
                          <a:ea typeface="宋体"/>
                        </a:rPr>
                        <a:t>Analyses can freely combine variables from different data frames or other structures.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5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hoosing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bservation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Uses logical conditions in IF, SELECT IF, WHER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Verdana"/>
                          <a:ea typeface="宋体"/>
                        </a:rPr>
                        <a:t>Uses wide variety of selection by index value, variable name, logical condition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6" name="TextBox 5"/>
          <p:cNvSpPr/>
          <p:nvPr/>
        </p:nvSpPr>
        <p:spPr>
          <a:xfrm>
            <a:off x="3429000" y="6488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—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for SAS SPSS user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Muenchen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5"/>
          <p:cNvSpPr/>
          <p:nvPr/>
        </p:nvSpPr>
        <p:spPr>
          <a:xfrm>
            <a:off x="285840" y="2428920"/>
            <a:ext cx="364320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328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5999"/>
                </a:solidFill>
                <a:latin typeface="Verdana"/>
                <a:ea typeface="宋体"/>
              </a:rPr>
              <a:t>SAS</a:t>
            </a:r>
            <a:r>
              <a:rPr b="1" lang="zh-CN" sz="3200" spc="-1" strike="noStrike">
                <a:solidFill>
                  <a:srgbClr val="1f5999"/>
                </a:solidFill>
                <a:latin typeface="Verdana"/>
                <a:ea typeface="宋体"/>
              </a:rPr>
              <a:t>的五大部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28800" y="30002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57120" y="2714760"/>
            <a:ext cx="36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stical and graphic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285840" y="1000080"/>
            <a:ext cx="3554280" cy="10000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0d4764"/>
              </a:gs>
              <a:gs pos="50000">
                <a:srgbClr val="1b9ad9"/>
              </a:gs>
              <a:gs pos="100000">
                <a:srgbClr val="0d47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214200" y="1285920"/>
            <a:ext cx="37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put and management state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AutoShape 19"/>
          <p:cNvSpPr/>
          <p:nvPr/>
        </p:nvSpPr>
        <p:spPr>
          <a:xfrm>
            <a:off x="285840" y="3643200"/>
            <a:ext cx="3714840" cy="10000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511560" y="407196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Delivery System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AutoShape 21"/>
          <p:cNvSpPr/>
          <p:nvPr/>
        </p:nvSpPr>
        <p:spPr>
          <a:xfrm>
            <a:off x="1071720" y="3357720"/>
            <a:ext cx="2047680" cy="5760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285840" y="4786200"/>
            <a:ext cx="3714840" cy="776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285840" y="5572080"/>
            <a:ext cx="3714840" cy="857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TextBox 34"/>
          <p:cNvSpPr/>
          <p:nvPr/>
        </p:nvSpPr>
        <p:spPr>
          <a:xfrm>
            <a:off x="857160" y="5000760"/>
            <a:ext cx="30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acro languag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TextBox 35"/>
          <p:cNvSpPr/>
          <p:nvPr/>
        </p:nvSpPr>
        <p:spPr>
          <a:xfrm>
            <a:off x="428760" y="5721480"/>
            <a:ext cx="33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atrix language to add new algorithms(IML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AutoShape 17"/>
          <p:cNvSpPr/>
          <p:nvPr/>
        </p:nvSpPr>
        <p:spPr>
          <a:xfrm flipV="1">
            <a:off x="1071720" y="1999440"/>
            <a:ext cx="2043000" cy="5857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5024520" y="1677960"/>
            <a:ext cx="3328920" cy="3679920"/>
          </a:xfrm>
          <a:custGeom>
            <a:avLst/>
            <a:gdLst>
              <a:gd name="textAreaLeft" fmla="*/ 88560 w 3328920"/>
              <a:gd name="textAreaRight" fmla="*/ 3240360 w 3328920"/>
              <a:gd name="textAreaTop" fmla="*/ 88560 h 3679920"/>
              <a:gd name="textAreaBottom" fmla="*/ 3591360 h 3679920"/>
            </a:gdLst>
            <a:ahLst/>
            <a:rect l="textAreaLeft" t="textAreaTop" r="textAreaRight" b="textAreaBottom"/>
            <a:pathLst>
              <a:path w="21600" h="23877">
                <a:moveTo>
                  <a:pt x="1967" y="0"/>
                </a:moveTo>
                <a:arcTo wR="1967" hR="1967" stAng="16200000" swAng="-5400000"/>
                <a:lnTo>
                  <a:pt x="0" y="21910"/>
                </a:lnTo>
                <a:arcTo wR="1967" hR="1967" stAng="10800000" swAng="-5400000"/>
                <a:lnTo>
                  <a:pt x="19633" y="23877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noFill/>
          <a:ln w="255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5332320" y="1500120"/>
            <a:ext cx="2712960" cy="355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4764"/>
              </a:gs>
              <a:gs pos="50000">
                <a:srgbClr val="1b9ad9"/>
              </a:gs>
              <a:gs pos="100000">
                <a:srgbClr val="0d47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5456160" y="1619280"/>
            <a:ext cx="12240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7797960" y="1619280"/>
            <a:ext cx="123840" cy="1191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TextBox 43"/>
          <p:cNvSpPr/>
          <p:nvPr/>
        </p:nvSpPr>
        <p:spPr>
          <a:xfrm>
            <a:off x="5214960" y="1928880"/>
            <a:ext cx="3357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xample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Name$ X1-X2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Xm= mean(Of X1-X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ao 22 9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g 24 9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 print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TextBox 44"/>
          <p:cNvSpPr/>
          <p:nvPr/>
        </p:nvSpPr>
        <p:spPr>
          <a:xfrm>
            <a:off x="6286680" y="15001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标题 1" descr=""/>
          <p:cNvPicPr/>
          <p:nvPr/>
        </p:nvPicPr>
        <p:blipFill>
          <a:blip r:embed="rId1"/>
          <a:stretch/>
        </p:blipFill>
        <p:spPr>
          <a:xfrm>
            <a:off x="639720" y="2657520"/>
            <a:ext cx="451188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1:07:00Z</dcterms:created>
  <dc:creator>Jian Wang</dc:creator>
  <dc:description/>
  <dc:language>en-US</dc:language>
  <cp:lastModifiedBy>Yihui Xie</cp:lastModifiedBy>
  <dcterms:modified xsi:type="dcterms:W3CDTF">2008-12-17T12:30:50Z</dcterms:modified>
  <cp:revision>23</cp:revision>
  <dc:subject/>
  <dc:title>From SAS to R</dc:title>
</cp:coreProperties>
</file>