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D51-C7B9-42F9-BDE4-00C052CA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EB1-26A3-4ED2-B288-CC61E4C3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B07-A452-4336-817A-614F0AE1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882-9751-4ACF-9B13-2C7BC368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D60-03ED-47B7-9EF2-B4EDE4D4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2AA-8243-4FA0-A193-40029EFE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537-DB93-4DB2-A9DC-DC7347A2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DA7-8020-48BA-B3CB-58382BF6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AAC-8952-4C3D-9FBB-F168F423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BDF-9673-4319-92A1-081C40D3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D27-F9E8-43B1-946A-EB189027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F99-33A9-4D27-9A42-74EF79A1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eorgi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E01B-64A3-420F-9F3F-4995BB19C64F}" type="slidenum">
              <a:rPr b="0" lang="zh-CN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无处不在的数据及</a:t>
            </a:r>
            <a:br>
              <a:rPr sz="4400"/>
            </a:b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R</a:t>
            </a: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的探索方法 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谢益辉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中国人民大学统计学院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目录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数据在哪儿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R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可以做什么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数据在哪里呀数据在哪里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数据在各位朋友的报名表里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数据在魏太云的博客里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数据在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Google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搜索条目里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报名信息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20 | 0000000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22 | 00000000000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24 | 00000000000000000000000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26 | 0000000000000000000000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28 | 000000000000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30 | 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32 | 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34 | 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36 | 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38 | 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40 |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42 | 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44 | 000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46 |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48 |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50 |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52 |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54 |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56 |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58 |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Consolas"/>
              </a:rPr>
              <a:t>60 | 0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省会城市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1628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“</a:t>
            </a: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三心二意”表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4000" y="1484280"/>
          <a:ext cx="8223120" cy="4956120"/>
        </p:xfrm>
        <a:graphic>
          <a:graphicData uri="http://schemas.openxmlformats.org/drawingml/2006/table">
            <a:tbl>
              <a:tblPr/>
              <a:tblGrid>
                <a:gridCol w="658800"/>
                <a:gridCol w="719280"/>
                <a:gridCol w="1728720"/>
                <a:gridCol w="1592280"/>
                <a:gridCol w="1174680"/>
                <a:gridCol w="1174680"/>
                <a:gridCol w="1174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4570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82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81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38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98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355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79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490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364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78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21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1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47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15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22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55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61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nsolas"/>
                        </a:rPr>
                        <a:t>11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联系方式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Contact 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x = "yihui.name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web = paste("www", x, sep = "."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# you may browseURL(we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email = paste("xie", x, sep = "@"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mobile[2:11] = mobile[1] + c(4, 7, 0, -1, 7, -1, 4, 7, 6,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4:57:52Z</dcterms:created>
  <dc:creator>Yihui Xie</dc:creator>
  <dc:description/>
  <dc:language>en-US</dc:language>
  <cp:lastModifiedBy>Yihui Xie</cp:lastModifiedBy>
  <dcterms:modified xsi:type="dcterms:W3CDTF">2008-12-17T12:35:59Z</dcterms:modified>
  <cp:revision>12</cp:revision>
  <dc:subject/>
  <dc:title>无处不在的数据及R的探索方法</dc:title>
</cp:coreProperties>
</file>