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416-7D71-40A5-878F-72E9DD91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BA0-4FB8-4406-BBB3-7F44AFEF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DCF-3ABC-44F8-B0C6-10DBB957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171-F7DE-4B9D-ADEA-DFB60B52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50A-057B-4453-AF83-3076A99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7B9-CC35-429B-9A11-92E61C43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897-0DAF-4093-8625-D1EBECC3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D67-6FDC-48AD-A6F9-B2FEBA5E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7A0-C9F4-4586-9018-126B9A69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AF1-C117-4052-9E46-849DC9D1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7CA-EA4D-4ADC-8088-BD1C1D0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DB8-13B4-42B7-8CD1-E2FD1292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7A3-2E7F-4C9E-B1D2-BB8E73C5297A}" type="slidenum">
              <a:rPr b="0" lang="zh-CN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imation.yihui.name/" TargetMode="External"/><Relationship Id="rId2" Type="http://schemas.openxmlformats.org/officeDocument/2006/relationships/hyperlink" Target="http://animation.yihui.name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Georgia"/>
              </a:rPr>
              <a:t>统计动画程序包</a:t>
            </a:r>
            <a:r>
              <a:rPr b="0" lang="zh-CN" sz="4000" spc="-1" strike="noStrike">
                <a:solidFill>
                  <a:srgbClr val="e3ebf1"/>
                </a:solidFill>
                <a:latin typeface="Georgia"/>
              </a:rPr>
              <a:t>animation</a:t>
            </a:r>
            <a:r>
              <a:rPr b="0" lang="zh-CN" sz="4000" spc="-1" strike="noStrike">
                <a:solidFill>
                  <a:srgbClr val="e3ebf1"/>
                </a:solidFill>
                <a:latin typeface="Georgia"/>
              </a:rPr>
              <a:t>介绍及其在教学和数据分析中的应用 </a:t>
            </a:r>
            <a:endParaRPr b="0" lang="en-US" sz="40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谢益辉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中国人民大学统计学院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笨鸟如何起跑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一个微不足道的例子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x = seq(0, 100 * pi, length = 1000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plot(x, sin(x))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数据什么规律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for (i in 0:950) {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idx = (i + 1):(i + 50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plot(x[idx], sin(x[idx])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Sys.sleep(0.02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}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技术问题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原始人看电影的方式：用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生成图片帧，用其它技术去做动画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困难：让动画更“光滑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希望：好的想法（从统计到可视化）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Georgia"/>
                <a:hlinkClick r:id="rId1"/>
              </a:rPr>
              <a:t>http://</a:t>
            </a:r>
            <a:r>
              <a:rPr b="0" lang="zh-CN" sz="3200" spc="-1" strike="noStrike" u="sng">
                <a:solidFill>
                  <a:srgbClr val="66ccff"/>
                </a:solidFill>
                <a:uFillTx/>
                <a:latin typeface="Georgia"/>
                <a:hlinkClick r:id="rId2"/>
              </a:rPr>
              <a:t>animation.yihui.na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联系方式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graphicFrame>
        <p:nvGraphicFramePr>
          <p:cNvPr id="65" name="ShockwaveFlash1"/>
          <p:cNvGraphicFramePr/>
          <p:nvPr/>
        </p:nvGraphicFramePr>
        <p:xfrm>
          <a:off x="179280" y="3645000"/>
          <a:ext cx="889344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645000"/>
                    <a:ext cx="8893440" cy="2879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Contact 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nsolas"/>
              </a:rPr>
              <a:t>www.yihui.name (we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nsolas"/>
              </a:rPr>
              <a:t>xie yihui.name (ema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868400" y="2830680"/>
            <a:ext cx="19224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目录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笨鸟是否需要飞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数学、统计及艺术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网络、网页及计算机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笨鸟如何起跑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不是所有的鸟都会飞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鸵鸟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你会证明中心极限定理吗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你知道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CLT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的条件吗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你知道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CLT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的意义吗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N = 10000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就正态分布了吗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Georgia"/>
              </a:rPr>
              <a:t>你可以不会飞，但总得会点儿什么</a:t>
            </a:r>
            <a:endParaRPr b="0" lang="en-US" sz="40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飞机上，乌鸦对乘务员说：给爷来杯水！猪听后也学道：给爷也来杯水！乘务员把猪和乌鸦扔出机舱，乌鸦笑着对猪说：傻了吧？爷会飞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~~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！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给爷来个混合效应模型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数学、统计及艺术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关于眼睛不好的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Fish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关于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Tuke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集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Science &amp; Art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于一身的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数学、统计及艺术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让他们推公式吧，反正我是做动画的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8197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网络、网页及计算机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HTML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是什么？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JavaScript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是什么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Flash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是什么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GIF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是什么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动画是什么？（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Google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一下“原始人看电影”）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网络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==QQ+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校内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+……</a:t>
            </a: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eorgia"/>
              </a:rPr>
              <a:t>建议年龄比吴老师小的人学习一下基本的网络和网页知识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笨鸟如何起跑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大数定理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library(animation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ani.options(interval = 0.01, nmax = 150)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lln.ani(pch = ".")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Georgia"/>
              </a:rPr>
              <a:t>笨鸟如何起跑</a:t>
            </a:r>
            <a:endParaRPr b="0" lang="en-US" sz="4400" spc="-1" strike="noStrike">
              <a:solidFill>
                <a:srgbClr val="e3ebf1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中心极限定理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ani.options(interval = 0.1, nmax = 150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par(mar = c(3, 3, 1, 0.5)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onsolas"/>
              </a:rPr>
              <a:t>clt.ani(type = "s"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4:57:52Z</dcterms:created>
  <dc:creator>Yihui Xie</dc:creator>
  <dc:description/>
  <dc:language>en-US</dc:language>
  <cp:lastModifiedBy>Yihui Xie</cp:lastModifiedBy>
  <dcterms:modified xsi:type="dcterms:W3CDTF">2008-12-17T12:26:55Z</dcterms:modified>
  <cp:revision>5</cp:revision>
  <dc:subject/>
  <dc:title>统计动画程序包animation介绍及其在教学和数据分析中的应用 </dc:title>
</cp:coreProperties>
</file>