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92C-461D-4CFC-9C06-0AFC8969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7F6-B0F6-4405-B070-C89D3C57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87A-6B39-4520-84DD-2D81336C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7C3-0A0B-4613-91AA-EABD7382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5097-6DCC-48EC-8950-F45A9A53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4B89-875A-49C3-A370-66DE08C7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CA52-2705-4911-B760-85271067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1D94-84E2-4670-905F-F124B2D4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07C7-8A67-4BE4-9943-3F1B9C15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A4E4-F8FA-4D87-82E9-39A901C8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5E72-6422-47D4-9A3B-F151864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536-43CC-43DD-A662-9057848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30CE-5F1C-4DE6-918D-F44A2DA1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C7FA-7C9B-467D-A11C-222902E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628B-4205-41D2-9118-29F905D6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90C6-50DF-4ABC-80B8-9CBD2BEF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753E-F484-415D-B675-B5DA18A6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06E0-7C11-4B33-A8C6-EAFD2570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5C39-555C-4074-A701-B603D753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9DC8-F2CA-4E13-AC97-44AE4646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49EB-6E3D-4399-9665-30D72CA0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97F2-4462-4450-B35A-083CB585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D93-1EE6-4ED9-9DC6-0AE5FA7D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2DF9-3B47-42E6-8719-F2B676A2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1A73-53DA-4409-9E36-3B9F83C6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8C67-7E15-42A2-88D2-D3C37911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E84D-734A-4A87-A403-88E8068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FD0F8-0BAD-475E-AFCA-0EE373D6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3B3B-B680-4960-83D2-66415356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2FBE-E3CC-4DA8-A92E-69D35190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3F9-7189-4FDF-9D02-33566EC2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A5F-905B-4946-A2A7-8B6D0E24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A78-7F3B-4607-A4BA-99F29BED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253-44C5-4761-98A3-6C62C87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B98-4C8F-4D2A-AABB-04192ABA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464-6F4C-432F-BB6D-20B5C957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04D3-5096-4DAA-A956-2AF67410AD9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83D-51EA-4367-A88D-79451FD3E94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A9FB-7A1D-4C7D-B7E4-3CE89667CD1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0570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测控系统微处理器应用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课程设计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3626640" y="5486400"/>
            <a:ext cx="173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-1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1709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设任务书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必做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%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选做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%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219320"/>
            <a:ext cx="8442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必做项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基本系统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设计一个单片机系统，完成原理图设计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设计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加工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子元器件焊接、调试、程序下载，并实现数码管显示、矩阵键盘扫描、中断程序、定时器程序、串口通讯等基本功能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显示功能：焊接电路并实现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液晶屏的显示功能，要求能滚动显示字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数据采集：焊接电路并实现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D08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数据采集功能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考武汉理工大学课设设计规范，完成设计说明书的撰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设计要求参考文献不少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篇，其中不能全部是书，要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篇论文。应该在说明书中标注引用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419720" y="4876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280" y="549000"/>
            <a:ext cx="828036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做项目（以下任选一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智能电子钟：设计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的智能电子钟，功能包括设置时间、计时、闰年自动判别、定时、秒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温度测量控制系统：设计一个恒温箱，能够根据用户设定的温度来智能控制加热系统，使温度保持恒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空气质量监测：实现对室外空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M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浓度测量，要求能够实时读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M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数据计算浓度，并将结果显示在屏幕中，或者通过无线方式发送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中显示，或者超过设定值启动电机模拟开关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十字路口交通灯智能控制系统：能够模拟十字路口交通信号控制情况，红绿灯显示功能、时间倒计时功能、左右转提示、紧急情况下手动控制功能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穿戴式设备控制：对陀螺仪传感器的数据采集和处理，要求能根据采集到的数据计算出传感器加速度值，识别基本动作触发继电器开合，模拟启动外部设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4770360" y="3789360"/>
            <a:ext cx="114300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419720" y="4876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000" y="154080"/>
            <a:ext cx="894564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智能台灯：根据环境光强度自动调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亮度，通过光敏元器件采集环境亮度，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式控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亮度。定时自动开灯，设定开灯时间，到时间由暗逐渐变亮。通过门控检测夜晚有人回家时自动开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等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火灾在线探测：采集烟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异味传感器数据，并进行判断有无火情，继而控制继电器动作同时通过无线发送信息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网络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智能门锁：设计一个智能门锁系统，可以实现密码、指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脸、远程开锁等多种开锁模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智能窗帘：根据光强变化、夜晚休息、人离开等多种条件自动开闭窗帘。可以设计导轨及电机控制机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波形发生器：设计一个能产生正弦波、方波、三角波、梯形波、锯齿波的波形发生器，可以由用户来选择模式和设置参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 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竞赛抢答器：主持人控制抢答开始和清除，开始后扬声器发出短暂声响提示，显示器显示选手的编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电遥控器：实现对红外接收管和发射管的控制功能，要求能够学习遥控器的红外码，并能发射相应的编码，实现红外遥控器的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6000" y="154080"/>
            <a:ext cx="894564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单词记忆测试器：实现单词的录入（不少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），单词在屏幕上显示，用户按键选择认识或不认识，也可以直接进入上一个或下一个，背完后显示正确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息时间控制器：按照给定的时间模拟控制，实现广播、上下课打铃、灯光控制，同时具备日期和时钟显示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电子琴：利用所给键盘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键，能够发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不同的音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字音乐盒：最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乐曲，开机显示欢迎界面，能够选择乐曲、暂停、播放，显示歌曲序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步进电机：能够控制步进电机正反转，用户可以调整转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音乐喷泉：可以用指示灯模拟喷泉，指示灯的闪烁跟音乐频率而变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. G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交车自动报站器：实时显示公交车的位置，到站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排队叫号机：实现一个排队叫号系统，能够将用户分配到业务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口实现双机通信：实现两个单片机系统之间的通信，自行设计通信协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6000" y="154080"/>
            <a:ext cx="894564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智能电梯控制系统：实现两部电梯的最优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智能小车控制：能够控制小车到达用户设定的终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智能停车系统：自动分配车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箱水位自动控制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车速测量系统：测量小车运动的速度和轨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车辆闯红灯监控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容测量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阻、电流测量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子秤设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主选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设计要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须实物演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人一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时间安排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844640"/>
          <a:ext cx="8229600" cy="4532400"/>
        </p:xfrm>
        <a:graphic>
          <a:graphicData uri="http://schemas.openxmlformats.org/drawingml/2006/table">
            <a:tbl>
              <a:tblPr/>
              <a:tblGrid>
                <a:gridCol w="1019160"/>
                <a:gridCol w="4967280"/>
                <a:gridCol w="2243160"/>
              </a:tblGrid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序号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阶段内容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所用时间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师提前布置任务、学生选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查阅资料，分析关键问题，确定总体方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硬件电路设计及选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软件设计及仿真联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统焊接与调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人总结、成果评价与交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         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评分标准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1680" y="1752480"/>
            <a:ext cx="8540640" cy="42703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4" descr=""/>
          <p:cNvPicPr/>
          <p:nvPr/>
        </p:nvPicPr>
        <p:blipFill>
          <a:blip r:embed="rId2"/>
          <a:stretch/>
        </p:blipFill>
        <p:spPr>
          <a:xfrm>
            <a:off x="685800" y="1285920"/>
            <a:ext cx="8001000" cy="5459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7T01:08:18Z</dcterms:created>
  <dc:creator>Mou</dc:creator>
  <dc:description/>
  <cp:keywords/>
  <dc:language>en-US</dc:language>
  <cp:lastModifiedBy>Michael</cp:lastModifiedBy>
  <dcterms:modified xsi:type="dcterms:W3CDTF">2024-12-08T02:21:31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767A6DEFB6C4B89A98E1569AAC23E41</vt:lpwstr>
  </property>
  <property fmtid="{D5CDD505-2E9C-101B-9397-08002B2CF9AE}" pid="3" name="KSOProductBuildVer">
    <vt:lpwstr>2052-12.1.0.15990</vt:lpwstr>
  </property>
  <property fmtid="{D5CDD505-2E9C-101B-9397-08002B2CF9AE}" pid="4" name="Version">
    <vt:r8>1</vt:r8>
  </property>
</Properties>
</file>