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5EBB-B9DB-4C58-A968-7FC8D5F8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884C-AFC9-4F0F-AA3D-CE751BA6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E516-58C9-4D9D-BB21-E07978F5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D247-31EA-4432-AE5A-CED071B3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ECA-3ED0-4A02-81C3-F7626DFC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A40F-14B4-4537-89A1-C153100A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0FF-543B-4C77-BC25-BE93350D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1F7-21A9-4323-8DC9-C0130279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446-293F-479C-A767-EF08FF5F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8B6-4884-44AF-BA34-4BF79249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00D-664E-43E3-A330-CDD369C2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110-E875-412E-B449-C6AC3EA6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等线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D6ACAF-DE06-41F4-9C33-DEB9CDC8D989}" type="slidenum">
              <a:rPr b="0" lang="en-US" sz="1200" spc="-1" strike="noStrike">
                <a:solidFill>
                  <a:srgbClr val="8b8b8b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hello</a:t>
            </a:r>
            <a:endParaRPr b="0" lang="en-US" sz="6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</Words>
  <Paragraphs>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21T03:00:04Z</dcterms:created>
  <dc:creator>飞跃 任</dc:creator>
  <dc:description/>
  <dc:language>en-US</dc:language>
  <cp:lastModifiedBy>飞跃 任</cp:lastModifiedBy>
  <dcterms:modified xsi:type="dcterms:W3CDTF">2024-11-21T03:01:0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</vt:r8>
  </property>
</Properties>
</file>